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gif" ContentType="image/gif"/>
  <Override PartName="/ppt/media/image8.gif" ContentType="image/gif"/>
  <Override PartName="/ppt/media/image18.jpeg" ContentType="image/jpeg"/>
  <Override PartName="/ppt/media/image12.jpeg" ContentType="image/jpeg"/>
  <Override PartName="/ppt/media/image11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CEC76-913D-49D1-85E8-8CEE6248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27C2C-F393-444F-9CB7-22FD79BE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26508-F0DE-485A-AD13-4FC765F33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CDBA2-F265-4CBF-84F0-95969D74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2AF5-01BE-4D82-BAFD-07D73E21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04A6-4B0F-4E67-A60A-6C4DDB53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D1B0-358D-4A21-A019-92E42ACA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74A7-813C-470A-A5C7-08774C55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5C8F-319D-47BA-BB19-DC908DCF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38FF-8281-4A6D-950D-49FB9B20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B74F-2EF0-4BB7-97FE-48B83DA7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A7667-1BCF-4991-BC71-C235E059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1C94-EA33-450D-B4EF-8A36C4D3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43A3-F1D0-4686-87B1-C1F3CB77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5105-F74C-4D96-AC45-A8791159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707D-7313-4247-A70D-8716379E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336B-9483-45E3-AFCB-F211279E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6A4E2-4B32-4F3B-A03B-2911AE65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D90EF-DE87-4796-AEBE-4704E9DB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BDE6C-9D20-48C4-880F-A842A62A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AB611-30C7-4231-A969-C56F18CC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AB6A3-FDD3-4D47-B823-4F3A1D81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61817-2BB4-44FC-9335-6AFB3C59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E9514-9807-4006-BDA0-E116F344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00"/>
            </a:gs>
            <a:gs pos="100000">
              <a:srgbClr val="33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2b2b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2626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2323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1e1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1717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0f0f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101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1b1b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2020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2020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2323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1818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1d1d00"/>
                </a:gs>
                <a:gs pos="100000">
                  <a:srgbClr val="33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1e1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1e1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1e1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1e1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2121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2121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2121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1e1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1b1b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1a1a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121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323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2121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121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121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2121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2323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2626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323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121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323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2323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2121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2323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323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323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2323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1e1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1e1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2323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2626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2626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2626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828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828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828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8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828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8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2929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929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929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b2b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b2b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2828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2828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626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2323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2929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2929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2929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2929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2b2b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2929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2929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2929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2929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2c2c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2c2c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2c2c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2626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2626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2929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2929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2929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2929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2121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2121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2323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2626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2828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2828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2929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2929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2b2b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2b2b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2929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2c2c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2121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2121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2121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2626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2929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2b2b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2b2b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2323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2828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2828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2929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2c2c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2828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2929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2b2b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2c2c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2c2c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2b2b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2c2c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2c2c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2c2c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2b2b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2828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2626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2626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8a8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8a8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363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363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8a8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8a8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363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a8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8a8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363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a8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a8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8a8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8a8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a8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a8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2323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626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363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50A3-79E3-4328-B041-2170F942A20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00"/>
            </a:gs>
            <a:gs pos="100000">
              <a:srgbClr val="33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2b2b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2626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2323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1e1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1717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0f0f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101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1b1b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2020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2020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2323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1818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1d1d00"/>
                </a:gs>
                <a:gs pos="100000">
                  <a:srgbClr val="33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1e1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1e1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1e1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1e1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2121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2121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2121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1e1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1b1b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1a1a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121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323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2121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121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121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2121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2323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2626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323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121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323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2323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2121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2323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323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323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2323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1e1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1e1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2323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2626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2626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2626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828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828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828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8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828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8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2929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929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929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b2b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b2b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2828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2828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626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2323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2929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2929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2929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2929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2b2b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2929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2929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2929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2929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2c2c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2c2c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2c2c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2626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2626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2929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2929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2929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2929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2121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2121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2323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2626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2828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2828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2929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2929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2b2b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2b2b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2929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2c2c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2121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2121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2121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2626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2929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2b2b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2b2b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2323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2828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2828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2929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2c2c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2828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2929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2b2b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2c2c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2c2c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2b2b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2c2c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2c2c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2c2c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2b2b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2828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2626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2626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1b1b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1b1b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1313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1313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1b1b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1b1b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1313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1b1b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1b1b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1313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1b1b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1b1b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1b1b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1b1b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1b1b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1d1d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1d1d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1b1b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2323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626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131300"/>
                </a:gs>
                <a:gs pos="100000">
                  <a:srgbClr val="33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0A11-E66A-4EBC-A037-1BD82E4EB9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479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47900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00"/>
            </a:gs>
            <a:gs pos="100000">
              <a:srgbClr val="33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2061360" y="2844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Урок №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166880" y="3024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644364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Новейша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75104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0" y="0"/>
            <a:ext cx="8588520" cy="6858000"/>
            <a:chOff x="0" y="0"/>
            <a:chExt cx="8588520" cy="6858000"/>
          </a:xfrm>
        </p:grpSpPr>
        <p:grpSp>
          <p:nvGrpSpPr>
            <p:cNvPr id="519" name=""/>
            <p:cNvGrpSpPr/>
            <p:nvPr/>
          </p:nvGrpSpPr>
          <p:grpSpPr>
            <a:xfrm>
              <a:off x="0" y="0"/>
              <a:ext cx="8588520" cy="6858000"/>
              <a:chOff x="0" y="0"/>
              <a:chExt cx="8588520" cy="6858000"/>
            </a:xfrm>
          </p:grpSpPr>
          <p:pic>
            <p:nvPicPr>
              <p:cNvPr id="52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35252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162920" y="3276720"/>
                <a:ext cx="1425600" cy="2233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22" name="" descr=""/>
            <p:cNvPicPr/>
            <p:nvPr/>
          </p:nvPicPr>
          <p:blipFill>
            <a:blip r:embed="rId3"/>
            <a:stretch/>
          </p:blipFill>
          <p:spPr>
            <a:xfrm>
              <a:off x="1716120" y="1736640"/>
              <a:ext cx="2049480" cy="232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3" name=""/>
          <p:cNvSpPr txBox="1"/>
          <p:nvPr/>
        </p:nvSpPr>
        <p:spPr>
          <a:xfrm>
            <a:off x="3726000" y="2187720"/>
            <a:ext cx="3589200" cy="21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3240">
                  <a:solidFill>
                    <a:srgbClr val="ffcc66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50000">
                      <a:srgbClr val="663012"/>
                    </a:gs>
                    <a:gs pos="100000">
                      <a:srgbClr val="d6b19c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98793c"/>
                  </a:outerShdw>
                </a:effectLst>
                <a:latin typeface="Times New Roman"/>
              </a:rPr>
              <a:t>Авторитарные </a:t>
            </a:r>
            <a:endParaRPr b="0" lang="en-US" sz="2400" spc="1" strike="noStrike">
              <a:ln cap="sq" w="3240">
                <a:solidFill>
                  <a:srgbClr val="ffcc66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50000">
                    <a:srgbClr val="663012"/>
                  </a:gs>
                  <a:gs pos="100000">
                    <a:srgbClr val="d6b19c"/>
                  </a:gs>
                </a:gsLst>
                <a:lin ang="10800000"/>
              </a:gradFill>
              <a:effectLst>
                <a:outerShdw dist="17819" dir="2700000" blurRad="0" rotWithShape="0">
                  <a:srgbClr val="98793c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3240">
                  <a:solidFill>
                    <a:srgbClr val="ffcc66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50000">
                      <a:srgbClr val="663012"/>
                    </a:gs>
                    <a:gs pos="100000">
                      <a:srgbClr val="d6b19c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98793c"/>
                  </a:outerShdw>
                </a:effectLst>
                <a:latin typeface="Times New Roman"/>
              </a:rPr>
              <a:t>режимы </a:t>
            </a:r>
            <a:endParaRPr b="0" lang="en-US" sz="2400" spc="1" strike="noStrike">
              <a:ln cap="sq" w="3240">
                <a:solidFill>
                  <a:srgbClr val="ffcc66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50000">
                    <a:srgbClr val="663012"/>
                  </a:gs>
                  <a:gs pos="100000">
                    <a:srgbClr val="d6b19c"/>
                  </a:gs>
                </a:gsLst>
                <a:lin ang="10800000"/>
              </a:gradFill>
              <a:effectLst>
                <a:outerShdw dist="17819" dir="2700000" blurRad="0" rotWithShape="0">
                  <a:srgbClr val="98793c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3240">
                  <a:solidFill>
                    <a:srgbClr val="ffcc66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50000">
                      <a:srgbClr val="663012"/>
                    </a:gs>
                    <a:gs pos="100000">
                      <a:srgbClr val="d6b19c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98793c"/>
                  </a:outerShdw>
                </a:effectLst>
                <a:latin typeface="Times New Roman"/>
              </a:rPr>
              <a:t>Европы.</a:t>
            </a:r>
            <a:endParaRPr b="0" lang="en-US" sz="2400" spc="1" strike="noStrike">
              <a:ln cap="sq" w="3240">
                <a:solidFill>
                  <a:srgbClr val="ffcc66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50000">
                    <a:srgbClr val="663012"/>
                  </a:gs>
                  <a:gs pos="100000">
                    <a:srgbClr val="d6b19c"/>
                  </a:gs>
                </a:gsLst>
                <a:lin ang="10800000"/>
              </a:gradFill>
              <a:effectLst>
                <a:outerShdw dist="17819" dir="2700000" blurRad="0" rotWithShape="0">
                  <a:srgbClr val="98793c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00"/>
            </a:gs>
            <a:gs pos="100000">
              <a:srgbClr val="33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4.Фашистское государство в Италии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952520" y="609480"/>
            <a:ext cx="4038840" cy="60962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ссолини приступил к созданию тоталитар-ного государства.,ос-нованном на принци-пе- «все в государст-ве,ничто вне государ-ств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уче возглавлял Боль-шой фашистский со-вет принимавший за-коны.Парламент стал совещательным орга-н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стране исчезла безра- ботица, досуг органи-зовывало общество «Деполаворо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250360" y="5915160"/>
            <a:ext cx="1704600" cy="82548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Велика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ройка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3"/>
          <a:stretch/>
        </p:blipFill>
        <p:spPr>
          <a:xfrm>
            <a:off x="1474920" y="692280"/>
            <a:ext cx="3384360" cy="2698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67" name="" descr=""/>
          <p:cNvPicPr/>
          <p:nvPr/>
        </p:nvPicPr>
        <p:blipFill>
          <a:blip r:embed="rId4"/>
          <a:stretch/>
        </p:blipFill>
        <p:spPr>
          <a:xfrm>
            <a:off x="1474920" y="3305160"/>
            <a:ext cx="3384360" cy="2571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00"/>
            </a:gs>
            <a:gs pos="100000">
              <a:srgbClr val="33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4952520" y="549360"/>
            <a:ext cx="4038840" cy="6248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 итальянцы должны были исповедывать идеологию фашизма. Его противники отп-равлялись в тюрьмы, но массового террора не бы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ашистам не подчиня-лась лишь церковь.В 1929 г. Папа признал Итальянское короле-вство в обмен на соз-дание Ватика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ходе Великого кризи-са Муссолини пере-шел к государствен-ному регулированию  экономики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4.Фашистское государство в Италии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589040" y="5405400"/>
            <a:ext cx="3151080" cy="119124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Муссолини всег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в.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акат н.30-х г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3"/>
          <a:stretch/>
        </p:blipFill>
        <p:spPr>
          <a:xfrm>
            <a:off x="1638360" y="765000"/>
            <a:ext cx="3004920" cy="4442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00"/>
            </a:gs>
            <a:gs pos="100000">
              <a:srgbClr val="33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5.Начало борьбы с фашизмом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476360" y="3573000"/>
            <a:ext cx="7515360" cy="3132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тальянский фашизм привлек внимание пред-принимателей в других странах, считавших что, с его помощью можно легко справиться с  рабочим движе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 1933 г.вАвстрии премьер-министр Э.Доль-фус попытался создать диктаторский ре-жим.В 1934 г.левые подняли восстание, но потерпели пораж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298160" y="1666800"/>
            <a:ext cx="3166200" cy="82548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лодые фашис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Австр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3"/>
          <a:stretch/>
        </p:blipFill>
        <p:spPr>
          <a:xfrm>
            <a:off x="4648320" y="687240"/>
            <a:ext cx="4248000" cy="2802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00"/>
            </a:gs>
            <a:gs pos="100000">
              <a:srgbClr val="33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5.Начало борьбы с фашизмом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219640" y="620280"/>
            <a:ext cx="3772080" cy="6085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 Франции в н.30-х гг правые хотели соз-дать диктаторский режим,но фашистс-ких идей не разделя ли.Левые вели друг с другом острую идейную борьбу.Но когда в феврале 1934 г. фашисты по-пытались захватить парламент, комму-нисты,социалисты и либералы объеди-нились и создали Народный фронт не допустивший фаши-стов к вла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860840" y="5699160"/>
            <a:ext cx="2887200" cy="82548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Лицо фашизма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акат сер.30-хг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3"/>
          <a:stretch/>
        </p:blipFill>
        <p:spPr>
          <a:xfrm>
            <a:off x="1476360" y="765000"/>
            <a:ext cx="3559320" cy="47563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00"/>
            </a:gs>
            <a:gs pos="100000">
              <a:srgbClr val="33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467840" cy="76212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лан урока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523880" y="1828800"/>
            <a:ext cx="7467840" cy="40384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Формирование тоталитарных режим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Муссолини и идеи фашиз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Создание фашистского режи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.Фашистское государство в Итал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.Начало борьбы с фашизм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3"/>
          <a:stretch/>
        </p:blipFill>
        <p:spPr>
          <a:xfrm>
            <a:off x="76320" y="5562720"/>
            <a:ext cx="1295280" cy="102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00"/>
            </a:gs>
            <a:gs pos="100000">
              <a:srgbClr val="33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467840" cy="76212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Задание на урок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467840" cy="53341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чему фашизм оказался привлекательным для населения Итали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Какая опасность таилась в фашистской идеологи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3"/>
          <a:stretch/>
        </p:blipFill>
        <p:spPr>
          <a:xfrm>
            <a:off x="0" y="5105520"/>
            <a:ext cx="12463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00"/>
            </a:gs>
            <a:gs pos="100000">
              <a:srgbClr val="33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4952520" y="549360"/>
            <a:ext cx="4038840" cy="6248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раны Восточной Евро пы вступили на путь развития капитализма  позже Аншлии США и Франции.Необходимость догонять привела к «перегреву»экономи ки и установлению ав торитарных режим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1923  г. против воен-ных в Болгарии выс-тупили демократы, а затем коммунисты,но оба восстания были подавле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1923 г. произошел пе-реворот в Испании ра бочие недовольные парламентом не под-держали 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92504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.Формирование тоталитарных режимов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905480" y="5113440"/>
            <a:ext cx="2412000" cy="155700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лгар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портрета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аря Бориса 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итле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1736640" y="765000"/>
            <a:ext cx="2764080" cy="4203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00"/>
            </a:gs>
            <a:gs pos="100000">
              <a:srgbClr val="33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92504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.Формирование тоталитарных режимов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952520" y="609480"/>
            <a:ext cx="4038840" cy="60962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1926 г. маршал Пилсу- дский в Польше осу-ществил переворот и объявил «санацию» экономи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президентских выбо-рах победил его став-ленник-И.Мосцицкий, но кроме стабилиза-ции валюты военные ничего не добили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сер. 30-х гг в европе осталось только одно демократическое го-сударство-Евро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428120" y="5084640"/>
            <a:ext cx="3465000" cy="119124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вторитарные 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ашистские режим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вроп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3"/>
          <a:stretch/>
        </p:blipFill>
        <p:spPr>
          <a:xfrm>
            <a:off x="1476360" y="1413000"/>
            <a:ext cx="3311640" cy="2935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00"/>
            </a:gs>
            <a:gs pos="100000">
              <a:srgbClr val="33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2.Муссолини и идеи фашизма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952520" y="609480"/>
            <a:ext cx="4038840" cy="60962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ссолини род.в 1883 г. В юности увлекался марксистскими взгля-дами и вступил в со-циалистическую пар-тию. Во время войны он выступил за присо единение к Антан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ле войны Муссоли-ни посчитал,что Ита-лию обманули.Он при звал объединиться вокруг вождя(дуче). Его сторонники  объе-динялись в союзы (фаш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518480" y="5661000"/>
            <a:ext cx="3292560" cy="82548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мопредстав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ашиз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1476360" y="1125360"/>
            <a:ext cx="3309840" cy="4083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00"/>
            </a:gs>
            <a:gs pos="100000">
              <a:srgbClr val="33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2.Муссолини и идеи фашизма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52520" y="609480"/>
            <a:ext cx="4038840" cy="60962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ашизм строился на подчинении личности государству.Противо-речия в обществе пре длагалось ликвидиро вать.Профсоюзы дол жны самораспустить-ся,а рабочие и буржуа объединиться в кор-пор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евой силой фашис -тов стали черноруба-шечники.В 1921 г.Мус-солини пригласили в Национальный блок, получивший в парла-менте 32 места.В 1922 г. чернорубашечники разогнали антифаши-стские пик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662480" y="5373720"/>
            <a:ext cx="2869200" cy="119124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Враги Италии н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бедят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акат 1920-х г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3"/>
          <a:stretch/>
        </p:blipFill>
        <p:spPr>
          <a:xfrm>
            <a:off x="1763640" y="754200"/>
            <a:ext cx="2724120" cy="4475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00"/>
            </a:gs>
            <a:gs pos="100000">
              <a:srgbClr val="33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4573440" y="695160"/>
            <a:ext cx="4319640" cy="28749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3.Создание фашистского режима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476360" y="3573000"/>
            <a:ext cx="7515360" cy="313236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1922 г.Муссолини объявил поход на Рим и ко роль Виктор Эммануил поручил ему сфор-мировать правительство.Фашисты денацио-нализировали убыточные отрасли подавили забастовочное движение,создали Большой Фашистский совет и Национальную мили-цию.В 1924 г.фашисты одержали победу на выборах но подверглись резкой критике оп- позиции.Вскоре по приказу Муссолини был убит депутат-социалист Д.Маттео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731600" y="1413000"/>
            <a:ext cx="2340360" cy="119124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ссолини 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лаве похо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Ри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00"/>
            </a:gs>
            <a:gs pos="100000">
              <a:srgbClr val="33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3.Создание фашистского режима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219640" y="620280"/>
            <a:ext cx="3772080" cy="6085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исты и комму-нисты покинули пар ламент.Но Муссоли-ни это не смутило и он в 1925 г. объявил «вторую волну фа-шизма».Остатки пар ламента присвоили себе законодатель-ные функции и вско ре чрезвычайными декретами  оппози-ция и профсоюзы были запрещены, а в стране созданы корпор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659240" y="5229360"/>
            <a:ext cx="3315600" cy="119124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льт Дуч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ссолини за рул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акто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3"/>
          <a:stretch/>
        </p:blipFill>
        <p:spPr>
          <a:xfrm>
            <a:off x="1644480" y="836640"/>
            <a:ext cx="3359160" cy="4160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0T09:36:38Z</dcterms:created>
  <dc:creator>Чернов Алексей</dc:creator>
  <dc:description/>
  <dc:language>en-US</dc:language>
  <cp:lastModifiedBy>Чернов Алексей</cp:lastModifiedBy>
  <dcterms:modified xsi:type="dcterms:W3CDTF">2002-08-21T14:39:35Z</dcterms:modified>
  <cp:revision>40</cp:revision>
  <dc:subject/>
  <dc:title>Слайд 1</dc:title>
</cp:coreProperties>
</file>