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C6C-B222-4CF1-86DE-E7092D64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B59-E49D-4F78-B8E1-C83BAFA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D4A-B993-421D-B9CA-A3822180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B62-EFB3-451A-BC1D-26F68364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99FD-5B91-4CFF-902A-341AA18D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742-24D7-433A-99E3-AEE99A6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CB25-6F1E-43E1-87F4-018D11E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3A9E-C455-4472-A283-325C5788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508-0D84-4422-9D93-163DE22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BB78-350B-402B-9E3D-2D88DF5F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BBD0-253F-4928-A718-EF73C82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600-9DA9-46A3-9437-81916F9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AF33-0689-40CA-AB47-00B9144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D199-EA55-40BB-A981-115F9D2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4A4A-A0EC-4FD0-B36F-116A5CEA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7E16-74E0-4FA5-97EE-91BF7982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11D3-ED80-4C32-A7FC-6830B6B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2EC-6F67-4FED-ACC8-A026BC4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0DF-3BFA-4345-B203-92A8C50B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F55-C8F3-4BA1-8A05-995952A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2E7-2E09-4D64-8945-5E7015C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509-4F8C-458B-95AF-3811EDA5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484-60FB-412D-8F60-5796AE2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2C6-CECF-4E3A-B322-155C299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DCE9-CB6C-42F5-8A80-52F92BDCEC27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5721-EEF5-4ECF-9D1B-604A51C58F9F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780000"/>
            <a:ext cx="76741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нглийская 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волюция 17 века.</a:t>
            </a:r>
            <a:endParaRPr b="1" i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336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12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декабре 1648 г. пол- ковник Прайд силой изгнал из парламен-та пресветериан. Вскоре палата лор-дов была ликвидиро-ван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январе 1649 года Дол гий парламент начал суд над королем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д давлением Кромве-ля, Карлу был выне-сен смертный приго-вор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8040" y="1557360"/>
            <a:ext cx="3316320" cy="4392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16080" y="601812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седание Долгого парламента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авюра 17 в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сле казни Кромвель обрушился на дигге-ров, которых считал самыми опасными противникам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жеральд Уинстенли, заявил, что люди д.б. равны не только по-литически, но и эко-номически.Он приз-вал своих сторонни-ков захватывать пус-тующие земли.Их убивали, бросали в тюрьм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462480" cy="4713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67080" y="6111720"/>
            <a:ext cx="31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ж.Уинстенли в тюрьме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ременная миниатюра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30 января 1649 г. Карл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был казнен. В марте Англия была провозг-лашена республикой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ромвель был послан в Ирландию, которую покорил «огнем и ме-чом», а затем он об-рушился на Шотлан-дию,считавшую сво-им королем Карла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 возвращении Кром-вель был встречен с триумфом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41360" y="1557360"/>
            <a:ext cx="3699000" cy="454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90160" y="6283440"/>
            <a:ext cx="22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знь Карл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523880"/>
            <a:ext cx="441936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1651. был издан «На-вигационный акт»-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овары могли достав-ляться в страну или на английских судах, или на судах стран, где они были произ-веден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результате началась война с Голландией, занимавшейся пос-реднической торгов-лей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1280" y="1773360"/>
            <a:ext cx="4572000" cy="4065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32280" y="598500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глийская республика 17 века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.Протекторат Кромвеля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7960" y="1143000"/>
            <a:ext cx="434340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653 г.Кромвель стал лордом протектором. В Англии была уста-новлена диктатура буржуазии и новых дворян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арламент отошел на второй план.В выбо-рах участвовали то-лько богатые,подско-чили цены, но были сняты цеховые огра-ничен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658г.Кромвель умер В 1660 г.в страну возвратился Карл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I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6160" y="1844640"/>
            <a:ext cx="4425840" cy="3828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97840" y="582300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ронация Карл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ременный рисунок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Начало революции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2.Гражданская война 1642-1648 годов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.Протекторат Кромвеля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глийскую буржуазную революцию называют незавершенной.</a:t>
            </a:r>
            <a:endParaRPr b="0" lang="en-US" sz="36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опробуйте доказать это. Для этого заполните таблицу:</a:t>
            </a:r>
            <a:endParaRPr b="0" lang="en-US" sz="3600" spc="-1" strike="noStrike">
              <a:solidFill>
                <a:srgbClr val="cbcbcb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81080" y="4568760"/>
          <a:ext cx="5410440" cy="18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68760"/>
                    <a:ext cx="541044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Начало революции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637 г. Карл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решил заменить в Шотлан-дии пресвитерианст-во на англиканство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Шотландии началось восстание.Карл, нуж-давшийся в деньгах, собрал в 1640 г. «Дол гий парламент»,кото-рый потребовал: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не распускать его,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распустить «Звездную палату» и «Высокую комиссию»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отменить монополии,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4545000" y="112536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не вводить произволь-ные налоги и пошли-ны,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суда над лордом Стаф-фордом, и архиепис-копом Ллойдом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 вскоре парламент раскололся-палата общин требовала от-мены епископов, а лорды выступили про тив этого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В это время в Ирлан-дии началось восста-ние против Англии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9800" y="1192320"/>
            <a:ext cx="3597480" cy="4829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101160" y="618804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н Дейк.Кар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ороль Англии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Начало революции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ля борьбы с ирландс-кими католиками на-чался сбор армии.Ее должен был возгла-вить король,но Дол-гий парламент боял-ся,что Карл может по-вернуть ее против своих врагов внутри стран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роль был отстранен от командования, а его прегрешения пе-речислялись в «Вели кой ремонстрации»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03680" y="5410080"/>
            <a:ext cx="454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седание Долгого парламент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7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44258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Гражданская война 1642-1648 годо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рл попытался арес-товать лидеров пар-ламента,но не смог,и вскоре бежал на се-вер страны собирать войск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йско короля состоя-ло из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кавалеров,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м противостоял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круг-логоловые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начале удача была на стороне короля,подо-шедшего к Лондону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2460600"/>
            <a:ext cx="44989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Гражданская война 1642-1648 годо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это время лидером наиболее решитель-ных парламентариев стал О.Кромвель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 началом войны он стал офицером и пре- вратил свой отряд в грозное подразделе-ние.Кавалерию Кром- веля закованную в латы прозвал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«железнобокими»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коре пришли первые побед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51080" cy="460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245880" y="6234120"/>
            <a:ext cx="40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ливер Кромвель.Медальон 17 в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Гражданская война 1642-1648 годо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523880"/>
            <a:ext cx="4419720" cy="51818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4 июня 1645 года у г. Нейсби Кромвель раз бил Карла и тот скры- лся в Шотланди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обнаруженных на по-ле боя документах Карл призывал мо-нархов Европы на-чать интервенцию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арламент решил рас-продать земли коро- ля и епископов,ввел в стране пресветери-анство.В 1646 г. Карл был арестован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06920" cy="4551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063800" y="609300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итва при Нейсби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Английская Республика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523880"/>
            <a:ext cx="44197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яд законов парламен-та дал широкие права богатым, а народ по-прежнему не имел, ни политических прав, ни земл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жон Лильберн возгла-вил левеллеров,счи-тавших,что все люди равны перед богом и требовавших всеоб-щего избирательного права.Пресветериане были готовы прими-риться с королем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1341360"/>
            <a:ext cx="3546360" cy="4702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6480" y="6200640"/>
            <a:ext cx="41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жон Лильберн. Гравюра 17 века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5-26T15:29:52Z</dcterms:modified>
  <cp:revision>171</cp:revision>
  <dc:subject/>
  <dc:title>Заголовок слайда отсутствует</dc:title>
</cp:coreProperties>
</file>