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340F-41EB-42EB-A928-A89F5050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DC5C-CE9E-49B1-ADAF-126FAC1D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8F7C-EE8F-45AD-BB1C-4AEC9955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36A2-F8E3-4A21-9B0F-EF6703BA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6CD8-25C9-4668-9EBE-1BBE9251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D323-974C-475F-A409-0F44C625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4CD7-10AF-4E92-92F9-A32DCB7F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AA94-DC46-4AB3-8ACC-1EFA4E24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4A89-C620-4877-B0D3-E89DA1CC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D38C-6284-4326-88D1-81124D83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4D88-954A-4D41-9CD5-41B5EBA5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5FA2-149A-4402-8D13-3DDEC287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A4EE-202C-4BBE-ABBE-77FF6E29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AF86-4499-4A98-B09A-5FA407E8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D20E-1BBF-4884-8175-72C7F7D1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59EF-4B4A-4A78-950A-E0102603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3621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3990-A32E-4759-BA0E-442D80A2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C034-719E-4670-841B-C168FD4A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D132-F046-471B-9822-337815DA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4174-8C76-4057-A5E6-4E6306BF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4917-CE99-4E68-9962-45D1BB8D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869-430D-4315-93B1-6137F553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3621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DF5D-1574-4728-B8D9-C1184AC6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3621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0BD2-6A39-4C20-BB37-0C7792F0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572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35000" y="1676520"/>
            <a:ext cx="8856720" cy="144360"/>
          </a:xfrm>
          <a:prstGeom prst="rect">
            <a:avLst/>
          </a:prstGeom>
          <a:solidFill>
            <a:srgbClr val="8381b3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1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3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73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447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1616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858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572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1286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398680" y="1617840"/>
            <a:ext cx="2732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6719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9415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2130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34844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7544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cbcbc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D45F-0E37-43CF-9326-366ED46836FD}" type="slidenum"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0" y="19684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4027320" y="1617840"/>
            <a:ext cx="2718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42991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45687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48402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51116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53816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56530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592452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6194520" y="1617840"/>
            <a:ext cx="27288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646740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67374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7008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7280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7550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78184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0899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36136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6313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 rot="1020000">
            <a:off x="6326280" y="1447560"/>
            <a:ext cx="2514600" cy="2590560"/>
          </a:xfrm>
          <a:custGeom>
            <a:avLst/>
            <a:gdLst>
              <a:gd name="textAreaLeft" fmla="*/ 573840 w 2514600"/>
              <a:gd name="textAreaRight" fmla="*/ 1940760 w 2514600"/>
              <a:gd name="textAreaTop" fmla="*/ 591120 h 2590560"/>
              <a:gd name="textAreaBottom" fmla="*/ 19994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8381b3"/>
          </a:solidFill>
          <a:ln cap="sq" w="12600">
            <a:solidFill>
              <a:srgbClr val="cbcbcb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 Black"/>
              </a:rPr>
              <a:t>ЖДЕМ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 Black"/>
              </a:rPr>
              <a:t> ВАС!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1981080"/>
            <a:ext cx="9142560" cy="1371600"/>
            <a:chOff x="0" y="1981080"/>
            <a:chExt cx="9142560" cy="1371600"/>
          </a:xfrm>
        </p:grpSpPr>
        <p:sp>
          <p:nvSpPr>
            <p:cNvPr id="79" name=""/>
            <p:cNvSpPr/>
            <p:nvPr/>
          </p:nvSpPr>
          <p:spPr>
            <a:xfrm>
              <a:off x="0" y="3124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2514600"/>
              <a:ext cx="8534160" cy="304920"/>
            </a:xfrm>
            <a:prstGeom prst="rect">
              <a:avLst/>
            </a:prstGeom>
            <a:solidFill>
              <a:srgbClr val="8381b3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63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158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256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51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46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544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39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34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832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927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022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20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5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310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981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3A08-3849-48F5-A34D-BC870DD81D66}" type="slidenum">
              <a:rPr b="0" lang="ru-RU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cbcbcb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8080" y="3780000"/>
            <a:ext cx="767412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овая наука</a:t>
            </a:r>
            <a:endParaRPr b="1" i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647640"/>
            <a:ext cx="150840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7 класс</a:t>
            </a:r>
            <a:endParaRPr b="1" lang="en-US" sz="2400" spc="1" strike="noStrike">
              <a:ln cap="sq" w="1908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715000" y="647640"/>
            <a:ext cx="317808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Новая История</a:t>
            </a:r>
            <a:endParaRPr b="1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43360" y="1371600"/>
            <a:ext cx="145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50000">
                      <a:srgbClr val="ffcc00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Arial"/>
              </a:rPr>
              <a:t>Урок 8</a:t>
            </a:r>
            <a:endParaRPr b="1" lang="en-US" sz="2400" spc="1" strike="noStrike">
              <a:ln cap="sq" w="1908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50000">
                    <a:srgbClr val="ffcc00"/>
                  </a:gs>
                  <a:gs pos="100000">
                    <a:srgbClr val="a50021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343400" y="1523880"/>
            <a:ext cx="4648320" cy="5105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Церковь напуганная дос-тижениями науки,под-вергла ученых,объяв-ленных слугами дья-вола,пыткам и жесто-чайшим преследова-ниям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Д.Бруно был сожжен на костре,а Г.Галилей вынужден был отречь-ся от своих взглядов. 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нквизиция вновь набра ла силу.По всей Евро-пе запылали костры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3.Наука и инквизиция.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22400" y="1579680"/>
            <a:ext cx="4162320" cy="5018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1118520" y="611352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ытка на дыбе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8240" y="1557360"/>
            <a:ext cx="4362480" cy="50785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47960" y="1523880"/>
            <a:ext cx="4343400" cy="5105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  этих   условиях лю-ди стремились найти спасение в порядке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Т.Мор,английский кан цлер написал книгу «Утопия»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На о.Утопия нет част-ной собственности, нет бедных и бога-тых,все жители тру-дятся,а отдыхают за-нимаясь наукой и ис-кусством.  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4.Социальные утопии.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1443240" y="6135840"/>
            <a:ext cx="1716840" cy="459720"/>
          </a:xfrm>
          <a:prstGeom prst="rect">
            <a:avLst/>
          </a:prstGeom>
          <a:solidFill>
            <a:srgbClr val="000000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мас Мор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4.Социальные утопии.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7960" y="2133360"/>
            <a:ext cx="3809880" cy="43196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Итальянский монах То-ммазо Компанелла, попавший в тюрьму за подготовку восста ния итальянцев про-тив испанского вла-дычества,написал книгу «Город Солн-ца»,где описал иде-альную общину.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  ней нет рабов, все жители работают, а во главе города сто-ит философ.</a:t>
            </a:r>
            <a:endParaRPr b="0" lang="en-US" sz="2000" spc="-1" strike="noStrike">
              <a:solidFill>
                <a:srgbClr val="cbcbcb"/>
              </a:solidFill>
              <a:latin typeface="Arial Black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3268440" cy="4319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Arial Black"/>
              </a:rPr>
              <a:t>План урока: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4419360"/>
          </a:xfrm>
          <a:prstGeom prst="rect">
            <a:avLst/>
          </a:prstGeom>
          <a:solidFill>
            <a:srgbClr val="336699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1. Гелиоцентрическая сис-тема. </a:t>
            </a:r>
            <a:endParaRPr b="0" lang="en-US" sz="40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2.Философские подходы к изучению Вселенной.</a:t>
            </a:r>
            <a:endParaRPr b="0" lang="en-US" sz="40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3.Наука и инквизиция.</a:t>
            </a:r>
            <a:endParaRPr b="0" lang="en-US" sz="40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4.Социальные утопии.</a:t>
            </a:r>
            <a:endParaRPr b="0" lang="en-US" sz="4000" spc="-1" strike="noStrike">
              <a:solidFill>
                <a:srgbClr val="cbcbcb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Arial Black"/>
              </a:rPr>
              <a:t>Задание на урок :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4572000"/>
          </a:xfrm>
          <a:prstGeom prst="rect">
            <a:avLst/>
          </a:prstGeom>
          <a:solidFill>
            <a:srgbClr val="336699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Докажите, что новые научные открытия нанесли удар по средневековому религиозному мировоззрению.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Ответ проиллюстрируйте фактами составив таблицу:</a:t>
            </a:r>
            <a:endParaRPr b="0" lang="en-US" sz="3200" spc="-1" strike="noStrike">
              <a:solidFill>
                <a:srgbClr val="cbcbcb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14400" y="5245200"/>
          <a:ext cx="7467480" cy="133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245200"/>
                    <a:ext cx="746748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343400" y="1523880"/>
            <a:ext cx="4648320" cy="5105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ногие века люди счита ли что, в центре все-ленной находится Зем ля, а вокруг нее враща ются Солнце и плане-ты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К.Птолемей создал мо-дель геоцентрической системы, и согласовал расчеты и реальное движение планет при-думав так называемые «энциклы»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1. Гелиоцентрическая система. 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105440" cy="35319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756360" y="5665680"/>
            <a:ext cx="276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ая система 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К.Птолемею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343400" y="1523880"/>
            <a:ext cx="4648320" cy="5105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В к. 16 в. датский принц Тихо Барге высказал догадку, что планеты враща-ются вокруг Солн-ца, но оно в свою очередь вращается вокруг Земли, кото-рая по-прежнему оставалась цент-ром Вселенной.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1. Гелиоцентрическая система. 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1291320" y="640080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ихо Барге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55640" y="1352520"/>
            <a:ext cx="2808360" cy="22892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958680" y="3716280"/>
            <a:ext cx="2401920" cy="2597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343400" y="1523880"/>
            <a:ext cx="4648320" cy="5105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В 1543 г. за несколь- ко дней до смерти автора вышла кни-га Н.Коперника «Об обращении небес-ных сфер».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Коперник математи-чески доказал, что Земля  и планеты вращаются вокруг Солнца. 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1. Гелиоцентрическая система. 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1152360" y="628956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.Коперник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12720" y="1368360"/>
            <a:ext cx="2951280" cy="24735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0" t="0" r="0" b="13895"/>
          <a:stretch/>
        </p:blipFill>
        <p:spPr>
          <a:xfrm>
            <a:off x="1042920" y="3933720"/>
            <a:ext cx="1955880" cy="2376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343400" y="1523880"/>
            <a:ext cx="4648320" cy="5105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Идеи Коперника раз-вили Д.Бруно и Г. Галилей.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Д.Бруно не только ут-верждал, что Земля не стоит на месте, но и высказал пред положение о беско-нечности Миров, по добных нашему, во Вселенной. </a:t>
            </a:r>
            <a:endParaRPr b="0" lang="en-US" sz="28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1. Гелиоцентрическая система. 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1263600" y="632448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.Галилей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43400" y="1523880"/>
            <a:ext cx="4648320" cy="5105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Г.Галилей доказал, что законы механи ки едины в прост-ранстве, и, следова тельно Земля и Не-бо едины.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Он использовал теле скоп для изучения планет и сделал несколько важных открытий.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2352960" cy="2395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285920" y="4005360"/>
            <a:ext cx="1579680" cy="22302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1593720"/>
            <a:ext cx="4051440" cy="49658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343400" y="1523880"/>
            <a:ext cx="4648320" cy="5105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Новые открытия постави ли под сомнение рели-гиозные представле-ния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Новые открытия следо-вали один за другим. Это позволило Ф.Бэко-ну утверждать что нау-ка должна дать чело-веку власть над приро-дой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Ф.Бекон выдвинул зна-менитый тезис: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-Знание-сила!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2.Философские подходы к изучению Вселенной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841680" y="6010200"/>
            <a:ext cx="26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ренсис Бекон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7840" y="1628640"/>
            <a:ext cx="4033800" cy="4897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343400" y="1523880"/>
            <a:ext cx="4648320" cy="5105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99"/>
              </a:gs>
              <a:gs pos="100000">
                <a:srgbClr val="003366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Другой подход к науке предложил Р.Декарт, утверждавший, что в основе знания лежит наше собственное мышление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«Мыслю,следовательно,существую!»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Декарт впервые предпо-ложил,что Солнечная система возникла в результате длительно-го саморазвития.</a:t>
            </a:r>
            <a:endParaRPr b="0" lang="en-US" sz="2400" spc="-1" strike="noStrike">
              <a:solidFill>
                <a:srgbClr val="cbcbcb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066680"/>
          </a:xfrm>
          <a:prstGeom prst="rect">
            <a:avLst/>
          </a:prstGeom>
          <a:gradFill rotWithShape="0">
            <a:gsLst>
              <a:gs pos="0">
                <a:srgbClr val="3c3b52"/>
              </a:gs>
              <a:gs pos="50000">
                <a:srgbClr val="8381b3"/>
              </a:gs>
              <a:gs pos="100000">
                <a:srgbClr val="3c3b52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2.Философские подходы к изучению Вселенной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1113480" y="60102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не Декарт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06:32:24Z</dcterms:created>
  <dc:creator>Чернов Алексей</dc:creator>
  <dc:description/>
  <dc:language>en-US</dc:language>
  <cp:lastModifiedBy>Чернов Алексей</cp:lastModifiedBy>
  <dcterms:modified xsi:type="dcterms:W3CDTF">2002-05-23T14:08:29Z</dcterms:modified>
  <cp:revision>94</cp:revision>
  <dc:subject/>
  <dc:title>Заголовок слайда отсутствует</dc:title>
</cp:coreProperties>
</file>