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74C-996B-4D93-BB2C-AF73D205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A6-971F-4E6C-B2D0-10A8EF5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2F7-A98C-4A8F-93DF-A87FE0F6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F71-B59A-4078-BEDF-CAEE9B1C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2CCF-E47C-4493-9096-3AD09EED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8A4-77D1-43A5-96BE-1384064C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4B0C-06AC-4991-8693-8712EB6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609-7617-44AA-94A4-483381C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7DA-693D-4BE5-9025-685C0EA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C57-5395-4BB4-B0C5-FB3628B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58E3-48AE-4AC5-8115-16F51AA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C08-ABAA-4033-9EE1-0DC23DF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9496-3762-4F67-9BA0-166DE0C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3959-0EB2-4D25-914B-B6467F5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67D9-91B2-4AB7-9576-378D5CCE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986-EB9D-4B02-990B-0A59E9BF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461-E98C-4673-AB9F-8594DFB2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DF9-8E09-4937-8753-CAC5489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5E0-5907-41C4-A8EC-9A6E86D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EB7-2719-44A0-A6D9-2326D2D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298-E3B6-4A7C-8253-15DBC165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343-5FB1-46A7-8CC9-C04B405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286-BA07-414F-9279-DA464DA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AA1-AD07-4C35-A21B-3B8936D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F639-73A5-449B-AD10-7EB4EA012E86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5230-CABD-4BFD-AC30-0A2067AD03C5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780000"/>
            <a:ext cx="76741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трреформация 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лигиозные войны.</a:t>
            </a:r>
            <a:endParaRPr b="1" i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336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7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Религиозные войны во Франц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енрих Наваррский вы-нужден был принять католичество,но вско ре бежал,и возгла-вил гугенотов на юг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85 г. католики соз-дал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Католическую лигу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во главе с Ги-зом.Генрих хотевший возгавить Лигу сам отдал приказ убить Гиза.Вскоре сторон- ники Гиза убили ко-рол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.о. В 1589 г. пресек-лась династия Валу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 инициативе Лиги в париж вошли испан-ские войска.Католи-ки и протестанты пе-ред внешней опасно-стью объединились и возвели на престол Генриха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V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н вновь перешел в католицизм заявив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Париж стоит мессы!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79600" y="6184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нрих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8000" y="1106640"/>
            <a:ext cx="43228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Религиозные войны во Франц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94 г. Генрих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V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во-шел в Париж. Вскоре он разбил испанско-го короля Филиппа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I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1598г. стремясь объе динить страну, Ген-рих издал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Нантский эдикт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атолицизм оставался государственной ре-лигией, но гугеноты могли свободно исп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ведовать кальв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изм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157560" cy="5181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1240" y="618480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нский эдикт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Предпосылки контрре-формации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2.Орден иезуитов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Причины религиозных войн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.Религиозные войны во Франции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Сравните Реформацию и контрреформацию.</a:t>
            </a:r>
            <a:endParaRPr b="0" lang="en-US" sz="36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В чем состояли различия между католиками и протестантами?</a:t>
            </a:r>
            <a:endParaRPr b="0" lang="en-US" sz="36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Ответ проиллюстрируйте фактами составив таблицу.</a:t>
            </a:r>
            <a:endParaRPr b="0" lang="en-US" sz="36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тив реформации выс тупила церковь, объя-вившая протестантов еретиками. Но сама церковь также нужда-лась в реформах.На-чалась контреформа-ц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апу поддержали импе-ратор Священной Рим- ской империи Карл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и южногерманские кня-зь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Предпосылки контрреформац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1447920"/>
            <a:ext cx="4648320" cy="5410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апа Павел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I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решил изу чить проблемы церкви  и на основании выво-дов комиссии начал свои реформы.Были открыты новые бого-словские факультеты, запрещен ряд книг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 1545 по 1563 год прошел Тридиентский собор осудивший Ре-формацию.Папа был объявлен авторитетом в делах Вер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1268280"/>
            <a:ext cx="4005360" cy="472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5600" y="5991120"/>
            <a:ext cx="30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диентский собор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атюра 17 век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3360" y="1484280"/>
            <a:ext cx="3591000" cy="5095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40 г. был учрежден орден иезуитов во гла- ве с И. Лойоло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рден не имел монасты-рей,монахи жили в ми-ру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рден установил желез-ную дисциплину-мо-нах мог совершить да-же грех,если ему при-казал сделать это ге-нерал,который и отве-чал за это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2.Орден иезуитов.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977760" y="598500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гнатий Лойола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лавная задача Ордена-воздействие на умы людей.Для этого мона-хи применяли все сре-дства, в том числе и интриг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езуиты действовали во многих странах и в к. 16 в. добрались даже до Кита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х деятельность помог-ла церкви найти свой путь на Земл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2.Орден иезуитов.</a:t>
            </a:r>
            <a:endParaRPr b="0" lang="en-US" sz="5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9920" y="1700280"/>
            <a:ext cx="4041720" cy="324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040" y="512136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па Римский принимает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.Лойолу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ременный рисунок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формация расколо-ла Европу.В течении 100 лет на ее терри-тории шли религиоз-ные войны-войны против нарушающих «божественный по-рядок»,который был разным у разных ве-рующих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львинисты видели его в достижении земного успех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3.Причины религиозных войн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1563840"/>
            <a:ext cx="4343400" cy="5105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ютеране-в строгом соблюдении канонов Вер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толики-в борьбе с врагами церкви и ее укреплени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е они были убежде-ны,что большинство людей погибнет, и спасутся только изб-ранные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ё это лишь подогре-вало страст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07880" y="1484280"/>
            <a:ext cx="3803760" cy="4681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2680" y="62118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лигиозная карта Европы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Религиозные войны во Франц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лигиозные войны на чались в Германии.В 1531 г. лютеране зак лючили соглашение. Карл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46 г. начал боевые действ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 в 1555 г. вынужден был подписать Аугс-бургский мир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1556 г. он отрекся от престола и империя была поделена меж-ду его детьми-Филип-пом и Фердинандо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 Франции противосто яние властей являв-шихся сторонниками католицизма и гуге-нотами привело к подписанию в 1562 г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эдикт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н разрешал гугенотам исповедовать кальви-низм, хотя и с огра-ничениями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 католики, и гугеноты были недовольны эдиктом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376280"/>
            <a:ext cx="4321440" cy="366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800" y="541512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тва католиков с гугенотами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вестный художник.Н.17 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8380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Религиозные войны во Франци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ежду ними началась война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вод к ней дал герцог Гиз напавший на мо-лившихся гугенотов в г.Васс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За 10 лет лидеры груп-пировок-Гиз и Антуан Бурбон погибли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имирение должно было состояться на свадьбе сестры коро-ля-Маргариты Валуа и сына А.Бурбона-Генриха Наваррского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92560" y="55897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рфоломеевская ночь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125360"/>
            <a:ext cx="4419720" cy="54864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 мать короля-Е.Меди-чи убедила его в том, что гугеноты готовят заговор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ночь на 24 августа 1572 г.по сигналу ко-локола католики наб-росились на приехав ших на свадьбу гуге-ното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 врем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Варфоломе-евской ноч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погибло несколько сотен че-ловек.Общее число жертв составило 30 тысяч гугенотов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4520" y="1484280"/>
            <a:ext cx="44262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5-22T14:34:39Z</dcterms:modified>
  <cp:revision>85</cp:revision>
  <dc:subject/>
  <dc:title>Заголовок слайда отсутствует</dc:title>
</cp:coreProperties>
</file>