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81C8-297C-4611-BBFD-E14C03079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3621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E1BE-42F2-450A-A13B-A38BD1F2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7559-1975-47EB-B6BF-6041FBF19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BE38-8749-460F-9C87-BE202E202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1E15-E63C-4EB8-A33D-F4ADF507C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10C3-3288-410F-9597-80B19F62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C478-694B-45BF-8FF3-F3B055F5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35A7-AE44-440C-BA75-E253F14C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AA79-E0F3-4318-9817-33B86568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018F-FA4F-4A14-952B-8DB939E4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5E16-F5C5-4E3D-B599-1D0789C8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4B13-60C0-418A-AFCF-C8EC67A5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848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3B46-2B8E-4985-8412-AE2322BB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9519-9977-4B6E-AEF5-6A04D2D5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85800" y="43621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5145-2A51-4CA7-A8C2-2B22B388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848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07E7-4968-4C26-A0F7-A25D6C73D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1380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4144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8580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1380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4144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C6E5-F461-4700-B3D6-EC7ED8B8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97D3-C01D-4CBB-A42A-968FA64A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A2D4-EDDA-403C-84A0-0817B633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AA82-78A5-4E04-96C7-ADAA5D4C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F594-93CA-4174-B2C7-C557D649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80C6-A1F5-4E50-9B40-9149675E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94B6-2018-4ABC-9F81-F69FC264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F75E-3246-4CE4-BB14-44934373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57280"/>
            <a:ext cx="9142560" cy="651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35000" y="1676520"/>
            <a:ext cx="8856720" cy="144360"/>
          </a:xfrm>
          <a:prstGeom prst="rect">
            <a:avLst/>
          </a:prstGeom>
          <a:solidFill>
            <a:srgbClr val="8381b3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318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0328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732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04472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316160" y="1617840"/>
            <a:ext cx="2696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858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8572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12868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398680" y="1617840"/>
            <a:ext cx="2732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671920" y="1617840"/>
            <a:ext cx="2696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94156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32130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348444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37544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0" y="6627960"/>
            <a:ext cx="9142560" cy="2286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cbcbcb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cbcbcb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bcbc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bcbc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8FCD-DC26-4A55-B9D6-8E5A5C20BB0A}" type="slidenum">
              <a:rPr b="0" lang="ru-RU" sz="1400" spc="-1" strike="noStrike">
                <a:solidFill>
                  <a:srgbClr val="cbcbc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0" y="1968480"/>
            <a:ext cx="9142560" cy="651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4027320" y="1617840"/>
            <a:ext cx="2718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4299120" y="1617840"/>
            <a:ext cx="2696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456876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48402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511164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53816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>
            <a:off x="56530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"/>
          <p:cNvSpPr/>
          <p:nvPr/>
        </p:nvSpPr>
        <p:spPr>
          <a:xfrm>
            <a:off x="592452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>
            <a:off x="6194520" y="1617840"/>
            <a:ext cx="27288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646740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67374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70088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728028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75502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78184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808992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836136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863136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 rot="1020000">
            <a:off x="6326280" y="1447560"/>
            <a:ext cx="2514600" cy="2590560"/>
          </a:xfrm>
          <a:custGeom>
            <a:avLst/>
            <a:gdLst>
              <a:gd name="textAreaLeft" fmla="*/ 573840 w 2514600"/>
              <a:gd name="textAreaRight" fmla="*/ 1940760 w 2514600"/>
              <a:gd name="textAreaTop" fmla="*/ 591120 h 2590560"/>
              <a:gd name="textAreaBottom" fmla="*/ 199944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8381b3"/>
          </a:solidFill>
          <a:ln cap="sq" w="12600">
            <a:solidFill>
              <a:srgbClr val="cbcbcb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 Black"/>
              </a:rPr>
              <a:t>ЖДЕМ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 Black"/>
              </a:rPr>
              <a:t> ВАС!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1981080"/>
            <a:ext cx="9142560" cy="1371600"/>
            <a:chOff x="0" y="1981080"/>
            <a:chExt cx="9142560" cy="1371600"/>
          </a:xfrm>
        </p:grpSpPr>
        <p:sp>
          <p:nvSpPr>
            <p:cNvPr id="79" name=""/>
            <p:cNvSpPr/>
            <p:nvPr/>
          </p:nvSpPr>
          <p:spPr>
            <a:xfrm>
              <a:off x="0" y="3124080"/>
              <a:ext cx="9142560" cy="228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4920" y="2514600"/>
              <a:ext cx="8534160" cy="304920"/>
            </a:xfrm>
            <a:prstGeom prst="rect">
              <a:avLst/>
            </a:prstGeom>
            <a:solidFill>
              <a:srgbClr val="8381b3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63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158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5256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351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446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544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639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34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832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927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022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20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215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310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981080"/>
              <a:ext cx="9142560" cy="228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0" y="6627960"/>
            <a:ext cx="9142560" cy="2286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bcbc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bcbc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E2C1-3F42-4F9B-974D-596906D955B8}" type="slidenum">
              <a:rPr b="0" lang="ru-RU" sz="1400" spc="-1" strike="noStrike">
                <a:solidFill>
                  <a:srgbClr val="cbcbc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cbcbcb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cbcbcb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cbcbcb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cbcbcb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cbcbcb"/>
              </a:buClr>
              <a:buFont typeface="Arial Blac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cbcbcb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cbcbcb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cbcbcb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8080" y="3780000"/>
            <a:ext cx="767412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Искусство эпохи </a:t>
            </a:r>
            <a:endParaRPr b="1" i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озрождения</a:t>
            </a:r>
            <a:endParaRPr b="1" i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647640"/>
            <a:ext cx="1508400" cy="5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908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7 класс</a:t>
            </a:r>
            <a:endParaRPr b="1" lang="en-US" sz="2400" spc="1" strike="noStrike">
              <a:ln cap="sq" w="1908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715000" y="647640"/>
            <a:ext cx="3178080" cy="5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Новая История</a:t>
            </a:r>
            <a:endParaRPr b="1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43360" y="1371600"/>
            <a:ext cx="1455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908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50000">
                      <a:srgbClr val="ffcc00"/>
                    </a:gs>
                    <a:gs pos="100000">
                      <a:srgbClr val="a50021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68686"/>
                  </a:outerShdw>
                </a:effectLst>
                <a:latin typeface="Arial"/>
              </a:rPr>
              <a:t>Урок 4</a:t>
            </a:r>
            <a:endParaRPr b="1" lang="en-US" sz="2400" spc="1" strike="noStrike">
              <a:ln cap="sq" w="1908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50000">
                    <a:srgbClr val="ffcc00"/>
                  </a:gs>
                  <a:gs pos="100000">
                    <a:srgbClr val="a50021"/>
                  </a:gs>
                </a:gsLst>
                <a:lin ang="5400000"/>
              </a:gradFill>
              <a:effectLst>
                <a:outerShdw dist="153753" dir="2700000" blurRad="0" rotWithShape="0">
                  <a:srgbClr val="868686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851280" y="1208160"/>
            <a:ext cx="4753080" cy="31575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28600" y="4419360"/>
            <a:ext cx="8763120" cy="23619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ероним Босх известен как автор стремивший -ся постичь мироздание, его картины сложны, загадочны и порой безобразны.Как и Дюрер, Босх предрекает катастрофу.Это достигается отсутствием композиции и соединением раз-личных объектов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76320" y="115560"/>
            <a:ext cx="8991360" cy="106668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7.Босх.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364680" y="2276640"/>
            <a:ext cx="3013920" cy="1191240"/>
          </a:xfrm>
          <a:prstGeom prst="rect">
            <a:avLst/>
          </a:prstGeom>
          <a:solidFill>
            <a:srgbClr val="ffffff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Босх.Сад земных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наслаждений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(центральная часть)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Arial Black"/>
              </a:rPr>
              <a:t>План урока: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8305920" cy="4419720"/>
          </a:xfrm>
          <a:prstGeom prst="rect">
            <a:avLst/>
          </a:prstGeom>
          <a:solidFill>
            <a:srgbClr val="336699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1.Тициан.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2.Леонардо да Винчи.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3. Рафаэль.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4.Микеланджело.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5.Северное Возрождение.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6.Дюрер.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7.Босх.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Arial Black"/>
              </a:rPr>
              <a:t>Задание на урок :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4572000"/>
          </a:xfrm>
          <a:prstGeom prst="rect">
            <a:avLst/>
          </a:prstGeom>
          <a:solidFill>
            <a:srgbClr val="336699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Что было общего в творчестве художников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Итальянского и Северного Возрождения и в что-различного?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Проиллюстрируйте ответ фактами, заполнив таблицу:</a:t>
            </a:r>
            <a:r>
              <a:rPr b="0" lang="ru-RU" sz="4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bcbcb"/>
              </a:solidFill>
              <a:latin typeface="Arial Black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762120" y="4626000"/>
          <a:ext cx="7772400" cy="177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626000"/>
                    <a:ext cx="7772400" cy="17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343400" y="1904760"/>
            <a:ext cx="4648320" cy="47242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Художников Возрожде-ния привлекало чело-веческое тело,красота для них была благом,а не грехом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Одним из первых стал изображать обнажен-ную натуру Тициан. 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Его картины на библей- ские сюжеты изобра-жают людей сильных духом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06668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1.Тициан.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623880" y="5943600"/>
            <a:ext cx="3062520" cy="459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Тициан.Вакханалия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79280" y="2373480"/>
            <a:ext cx="3961080" cy="31492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47960" y="1557360"/>
            <a:ext cx="4343400" cy="49528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Леонардо считал искус ство средством поз-нания мира.Изучая проблемы светотени, пространства,объе-ма и т.д.,он увлекся наукой,стал изобре-тателем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Его образы легко узна-ваемы-Джаконда,Ма-донна с младенцем, «Тайная вечеря» ста-ли хрестоматийными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152280" y="115560"/>
            <a:ext cx="8839440" cy="106668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2.Леонардо да Винчи.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11280" y="1268280"/>
            <a:ext cx="3341520" cy="45277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652680" y="5877000"/>
            <a:ext cx="3231720" cy="825480"/>
          </a:xfrm>
          <a:prstGeom prst="rect">
            <a:avLst/>
          </a:prstGeom>
          <a:solidFill>
            <a:srgbClr val="ffffff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Леонардо да Винчи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Мадонна с младенцем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06668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3. Рафаэль.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4495320"/>
            <a:ext cx="8839080" cy="2133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Рафаель вошел в историю как непревзойден-ный мастер изображения Мадонны.Самой знаменитой стала Сикстинская Мадонна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Новаторство Рафаэля проявтлось в его знаме-нитой фреске «Афинская школа»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652680" y="2276640"/>
            <a:ext cx="1821960" cy="1373760"/>
          </a:xfrm>
          <a:prstGeom prst="rect">
            <a:avLst/>
          </a:prstGeom>
          <a:solidFill>
            <a:srgbClr val="ffffff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Рафаэль.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Афинская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школа.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111480" y="1341360"/>
            <a:ext cx="5492880" cy="30956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52280" y="4190760"/>
            <a:ext cx="8839440" cy="24382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Микеланджело прославился прежде все-го как скульптор.Его «Давид» стал сим-волом искусства Возрождения.Но не меньшую славу художник получил как автор фресок в Сикстинской капелле.</a:t>
            </a:r>
            <a:endParaRPr b="0" lang="en-US" sz="28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06668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4.Микеланджело.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509040" y="1916280"/>
            <a:ext cx="2363040" cy="1557000"/>
          </a:xfrm>
          <a:prstGeom prst="rect">
            <a:avLst/>
          </a:prstGeom>
          <a:solidFill>
            <a:srgbClr val="ffffff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Микеланджело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Фрески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Секстинской 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Капеллы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419640" y="1353960"/>
            <a:ext cx="5400360" cy="28069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14120" y="4876920"/>
            <a:ext cx="891540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Вслед за Италией Возрождение началось на севере Европы.Их объединял инте-рес к человеку.Но на Севере не было античных традиций.</a:t>
            </a:r>
            <a:endParaRPr b="0" lang="en-US" sz="28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06668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5.Северное Возрождение.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599400" y="2133720"/>
            <a:ext cx="2777760" cy="1800360"/>
          </a:xfrm>
          <a:prstGeom prst="rect">
            <a:avLst/>
          </a:prstGeom>
          <a:solidFill>
            <a:srgbClr val="ffffff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Питер Брейгель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(старший).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Крестьянская 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свадьба.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4480" y="4876920"/>
            <a:ext cx="891540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Поэтому такой веры во всемогущество че-ловека у мастеров данной школы нет. В центре их внимания оказывается прос-той человек-горожанин,или крестьянин. 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480" y="4876920"/>
            <a:ext cx="8915400" cy="1828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Наиболее показательным в этом плане было творчество П.Брейгеля(Старшего). На его полотнах запечатлены сцены повседневной жизни.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995640" y="1339920"/>
            <a:ext cx="4681800" cy="35082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495680" y="1447560"/>
            <a:ext cx="4572000" cy="51051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Альбрехт Дюрер про-славился не толь-ко как живописец, но и как непрев-зойденный мастер гравюры.</a:t>
            </a:r>
            <a:endParaRPr b="0" lang="en-US" sz="28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Его полотна проник- нуты тревогой,они предрекают неиз-бежность страшно-го суда.</a:t>
            </a:r>
            <a:endParaRPr b="0" lang="en-US" sz="28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06668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6.Дюрер.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762480" y="6093000"/>
            <a:ext cx="2831040" cy="459720"/>
          </a:xfrm>
          <a:prstGeom prst="rect">
            <a:avLst/>
          </a:prstGeom>
          <a:solidFill>
            <a:srgbClr val="ffffff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Дюрер.Адам и Ева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46040" y="1413000"/>
            <a:ext cx="3478320" cy="44607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3T06:32:24Z</dcterms:created>
  <dc:creator>Чернов Алексей</dc:creator>
  <dc:description/>
  <dc:language>en-US</dc:language>
  <cp:lastModifiedBy>Чернов Алексей</cp:lastModifiedBy>
  <dcterms:modified xsi:type="dcterms:W3CDTF">2002-05-19T14:44:08Z</dcterms:modified>
  <cp:revision>37</cp:revision>
  <dc:subject/>
  <dc:title>Заголовок слайда отсутствует</dc:title>
</cp:coreProperties>
</file>