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432-16B6-4C88-AD72-C67B32EB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37C-C3A0-45AE-849F-3982D68D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B31-8FB2-423E-954B-DDC04D5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D2D-BE28-49E6-8F30-D53FD55A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7B26-DA3B-4BE4-A686-CD49F5D9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4D8-EBB5-44F6-884D-6435200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ACA-A5AD-43B6-8800-C471BA16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E33F-BF49-42E5-82BF-B4C18986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44B3-C4CA-48F5-AF96-384BBD8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FB13-F00B-4FF7-9794-B5E85555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E26-F57C-43D4-8C04-6FB86AB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00E-FA71-4286-B121-EBBC0E90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014C-4376-445B-BF0B-5BBBF3A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462B-3447-4445-A065-5F974957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D54E-47EB-4847-B2C6-AEE0437C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FFE1-9F56-4A0E-B929-2075DECB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581-F9CE-47C7-AC81-F4B9F1D7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BE5-7CD0-4F80-ADEC-3C3A813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FE0-7B6E-42B3-925A-731AB8F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39C-AAA5-4816-8615-34970091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A31-65EE-4DE9-B698-86D5E007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61C-80C0-440B-A1E9-295D0F1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8E0-D45D-4176-8E16-CF9CFF2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CAF-18CC-475A-9844-7707AE75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628-06A4-4C0A-839D-7FBEEA6C94E0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9E41-6CDC-4A57-A74C-B65BB6DE74A5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3809880"/>
            <a:ext cx="8429400" cy="21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к разума-век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свещения.</a:t>
            </a:r>
            <a:endParaRPr b="1" i="1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620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23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" y="76320"/>
            <a:ext cx="906300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4.Наука-новая ценность в жизни общества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620280"/>
            <a:ext cx="4500720" cy="6193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протестантских стра-нах религия сама ори ентировала человека на поиск истины.В ка-толической Франции появились атеисты, считавшие Бога вы-думкой невежествен-ных люде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.Гольбах,Ж.Ламеттри,Д.Дидро,К.Гельвеций стали исповедовать материалистические взгляды.Они считали что Вера исчезнет с разгадкой тайн при-роды.Священник Ж. Мелье в «Завещании» призвал прихожан отречься от религи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83360" y="58467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ьер Лаплас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 пол. 19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888840"/>
            <a:ext cx="4246560" cy="4845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5.Энциклопедисты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464000" cy="6086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 1751 по 1776 гг.во Франции издавалась «Энциклопедия».Она состояла из 35 томов и включала 60 000 статей посвященных всем сферам жизни обществ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е редакторами были Дени Дидро и Жан Д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Аламбер,а авторами статей стали Вольтер, Гольбах,Руссо,Тюрго и др. просветител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Энциклопедия» подве-рглась преследова-нию церкви, которая посчитала ее общест-венно опасно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46360" y="3789360"/>
            <a:ext cx="1854360" cy="29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790720" cy="2932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4840" y="46180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.Дидро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его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Энциклопедия»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.Научные открыт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920" y="3970080"/>
            <a:ext cx="9144000" cy="2771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казавшись от религиозных взглядов,просвети-тели попытались создать кдиную картину мира, положив в основу законы механики.Мир рассма тривался как «часовой мехенизм заведенный Творцом».Ученые искали взаимосвязь во всех явлениях жизни.Обобщая свои выводы,они отк-рывали законы природ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92640" y="685800"/>
            <a:ext cx="4600440" cy="32446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2200" y="2535120"/>
            <a:ext cx="40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мья,рассматривающая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дель солнечной систем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.Научные открыт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356000" y="907560"/>
            <a:ext cx="4678560" cy="5689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 в. Исаак Ньютон сформулировал Закон Всемирного тяготен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ьер Лаплас выдвинул идею саморазвития и изменяемости Вселен-ной.Он считал что Все-ленная возникла пу-тем самоуплотнения из газообразной ту-манност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ти взгляды оказали ре-волюционное воздейс-твие на мировоззре-ние людей и науку в цело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" y="60357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неллер. Исаак Ньютон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103640" cy="4916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.Научные открыт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00360" y="691920"/>
            <a:ext cx="4678200" cy="6049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.Лавуазье раскрыл за-гадку горения,Г. Лейб-ниц разработал тео-рию дифференциаль-ного исчисления и со-здал счетную машину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.Гюйгенс создал волно-вую теорию света. Б. Франклин,изучая ат-мосферное электри-чество изобрел громо-отвод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науке появились жен-щины-Д.Акселебен(до-ктор медицины) и Д. Шлецер(доктор фило-софии)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384840" y="599616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вид.Супруги Лавуазье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08320" cy="486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Век просвещения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Просвещенная элита 17-18 вв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.«Верхи» и «низы» в век Просвещения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Наука-новая ценность в жизни общества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5.Энциклопедисты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6.Научные открытия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00"/>
                </a:solidFill>
                <a:latin typeface="Times New Roman"/>
              </a:rPr>
              <a:t>Какие взгляды были характерны для Просветителей?</a:t>
            </a:r>
            <a:endParaRPr b="0" lang="en-US" sz="7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43920"/>
            <a:ext cx="8839440" cy="544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1.Век просвещен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4495680" cy="616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-18 вв. вера в бога оставалась очень си-льной, но на 1-й план стала выходить идея о могуществе челове-ческого разум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знание окружающе-го мира провозглаша-лось делом разума, науки и опыта.Носи-телей этих взглядов называют просветите-лями,а период к.17-к.18 вв.-веком Просве-щен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деи просвещения за-родились в Англии и скоро охватили всю Европу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9360" y="620640"/>
            <a:ext cx="3446280" cy="5029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522360" y="5697360"/>
            <a:ext cx="346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еплер разрешает спор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толемея и Коперник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8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5488200" cy="3318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Просвещенная элита 17-18 в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20" y="3860640"/>
            <a:ext cx="8991360" cy="292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муту 16-17 вв.просветители объясняли невежес-твом людей,особенно простолюдинов. Поэтому в европейском обществе произошел культур-ный раскол-на образованную элиту,и «темное» простонародь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-18 вв. растет интерес к науке.Мыслители и философы становятся знаменитыми личностя-ми,их очень часто приглашают в аристократи-ческие салон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-39960" y="2492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Дос и Дж.Рассел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лодые лорды в Риме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0" y="620640"/>
            <a:ext cx="4495680" cy="616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лита старалась проти-вопоставить себя «не-цивилизованному на-роду».Она искореня-ла «мужицкие мане-ры», стремилась к изысканности и утон-ченност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тикет стал отличитель-ной чертой благород-ного человека.Выс-шие слои общества стали уделять огром-ное внимание личной гигиен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о же время увлече-ние внешней сторо-ной приводило к появ-лению «бездуховнос-ти»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Просвещенная элита 17-18 в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98440" y="584676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.Гримм.Боже мой!Сынок!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икатура 2 пол.18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098960" cy="4994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3.«Верхи» и «низы» в век Просвещен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27640" y="620280"/>
            <a:ext cx="4572000" cy="6085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яд просветителей выс-тупал против просве-щения народа.Вольтер и Фридрих Великий высказывались за закрытие крестьянс-ких школ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о же время Гердер, Шиллер и Гете счита-ли народ носителем национальной культу-ры и прежде всего род ного язык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ультурные изменения в итоге затронули лишь просвещенную элиту обществ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86480" y="61135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мятник Гете и Шиллеру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1160" y="765000"/>
            <a:ext cx="3867120" cy="52516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3.«Верхи» и «низы» в век Просвещени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27640" y="620280"/>
            <a:ext cx="4487760" cy="6085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знание «низов» ос-тавалось религиоз-ны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светители критико-вали абсолютистс-кие порядки,церков-ное мракобесие схо-ластическое образо-вание.Вольтер, под-вергнув церковь кри-тике призвал: «Раз-давите гадину!» Он считал,что просвеще нный монарх должен править во благо об-ще-ства.Общества фи-лантропов в Англии вскрывали общест-венные пороки, защи-щали права люде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3000" y="692280"/>
            <a:ext cx="3968640" cy="5229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591560" y="611352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льтер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560" y="76320"/>
            <a:ext cx="906300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4.Наука-новая ценность в жизни общества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05080" y="763560"/>
            <a:ext cx="5003640" cy="5905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ченые-просветители счи- тали,что любую тайну природы человеческий разум способен разга-дать.На первый план вы-шли естественные нау-ки.И.Кант в то же время предостерегал,что чело-веческий разум ограни-чен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ченые просветители раз рывались между науч-ным и религиозным со-знаниями.И.Ньютон ви-дел задачу науки в пос-тижении замыслов Бога. В то же время П. Лаплас отрицал божественное начало в мироздани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50920" y="692280"/>
            <a:ext cx="3585960" cy="5184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744480" y="58467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мануил Кант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8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7-12T08:51:15Z</dcterms:modified>
  <cp:revision>266</cp:revision>
  <dc:subject/>
  <dc:title>Заголовок слайда отсутствует</dc:title>
</cp:coreProperties>
</file>