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35B-316C-4D29-8A9E-DA9AE358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B24-DAEB-45A7-B382-3A4102C0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A06-5210-4269-BE87-62569914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CCB3-608A-4997-BC7A-D3F9F278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621D-27F7-44F9-9964-7B8A64BB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CF10-F06A-4C4A-8AE9-EC3439EE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7333-12F9-4C83-9DCE-49CD632A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66B6-5FFD-491C-9E5B-BD7A131B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AF3F-3C38-4D94-8AC7-03A593F2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8868-6A46-4E1A-9801-81EF4851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A30E-47AF-4BDD-906B-C1BDC90D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950-5E0C-4002-ADDA-3C29457C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03A9-1320-4F3B-BB66-2CC24D78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AF6C-90AF-449E-B82E-9A6B1F7D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9FD3-7660-4505-9B8B-B25AC7A7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73DE-DC55-40E2-BDA7-7985B04E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D57E-A1F5-4D64-ADA2-30C51CC7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B9C3-37E9-4D93-9AFD-72F5E4C8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9FE-BB7D-493A-8ED6-7EA4CE81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4F8A-CA92-44B9-948D-E7359DB4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FCAE-29D6-4F32-97E0-DF37B841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0B3-70D7-4BD1-B074-D4145292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400A-4824-4353-8911-AEC64BBC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EC7-7095-4952-819D-899B7868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572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5000" y="1676520"/>
            <a:ext cx="8856720" cy="144360"/>
          </a:xfrm>
          <a:prstGeom prst="rect">
            <a:avLst/>
          </a:prstGeom>
          <a:solidFill>
            <a:srgbClr val="8381b3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1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3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3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447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1616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858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572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1286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398680" y="1617840"/>
            <a:ext cx="2732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6719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9415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2130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4844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7544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9359-5BD5-45ED-B0C6-CB00872014FC}" type="slidenum"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0" y="19684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4027320" y="1617840"/>
            <a:ext cx="2718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42991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45687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8402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51116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53816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56530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592452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6194520" y="1617840"/>
            <a:ext cx="27288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46740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67374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7008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7280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7550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78184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0899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6136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6313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 rot="1020000">
            <a:off x="6326280" y="1447560"/>
            <a:ext cx="2514600" cy="2590560"/>
          </a:xfrm>
          <a:custGeom>
            <a:avLst/>
            <a:gdLst>
              <a:gd name="textAreaLeft" fmla="*/ 573840 w 2514600"/>
              <a:gd name="textAreaRight" fmla="*/ 1940760 w 2514600"/>
              <a:gd name="textAreaTop" fmla="*/ 591120 h 2590560"/>
              <a:gd name="textAreaBottom" fmla="*/ 19994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8381b3"/>
          </a:solidFill>
          <a:ln cap="sq" w="12600">
            <a:solidFill>
              <a:srgbClr val="cbcbcb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ЖДЕМ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 ВАС!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1981080"/>
            <a:ext cx="9142560" cy="1371600"/>
            <a:chOff x="0" y="1981080"/>
            <a:chExt cx="9142560" cy="1371600"/>
          </a:xfrm>
        </p:grpSpPr>
        <p:sp>
          <p:nvSpPr>
            <p:cNvPr id="79" name=""/>
            <p:cNvSpPr/>
            <p:nvPr/>
          </p:nvSpPr>
          <p:spPr>
            <a:xfrm>
              <a:off x="0" y="3124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2514600"/>
              <a:ext cx="8534160" cy="30492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63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158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256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51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46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44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39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34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32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927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22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20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5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310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981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13A8-0320-4F67-AAC4-B3417B326BCE}" type="slidenum"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cbcbcb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920" y="3809880"/>
            <a:ext cx="8429400" cy="214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олониальные </a:t>
            </a:r>
            <a:endParaRPr b="1" i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йны 17-18 веков</a:t>
            </a:r>
            <a:endParaRPr b="1" i="1" lang="en-US" sz="4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647640"/>
            <a:ext cx="150840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7 класс</a:t>
            </a:r>
            <a:endParaRPr b="1" lang="en-US" sz="2400" spc="1" strike="noStrike">
              <a:ln cap="sq" w="1908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715000" y="647640"/>
            <a:ext cx="317808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Новая История</a:t>
            </a:r>
            <a:endParaRPr b="1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6200" y="1371600"/>
            <a:ext cx="145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50000">
                      <a:srgbClr val="ffcc00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Arial"/>
              </a:rPr>
              <a:t>Урок 22</a:t>
            </a:r>
            <a:endParaRPr b="1" lang="en-US" sz="2400" spc="1" strike="noStrike">
              <a:ln cap="sq" w="1908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50000">
                    <a:srgbClr val="ffcc00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54432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4.Работорговля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49320" y="907920"/>
            <a:ext cx="4343400" cy="5616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17-18 вв. работоргов-ля перешла к англи-чанам и голландцам. Их торговые компа-нии держали специ-альный щтат работо-рговцев и получали на этом колоссаль-ные доходы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аботорговля носила меновый характер-в Африке рабов обме-нивали на оружие, спиртное,ткани и же лезо,а в Америке за них получали табак, сахар,ром,чай,хло-пок. 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592440" cy="49928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473760" y="5826240"/>
            <a:ext cx="34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воирование рабов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ременный рисунок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140360" y="692280"/>
            <a:ext cx="4535280" cy="288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280" y="76320"/>
            <a:ext cx="8839440" cy="54432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5.Англо-голландское соперничество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7640" y="3644640"/>
            <a:ext cx="8999640" cy="3133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оперничество 2-х государств объяснялось успе-хами голландцев в судостроении.В 1595 г. Они изобрели «флейту».Это судно было более ма-невренным и быстроходным,чем каравела.При строительстве использовались механизмы.Це-на судов за счет прямых закупок древесины было очень низкой.Матросы за низкую плату собирались со всей Европы.Поэтому перевозки голландцев были очень дешевыми.Их услугами пользовалась вся Европа. 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328320" y="2390760"/>
            <a:ext cx="34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лландская «флейта»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авюра 17 в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280" y="76320"/>
            <a:ext cx="8839440" cy="54432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5.Англо-голландское соперничество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427640" y="620280"/>
            <a:ext cx="4572000" cy="6156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Англичане стремились подавить голландцев и экономически и по-литически.Кромвель запретил использо-вать для торговли гол-ландские суда и в 1652-54 гг. между 2-я странами вспыхнула война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Хотя голландцы проигра ли,они продолжили своё дело выдавая иностранные товары за свои.В 1694г. Воз-ник Английский банк. Голландцы стали хра-нить деньги в нем и экономика страны пришла в упадок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09520" y="711360"/>
            <a:ext cx="4146480" cy="5310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246240" y="606276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лландская колониальная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мперия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Arial Black"/>
              </a:rPr>
              <a:t>План урока: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419360"/>
          </a:xfrm>
          <a:prstGeom prst="rect">
            <a:avLst/>
          </a:prstGeom>
          <a:solidFill>
            <a:srgbClr val="336699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1.Географичекие открытия 17-18 вв.</a:t>
            </a:r>
            <a:endParaRPr b="0" lang="en-US" sz="4000" spc="-1" strike="noStrike">
              <a:solidFill>
                <a:srgbClr val="cbcbcb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2.Пираты и каперы.</a:t>
            </a:r>
            <a:endParaRPr b="0" lang="en-US" sz="4000" spc="-1" strike="noStrike">
              <a:solidFill>
                <a:srgbClr val="cbcbcb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3.Торговые компании.</a:t>
            </a:r>
            <a:endParaRPr b="0" lang="en-US" sz="4000" spc="-1" strike="noStrike">
              <a:solidFill>
                <a:srgbClr val="cbcbcb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4.Работорговля.</a:t>
            </a:r>
            <a:endParaRPr b="0" lang="en-US" sz="4000" spc="-1" strike="noStrike">
              <a:solidFill>
                <a:srgbClr val="cbcbcb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5.Англо-голландское соперничество.</a:t>
            </a:r>
            <a:endParaRPr b="0" lang="en-US" sz="40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Arial Black"/>
              </a:rPr>
              <a:t>Задание на урок :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572000"/>
          </a:xfrm>
          <a:prstGeom prst="rect">
            <a:avLst/>
          </a:prstGeom>
          <a:solidFill>
            <a:srgbClr val="336699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imes New Roman"/>
              </a:rPr>
              <a:t>Какие причины привели к возвышению в 17-18 вв. Англии и Голландии и упадку Испании и Португалии?</a:t>
            </a:r>
            <a:endParaRPr b="0" lang="en-US" sz="54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429080" y="620640"/>
            <a:ext cx="4464000" cy="32878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54432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1.Географичекие открытия 17-18 вв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320" y="3860640"/>
            <a:ext cx="8991360" cy="2921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17-18 вв.географические открытия продолжи-лись,но лидерство перешло к англичанам и голландцам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1553 г.Уинблоу и Ченслер добрались до Новой Земли.В к. 16 в.Виллем Баренц попытался доб-раться до Китая северным путем,но дальше Но-вой Земли пройти не смог.Генри Гудзон иссле-довал Гренландию и пытался найти северный проход в Тихий океан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1167840" y="2535120"/>
            <a:ext cx="217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бель Тасман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кругу семьи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54432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1.Географичекие открытия 17-18 вв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0" y="620640"/>
            <a:ext cx="4495680" cy="6161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1642 г.Абель Тасман совершил экспеди-цию в поисках неве-домой южной земли. Он открыл Тасманию, НовуюЗеландию,ост-рова Тонга и Фиджи, но умудрился не «за-метить» Австралию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1644 г.он достиг ее северного побережья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1769 г.Джеймс Кук по пытался пробиться к Южному полюсу,но потерпел неудачу.В 1776 г. Он погиб на Га вайских островах в стычке с туземцами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811800" y="5661000"/>
            <a:ext cx="29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рта путешествий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ж.Кука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2240" y="1052640"/>
            <a:ext cx="4163760" cy="44035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54432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2.Пираты и каперы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0" y="620640"/>
            <a:ext cx="4495680" cy="6161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след за первопроход-цами на просторы оке анов вышли приаты и каперы.каперы напа-дали на торговые су-да враждебных стран по разрешению своей страны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Голландии каперст-вом занимались гёзы , которых поддержи-вал Вильгельм Оранс-кий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Англии,давая разре-шение на каперство, правительство пыта-лось взять пиратов под свой контроль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45960" y="692280"/>
            <a:ext cx="3865680" cy="51465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1102320" y="606744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ренсис Дрейк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54432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2.Пираты и каперы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0" y="620640"/>
            <a:ext cx="4495680" cy="6161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жон Морган занимал-ся своим промыслом в Карибском море. Под его началом сос-тояли несколько фло-тов.С Морганом вое-вали несколько госу-дарств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собенно от английс-ких пиратов страдали испанцы.Англичане поддерживали Морга-на, а губернатор Ямай ки был его другом.За-тем Морган стал вице-губернатором Ямайки и добился успеха в преследовании своих бывших товарищей-пиратов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434520" y="5805360"/>
            <a:ext cx="36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знь пирата в Лондоне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авюра 16 века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4037040" cy="49309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147240"/>
            <a:ext cx="8839440" cy="544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3.Торговые компании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0240" y="3715920"/>
            <a:ext cx="8915400" cy="3025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остепенно англичане и голландцы преврати-лись в непримиримых соперников.Их колонии создавались в основном торговыми компания-ми.В Англии действовали Московская,Левантс-кая,Гвинейская,Вест-Индийская и Ост-Индийс-кая компании.Последняя была государством в государстве и захватила большую часть Индии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Ей противостояла голландская компания,устано-вившая контроль над о-ми от Индии до Японии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60720" y="792000"/>
            <a:ext cx="5832360" cy="2853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161640" y="2462040"/>
            <a:ext cx="26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ондонский порт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авюра 17 в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76720" y="706320"/>
            <a:ext cx="5688000" cy="30099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54432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3.Торговые компании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0240" y="3715920"/>
            <a:ext cx="8915400" cy="3025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Голландцы контролировали вывоз пряностей в Европу.Располагая войсками они держали местных правителей в подчинении а среди населения распространяли опиум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17 в. Голландцы захватили юг Африки и стали эксплуатировать фермеров-буров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торговле европейцы не стеснялись использо-вать оружие и эти резко отличались от Восточ-ных торговых кампаний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-6120" y="2133720"/>
            <a:ext cx="32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атавия(Джакарта)-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олица голландской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т-Индийской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мпании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06:32:24Z</dcterms:created>
  <dc:creator>Чернов Алексей</dc:creator>
  <dc:description/>
  <dc:language>en-US</dc:language>
  <cp:lastModifiedBy>Чернов Алексей</cp:lastModifiedBy>
  <dcterms:modified xsi:type="dcterms:W3CDTF">2002-07-11T16:25:26Z</dcterms:modified>
  <cp:revision>262</cp:revision>
  <dc:subject/>
  <dc:title>Заголовок слайда отсутствует</dc:title>
</cp:coreProperties>
</file>