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9C4-B1B7-4F4F-9A6A-8C87BED1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76C-8053-41EF-BA84-2419267D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C19-1881-43B3-A783-179AF3E2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CB9-D492-43DF-9D75-0E03A732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0ACD-4D6B-4387-AA56-78599B27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B02-4D2F-4FE8-9BA0-65C6CF41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B79C-9D09-406B-AE94-49C6A34E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8C04-4A27-4FF6-A037-F4D6755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F2F3-AAE8-4C77-9F6D-CF0C22DF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9C7C-8C6C-4715-998F-E0AB9237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9B89-1221-4803-A18C-1B70122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648-88C1-45AE-8312-C89106A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A80F-E8EB-48AF-AB9C-EFB6C9E2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ED7B-8DE3-4F62-83A3-530691C0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049B-E2E1-4387-B507-CB2C17D7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77D-342B-4988-AA55-479B397F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973B-1B6D-4840-AF7A-DAA00DBE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7DE-7632-494E-95BF-E25C9A4C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1B7-68DB-4906-8540-13D76CF8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548-EB03-4691-AAD2-116193A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37C-3759-4037-B266-D6BC5CBC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45C-39FC-4072-ACB5-A64F9DC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976-5732-4E35-84C7-8746B265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9AD-1C58-4BE8-A0D8-EA99A79F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9E38-06E4-4105-BB41-DFD960A5AB4C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ЖДЕМ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ВАС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C4DC-0760-4878-BC7D-AE985D94CF34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3780000"/>
            <a:ext cx="76741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 Средневековья 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 Новому Времени</a:t>
            </a:r>
            <a:endParaRPr b="1" i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647640"/>
            <a:ext cx="15084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7 класс</a:t>
            </a:r>
            <a:endParaRPr b="1" lang="en-US" sz="2400" spc="1" strike="noStrike">
              <a:ln cap="sq"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5000" y="647640"/>
            <a:ext cx="3178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Новая История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43360" y="1371600"/>
            <a:ext cx="14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cc0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Урок 1</a:t>
            </a:r>
            <a:endParaRPr b="1" lang="en-US" sz="2400" spc="1" strike="noStrike">
              <a:ln cap="sq"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cc0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47960" y="2209320"/>
            <a:ext cx="4267080" cy="441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спомните, что та-кое  сословия, чем они отлича-ются друг от дру-га?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 каким последст-виям приводит сословное деле-ние общества?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Сословное деление общества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28680" y="3522600"/>
            <a:ext cx="729000" cy="1371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941400" cy="129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1025640" cy="110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План урока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1936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Понятие Нового Времени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Мир на рубеже 15-16 веков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Природа и люди,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Развитие товарного хозяйст-ва,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Сословное деление общества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Задание на урок 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1936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умайте, почему к.15 - н.16 вв. считается началом нового периода  Всемирной истории?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оиллюстрируйте ответ фактами, заполнив таблицу:</a:t>
            </a: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cbcbcb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4495680"/>
          <a:ext cx="7772400" cy="18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7724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4190760"/>
            <a:ext cx="8686800" cy="2438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ериод с 1500 г. и до н. 20 века носит названи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Нового времен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 Предшест-вующий период истории называлс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Средневековьем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ecff"/>
                </a:solidFill>
                <a:uFillTx/>
                <a:latin typeface="Arial Black"/>
              </a:rPr>
              <a:t>Подумайте, как появились эти термины?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Понятие Нового Времен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1865160"/>
          <a:ext cx="8763120" cy="21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65160"/>
                    <a:ext cx="87631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 txBox="1"/>
          <p:nvPr/>
        </p:nvSpPr>
        <p:spPr>
          <a:xfrm>
            <a:off x="5334120" y="3554280"/>
            <a:ext cx="581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1000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877160" y="3581280"/>
            <a:ext cx="581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2000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847960" y="3706920"/>
            <a:ext cx="581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н.э.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52480" y="213372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нтичност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419720" y="21337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редние века</a:t>
            </a:r>
            <a:endParaRPr b="0" lang="en-US" sz="2400" spc="1" strike="noStrike">
              <a:ln cap="sq"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477120" y="19051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овое</a:t>
            </a:r>
            <a:endParaRPr b="0" lang="en-US" sz="2400" spc="1" strike="noStrike">
              <a:ln cap="sq"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мя</a:t>
            </a:r>
            <a:endParaRPr b="0" lang="en-US" sz="2400" spc="1" strike="noStrike">
              <a:ln cap="sq"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581880" y="3554280"/>
            <a:ext cx="581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1500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4190760"/>
            <a:ext cx="8686800" cy="24382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зучение истории с позиций науки нача-лось в к.16 - н.17 вв. Тогдашние истори-ки назвали свою эпоху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овым време-нем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, а период между ним и античнос-тью -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редними Векам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Понятие Нового Времен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1865160"/>
          <a:ext cx="8763120" cy="21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65160"/>
                    <a:ext cx="87631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 txBox="1"/>
          <p:nvPr/>
        </p:nvSpPr>
        <p:spPr>
          <a:xfrm>
            <a:off x="5334120" y="3554280"/>
            <a:ext cx="581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1000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877160" y="3581280"/>
            <a:ext cx="581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2000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47960" y="3706920"/>
            <a:ext cx="581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н.э.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752480" y="213372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нтичност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419720" y="21337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редние века</a:t>
            </a:r>
            <a:endParaRPr b="0" lang="en-US" sz="2400" spc="1" strike="noStrike">
              <a:ln cap="sq"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477120" y="19051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овое</a:t>
            </a:r>
            <a:endParaRPr b="0" lang="en-US" sz="2400" spc="1" strike="noStrike">
              <a:ln cap="sq"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мя</a:t>
            </a:r>
            <a:endParaRPr b="0" lang="en-US" sz="2400" spc="1" strike="noStrike">
              <a:ln cap="sq"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581880" y="3554280"/>
            <a:ext cx="58104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1500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 1000 по 1500 гг. климат дважды претерпевал изменения-до 1300 г. погодные условия бла-гоприятствовали занятиям с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хозяйством, а затем климат стал более суровым. Люди бы-ли вынуждены приспосабливаться к новым условиям. 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Природа и люд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267080"/>
            <a:ext cx="8686800" cy="2362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сширение запашки и трехполье уже не при-носили таких результатов, как раньше и поэ-тому появляется целый ряд изобретений и усовершенствований, призванных повысить производительность труд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6405480" cy="3481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9400" y="1700280"/>
            <a:ext cx="2279160" cy="155700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рестьяне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 работой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редневековая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иниатюр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Природа и люди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135400" cy="5572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иболее важные из-менения были свя-заны с использова-нием водяного коле-са и доменной печи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Почему?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К каким это привело последствиям? 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Какие изменения произошли среди населения?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2347920" cy="277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2347920" cy="2965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97280" y="1700280"/>
            <a:ext cx="4267440" cy="4419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Вспомните,чем ха-рактеризоваласьсредневековая экономика,какой характер она но-сила ?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-К каким последствиям это приводило? 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8287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Развитие товарного хозяйства,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019160"/>
            <a:ext cx="3919320" cy="4425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00320" y="5516640"/>
            <a:ext cx="2279160" cy="11912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арщин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редневековая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иниатюра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610480" cy="1981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городе,в отличие от деревни, основной ценностью была не земля, а деньги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Вспомните, почему они появились,и какую роль стали играть ?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Развитие товарного хозяйства,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1550880" cy="29228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752480" y="1784520"/>
            <a:ext cx="3504960" cy="2330280"/>
            <a:chOff x="1752480" y="1784520"/>
            <a:chExt cx="3504960" cy="233028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2819160" y="1784520"/>
              <a:ext cx="2438280" cy="23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752480" y="269856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00"/>
            </a:solidFill>
            <a:ln cap="sq"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1143000"/>
            <a:ext cx="2955960" cy="3397320"/>
            <a:chOff x="5410080" y="1143000"/>
            <a:chExt cx="2955960" cy="3397320"/>
          </a:xfrm>
        </p:grpSpPr>
        <p:sp>
          <p:nvSpPr>
            <p:cNvPr id="190" name=""/>
            <p:cNvSpPr/>
            <p:nvPr/>
          </p:nvSpPr>
          <p:spPr>
            <a:xfrm>
              <a:off x="5410080" y="2666880"/>
              <a:ext cx="976320" cy="48600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6000"/>
                <a:gd name="textAreaBottom" fmla="*/ 36468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cc00"/>
            </a:solidFill>
            <a:ln cap="sq"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6934320" y="1143000"/>
              <a:ext cx="1431720" cy="1752480"/>
            </a:xfrm>
            <a:prstGeom prst="rect">
              <a:avLst/>
            </a:prstGeom>
            <a:ln w="38160">
              <a:solidFill>
                <a:srgbClr val="003366"/>
              </a:solidFill>
              <a:miter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7086600" y="2895480"/>
              <a:ext cx="1203480" cy="164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 flipH="1">
            <a:off x="1066680" y="3962520"/>
            <a:ext cx="5943600" cy="533160"/>
          </a:xfrm>
          <a:custGeom>
            <a:avLst/>
            <a:gdLst>
              <a:gd name="textAreaLeft" fmla="*/ 1229400 w 5943600"/>
              <a:gd name="textAreaRight" fmla="*/ 4070160 w 59436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34" hR="21600" stAng="10800000" swAng="-5400000"/>
                <a:lnTo>
                  <a:pt x="10323" y="21600"/>
                </a:lnTo>
                <a:arcTo wR="8934" hR="21600" stAng="5400000" swAng="-1773479"/>
                <a:lnTo>
                  <a:pt x="19884" y="12728"/>
                </a:lnTo>
                <a:lnTo>
                  <a:pt x="18563" y="0"/>
                </a:lnTo>
                <a:lnTo>
                  <a:pt x="13809" y="12728"/>
                </a:lnTo>
                <a:lnTo>
                  <a:pt x="16152" y="12728"/>
                </a:lnTo>
                <a:arcTo wR="8934" hR="21600" stAng="3626521" swAng="1662649"/>
                <a:lnTo>
                  <a:pt x="9629" y="21535"/>
                </a:lnTo>
                <a:arcTo wR="8934" hR="21600" stAng="5510830" swAng="5289170"/>
                <a:close/>
              </a:path>
              <a:path fill="darkenLess" w="21600" h="21600">
                <a:moveTo>
                  <a:pt x="0" y="0"/>
                </a:moveTo>
                <a:arcTo wR="8934" hR="21600" stAng="10800000" swAng="-5400000"/>
                <a:lnTo>
                  <a:pt x="10323" y="21600"/>
                </a:lnTo>
                <a:arcTo wR="8934" hR="21600" stAng="5400000" swAng="110830"/>
                <a:lnTo>
                  <a:pt x="9629" y="21535"/>
                </a:lnTo>
                <a:arcTo wR="8934" hR="21600" stAng="5510830" swAng="5289170"/>
                <a:close/>
              </a:path>
            </a:pathLst>
          </a:custGeom>
          <a:solidFill>
            <a:srgbClr val="ffcc00"/>
          </a:solidFill>
          <a:ln cap="sq"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648320"/>
            <a:ext cx="8610480" cy="1981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думайте, к каким последствиям для средневекового общества привело развитие товарно-денежных отношений?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6:32:24Z</dcterms:created>
  <dc:creator>Чернов Алексей</dc:creator>
  <dc:description/>
  <dc:language>en-US</dc:language>
  <cp:lastModifiedBy>Чернов Алексей</cp:lastModifiedBy>
  <dcterms:modified xsi:type="dcterms:W3CDTF">2002-05-16T14:09:06Z</dcterms:modified>
  <cp:revision>12</cp:revision>
  <dc:subject/>
  <dc:title>Заголовок слайда отсутствует</dc:title>
</cp:coreProperties>
</file>