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8B0-5795-436A-8017-D34CC435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F71-8B6C-4C41-B8EF-467E9F9A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393-F11A-497D-BDE3-835963EA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44B-212F-4935-829A-4BA2CC6F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40BC-60A5-4D5D-AB07-1AC40487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AC1C-FA8D-4B3D-9924-D4E6DA8F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63AD-3332-4BE3-B648-B38325B8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BAA3-2123-474A-BACD-DB1C87DB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A4B9-6A9F-447E-8EF8-B0658AC6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2CB7-DEF0-4D93-8940-0F83EE18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3254-474A-46E7-BB6E-321FA755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A82-680B-456C-A294-94D92564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9C35-5958-4EE1-953E-79DBF3BF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CD53-7DF6-4A68-A950-3125B770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EB8A-EF10-42FB-86DA-B31F79AA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FDFA-22F4-44C0-9E1A-338B066C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6E06-B45A-4248-A12C-6C556DFA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912-3153-4D31-A5B5-FD153E01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086-4F69-4288-84EE-B217DB5B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0856-D774-4E76-ABD6-1890599F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280-B94C-4181-8A93-565DE6A6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50E-910E-40A8-A5CF-EB2BDA0F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26D-1F79-499F-9F46-E762D15E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36A-C07C-4865-ACAD-E06F67D8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6355-84AA-4F88-A7A9-A1015AD73F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C04D-FFBF-4BF4-932D-13B924370E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00840" y="1812960"/>
            <a:ext cx="68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0cccc"/>
                </a:solidFill>
                <a:uFillTx/>
                <a:latin typeface="Times New Roman"/>
              </a:rPr>
              <a:t>Первый  крестовы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0cccc"/>
                </a:solidFill>
                <a:uFillTx/>
                <a:latin typeface="Times New Roman"/>
              </a:rPr>
              <a:t>поход 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60360" y="1125360"/>
            <a:ext cx="8459640" cy="541188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5640" y="2666520"/>
            <a:ext cx="6553080" cy="3886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На восточном побережье Средиземного моря образовались государства крес-тоносцев.В Иерусалимском королевст-ве рыцари закабаляли и мусульман и христи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Церкви здесь принадлежали обширные владения.Население платило налоги короля и десятину церкв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00093"/>
                </a:solidFill>
                <a:latin typeface="Times New Roman"/>
              </a:rPr>
              <a:t>5.Государства крестоносцев.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2666880"/>
            <a:ext cx="6553080" cy="3886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Центром королевства стал Храм Гроба Господ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Рыцари несли службу по охране этого огромного сооружения,имевшего гран диозное значение для всех христи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округ Иерусалима было создано нес-колько десятков монастырей, епис-копств и аббатст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495320" y="914400"/>
            <a:ext cx="449604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Для обороны владений кре-стоносцы стали созда-вать ордена-тамплиеры, госпитальеры,тевтон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Тамплиеры (храмовники) имели резиденцию на месте разрушенного иу-дейского хра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Госпитальеры открывали госпитали для паломни-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о главе ордена стояли Ве-ликие магист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00093"/>
                </a:solidFill>
                <a:latin typeface="Times New Roman"/>
              </a:rPr>
              <a:t>6.Духовно-рыцарские ордена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914400"/>
            <a:ext cx="4495680" cy="5943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Для членов этих орденов были запрещены светс-кие  развле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Ордена получали от пап льготы-не платили деся-тину, получали суд толь-ко от пап, собирали щед-рые пожертв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Ордена быстро окрепли и стали вести войны с со-седними государствами и друг с друг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8000" y="958680"/>
            <a:ext cx="4248000" cy="419904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635760" y="5630760"/>
            <a:ext cx="31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ыцарь-тамплиер 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ыцарь-госпиталь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00093"/>
                </a:solidFill>
                <a:latin typeface="Times New Roman"/>
              </a:rPr>
              <a:t>Выберите правильный ответ-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1082520"/>
            <a:ext cx="3720960" cy="45972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 Cyr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Times New Roman Cyr"/>
              </a:rPr>
              <a:t>Рыцари относились к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523960"/>
            <a:ext cx="381816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 Cyr"/>
              </a:rPr>
              <a:t>Еретики были противник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1600" y="3967200"/>
            <a:ext cx="372708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 Cyr"/>
              </a:rPr>
              <a:t>Церковь наказывала ере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 Cyr"/>
              </a:rPr>
              <a:t>т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7600" y="5410080"/>
            <a:ext cx="36554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 Cyr"/>
              </a:rPr>
              <a:t>  </a:t>
            </a:r>
            <a:r>
              <a:rPr b="1" lang="ru-RU" sz="2400" spc="-1" strike="noStrike">
                <a:solidFill>
                  <a:srgbClr val="a50021"/>
                </a:solidFill>
                <a:latin typeface="Times New Roman Cyr"/>
              </a:rPr>
              <a:t>Нищенствующим мона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 Cyr"/>
              </a:rPr>
              <a:t>шеским орденом бы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601560"/>
            <a:ext cx="4191120" cy="45972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 Cyr"/>
              </a:rPr>
              <a:t>1 сослов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101600"/>
            <a:ext cx="4191120" cy="45972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 Cyr"/>
              </a:rPr>
              <a:t>2 сослов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1600200"/>
            <a:ext cx="4191120" cy="45972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 Cyr"/>
              </a:rPr>
              <a:t>3 сослов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098800"/>
            <a:ext cx="4191120" cy="45972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 Cyr"/>
              </a:rPr>
              <a:t>Официальной церкв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2590920"/>
            <a:ext cx="4191120" cy="45972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 Cyr"/>
              </a:rPr>
              <a:t>Королевской в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3095640"/>
            <a:ext cx="4191120" cy="45972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 Cyr"/>
              </a:rPr>
              <a:t>Разделения церкв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3595680"/>
            <a:ext cx="419112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 Cyr"/>
              </a:rPr>
              <a:t>Штраф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4094280"/>
            <a:ext cx="419112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 Cyr"/>
              </a:rPr>
              <a:t>Отлучением от церкв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592520"/>
            <a:ext cx="419112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 Cyr"/>
              </a:rPr>
              <a:t>Каторжными работ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091120"/>
            <a:ext cx="419112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Меченосц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5589720"/>
            <a:ext cx="419112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Францисканц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6087960"/>
            <a:ext cx="419112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Крестоносц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00840" y="1812960"/>
            <a:ext cx="68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0cccc"/>
                </a:solidFill>
                <a:uFillTx/>
                <a:latin typeface="Times New Roman"/>
              </a:rPr>
              <a:t>Первый  крестовы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0cccc"/>
                </a:solidFill>
                <a:uFillTx/>
                <a:latin typeface="Times New Roman"/>
              </a:rPr>
              <a:t>поход 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0384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0093"/>
                </a:solidFill>
                <a:latin typeface="Times New Roman"/>
              </a:rPr>
              <a:t>1.Начало крестовых поход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0093"/>
                </a:solidFill>
                <a:latin typeface="Times New Roman"/>
              </a:rPr>
              <a:t>2.Участники поход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0093"/>
                </a:solidFill>
                <a:latin typeface="Times New Roman"/>
              </a:rPr>
              <a:t>3.Поход беднот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0093"/>
                </a:solidFill>
                <a:latin typeface="Times New Roman"/>
              </a:rPr>
              <a:t>4.Поход феодал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0093"/>
                </a:solidFill>
                <a:latin typeface="Times New Roman"/>
              </a:rPr>
              <a:t>5.Государства крестоносце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00093"/>
                </a:solidFill>
                <a:latin typeface="Times New Roman"/>
              </a:rPr>
              <a:t>6.Духовно-рыцарские орден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757520" y="108000"/>
            <a:ext cx="562608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cc"/>
                </a:solidFill>
                <a:uFillTx/>
                <a:latin typeface="Times New Roman"/>
              </a:rPr>
              <a:t>ПЛАН УРОКА.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Определите, какие цели преследовала церковь,начиная крестовые походы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757520" y="108000"/>
            <a:ext cx="562608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cc"/>
                </a:solidFill>
                <a:uFillTx/>
                <a:latin typeface="Times New Roman"/>
              </a:rPr>
              <a:t>Задание на урок.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00280" y="3319560"/>
          <a:ext cx="7543800" cy="247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280" y="3319560"/>
                    <a:ext cx="7543800" cy="24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5327640" cy="338292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00093"/>
                </a:solidFill>
                <a:latin typeface="Times New Roman"/>
              </a:rPr>
              <a:t>1.Начало крестовых походов.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4221000"/>
            <a:ext cx="8740800" cy="2492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0093"/>
                </a:solidFill>
                <a:latin typeface="Times New Roman"/>
              </a:rPr>
              <a:t>В 1095 году в Клермоне выступил Папа Римский.Он приз-вал отправиться на Восток, освобождать гроб Господня из рук неверных.Участники похода получали отпущение грех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0093"/>
                </a:solidFill>
                <a:latin typeface="Times New Roman"/>
              </a:rPr>
              <a:t>Путь рыцарей,одетых в плащи с крестами,лежал в Палес-тину, где в Иерусалиме был похоронен Иисус  Христо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9080" y="2081160"/>
            <a:ext cx="263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ленский соб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095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8000" y="4148280"/>
            <a:ext cx="8988480" cy="2520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 к. </a:t>
            </a:r>
            <a:r>
              <a:rPr b="0" lang="en-US" sz="2800" spc="-1" strike="noStrike">
                <a:solidFill>
                  <a:srgbClr val="500093"/>
                </a:solidFill>
                <a:latin typeface="Times New Roman"/>
              </a:rPr>
              <a:t>XI </a:t>
            </a:r>
            <a:r>
              <a:rPr b="0" lang="ru-RU" sz="2800" spc="-1" strike="noStrike">
                <a:solidFill>
                  <a:srgbClr val="500093"/>
                </a:solidFill>
                <a:latin typeface="Times New Roman"/>
              </a:rPr>
              <a:t>в.Европа переживала голод и эпидемии.Крестья-не отправились в Палестину,желая избавиться от хозя-ев.Безземельные рыцари были заинтересованы в вос- точных товарах и мечтали ограбить богатые города.Ду ховенство хотело распространить свою власть на Вос-т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00093"/>
                </a:solidFill>
                <a:latin typeface="Times New Roman"/>
              </a:rPr>
              <a:t>2.Участники походов.</a:t>
            </a:r>
            <a:endParaRPr b="0" i="1" lang="en-US" sz="48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60720" y="888840"/>
            <a:ext cx="5688000" cy="318780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55800" y="2205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естовые пох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" dur="1" fill="hold"/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3920" y="4149360"/>
            <a:ext cx="8991720" cy="2708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0093"/>
                </a:solidFill>
                <a:latin typeface="Times New Roman"/>
              </a:rPr>
              <a:t>Весной 1096 г.в поход отправились бедняки во главе с рыца-рями. Они были плохо вооружены и не имели запасов про-довольств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0093"/>
                </a:solidFill>
                <a:latin typeface="Times New Roman"/>
              </a:rPr>
              <a:t>С большими потерями они дошли до Константинополя и учи-нили в нем грабеж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0093"/>
                </a:solidFill>
                <a:latin typeface="Times New Roman"/>
              </a:rPr>
              <a:t>Император отправил их Малую Азию,где их перебили турки-сельджуки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00093"/>
                </a:solidFill>
                <a:latin typeface="Times New Roman"/>
              </a:rPr>
              <a:t>3.Поход бедноты.</a:t>
            </a:r>
            <a:endParaRPr b="0" i="1" lang="en-US" sz="48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52720" y="922320"/>
            <a:ext cx="5040360" cy="318924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594360" y="227664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еднота в похо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0920" y="4608360"/>
            <a:ext cx="8740800" cy="2060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0093"/>
                </a:solidFill>
                <a:latin typeface="Times New Roman"/>
              </a:rPr>
              <a:t>Осенью 1096 г.из Франции и Германии на Восток отправи-лись отряды рыцарей.Соединившись в Константинополе они вскоре разбили турок и стали грабить города.Многие рыцари оставались на завоеванных земл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0093"/>
                </a:solidFill>
                <a:latin typeface="Times New Roman"/>
              </a:rPr>
              <a:t>В 1099 г рыцари подошли к Иерусалиму и после месячной осады взяли горо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00093"/>
                </a:solidFill>
                <a:latin typeface="Times New Roman"/>
              </a:rPr>
              <a:t>4.Поход феодалов.</a:t>
            </a:r>
            <a:endParaRPr b="0" i="1" lang="en-US" sz="48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490920" y="917640"/>
            <a:ext cx="5184720" cy="3612960"/>
          </a:xfrm>
          <a:prstGeom prst="rect">
            <a:avLst/>
          </a:prstGeom>
          <a:ln w="76320">
            <a:solidFill>
              <a:srgbClr val="00cccc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614520" y="1844640"/>
            <a:ext cx="227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граб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ерусали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редневеков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атю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2T07:19:48Z</dcterms:created>
  <dc:creator>ЧЕРНОВ АЛЕКСЕЙ</dc:creator>
  <dc:description/>
  <dc:language>en-US</dc:language>
  <cp:lastModifiedBy>Чернов Алексей</cp:lastModifiedBy>
  <dcterms:modified xsi:type="dcterms:W3CDTF">2002-06-20T11:17:07Z</dcterms:modified>
  <cp:revision>40</cp:revision>
  <dc:subject/>
  <dc:title>Заголовок слайда отсутствует</dc:title>
</cp:coreProperties>
</file>