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10.png" ContentType="image/png"/>
  <Override PartName="/ppt/media/TYPE.WAV" ContentType="audio/x-wav"/>
  <Override PartName="/ppt/media/image4.png" ContentType="image/png"/>
  <Override PartName="/ppt/media/image5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0B2-5B6A-411F-A116-CAEF4AA6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8B2-A9C9-4D87-A686-BBAD9AAC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074-5787-4FD7-8B27-1173537D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955-C5B3-4900-ABD8-A0C7CDF1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8DFA-8115-477A-807F-51850168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DAF-2509-43D5-8EB2-6D5781A7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A94-C9AE-4D78-888E-F248120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57F-EDA2-4E5C-B059-29EE4298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1827-1656-498D-A2DA-68AF1A1D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7DBC-B1D6-4F76-9586-6039997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3786-12F2-40C8-A398-C6E5E7A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756-EF16-4A55-B164-C3550C8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3FA-0766-48B7-BFF3-73C2A54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27D-C986-4B77-8D07-539461E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CD4D-768C-4682-8A14-8CA8C75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B2A5-C64D-4A0B-9B56-3A48005F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F73-269F-455F-9225-6A3B88B7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F6F-675A-4A44-8E61-BF1A6B8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0DC-62DB-4507-B590-0622FE78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49D-6E7D-4EF4-BD72-689F9CC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E63-3E80-4704-A9A9-20C2586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E27-D46E-4B00-B7DB-A6DCAE8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3B7-FACC-48C2-AB6D-6568A7A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10D-8C80-49CC-B255-A6E2281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" name="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D99C-AD73-487A-8D94-872E7E216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A7F-4A44-457E-984B-F35D874C8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55080"/>
            <a:ext cx="8782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Используя мышку,расставьте события в хронологическом порядк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20" y="5872320"/>
            <a:ext cx="3413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азгром армии Помп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2400" y="2673360"/>
            <a:ext cx="56304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Единоличное правление Цезаря в Рим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0160" y="3363840"/>
            <a:ext cx="392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ходы Цезаря в Исп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4840" y="1536840"/>
            <a:ext cx="41767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Завоевание Цезарем Галл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67840" y="4951440"/>
            <a:ext cx="49384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Заговор Сенаторов против Цеза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34360" y="4170240"/>
            <a:ext cx="32882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ход Цезаря на Р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2280" y="1377720"/>
            <a:ext cx="4454280" cy="470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 31 г. до н. э. началась гражданская война между двумя правите-ля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сновные боевые дейст-вия развернулись в средиземномор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 Антоний, и Октавиан построили огромные фл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3.Борьба Антония и Октавиана за власть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60" y="5257800"/>
            <a:ext cx="435456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ктавиан в образ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га моря Непту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Древнеримская гем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63520" y="1090440"/>
            <a:ext cx="4121280" cy="39657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4370040"/>
            <a:ext cx="9144000" cy="2414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лавная битва состоялась около мыса Акций, на запа-де Балканского полуост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 о время битвы Клеопатра приказала египетскому флоту покинуть поле б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нтоний бросился за женой.Битва была проигр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577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3.Борьба Антония и Октавиана за власть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394160"/>
            <a:ext cx="9144000" cy="2414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е выдержав измены жены и поражения,Антоний бросился на меч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ктавиан вошел в Египет.Он хотел во время триум-фа провезти Клеопатру по Риму.Она,чтобы избе-жать позора, покончила жизнь самоубийств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25480" y="749160"/>
            <a:ext cx="5632560" cy="35546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923760" y="2157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" dur="1" fill="hold"/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330440" y="774720"/>
            <a:ext cx="4730760" cy="5897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 30 г до н.э. Октавиан объявил об окончании гражданских вой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енат присвоил ему по-четное прозвище-Август (священный).Также вскоре стали называть один из месяцев римс-кого календар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Вспомните,какой месяц связан с еще одним римским политиком   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2560" y="69840"/>
            <a:ext cx="7772400" cy="557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4.Правление Октавиана Августа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62080" y="735120"/>
            <a:ext cx="3801960" cy="50688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828000" y="5877000"/>
            <a:ext cx="27014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Октавиан Август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мперат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381560" y="1036800"/>
            <a:ext cx="4610160" cy="5433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ктавиан не захотел стать диктатором, но постоян-но носил титул импера-тора.Он сосредоточил в руках безграничную вл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мня о судьбе Цезаря, он создал личную охрану - преторианскую гвар-дию, которая размести-лась и в Риме и по всей Итал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2560" y="48960"/>
            <a:ext cx="7772400" cy="5382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4.Правление Октавиана Августа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23840" y="698400"/>
            <a:ext cx="4108320" cy="54784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382320" y="6262560"/>
            <a:ext cx="35960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Преторианская гвард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8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305240" y="1157400"/>
            <a:ext cx="4572000" cy="540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ктавиан  сократил чис- ленность армии.Отстав- ные воины были посе-лены в провинциях,а пособия им платили из сокровищ египетских цар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 Августе была уста-новлена система управ-ления в которой совмес-тно участвовали  и импе ратор, и сена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2560" y="131400"/>
            <a:ext cx="77724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4.Правление Октавиана Августа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8640" y="5796000"/>
            <a:ext cx="3661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тставные преториан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  Си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0280" y="1042920"/>
            <a:ext cx="3376440" cy="45021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531800" y="3770280"/>
          <a:ext cx="6077160" cy="30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3770280"/>
                    <a:ext cx="6077160" cy="3011400"/>
                  </a:xfrm>
                  <a:prstGeom prst="rect">
                    <a:avLst/>
                  </a:prstGeom>
                  <a:ln w="76320">
                    <a:solidFill>
                      <a:srgbClr val="ff99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04960"/>
            <a:ext cx="9144000" cy="246384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 Августе увеличилась территория принадлежав-шая  римлянам- он полностью подчинил Испанию и Егип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о времен Августа Рим стал империей.1-й император был с огромными почестями похоронен в мавзоле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2560" y="55440"/>
            <a:ext cx="7772400" cy="679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23880" y="30240"/>
            <a:ext cx="7772400" cy="60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ВЫБЕРИТЕ ПРАВИЛЬНЫЙ ОТВ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99800" y="71892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Высший орган власти в Ри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0160" y="173988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Центральная площадь в Ри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160" y="276084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Короткое копье для мет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160" y="378288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Торжественный въезд в Р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1280" y="990720"/>
            <a:ext cx="3865680" cy="51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Ар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1280" y="2003400"/>
            <a:ext cx="3865680" cy="51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Дрот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1280" y="3016080"/>
            <a:ext cx="3865680" cy="51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Провин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1280" y="4029120"/>
            <a:ext cx="3865680" cy="51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Сен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1280" y="5041800"/>
            <a:ext cx="3865680" cy="51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Триум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1280" y="6056280"/>
            <a:ext cx="3865680" cy="51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Фору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480384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Страна,завоеванная и управляемая Ри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160" y="582624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Площадка в центре амфитеат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УСТАНОВЛЕНИЕ ИМПЕРИИ В РИМЕ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131400"/>
            <a:ext cx="77724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101600"/>
            <a:ext cx="7772400" cy="507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1.Последствия убийства Цезар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2.Конец Римской республи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3.Борьба Антония и Октавиана за власт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4.Правление Октавиана Авгус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417240"/>
            <a:ext cx="77724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509840"/>
            <a:ext cx="7772400" cy="4495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Выпишите в тетрадь, что по вашему мнению было хорошего и плохого в императорской системе государственного управления   </a:t>
            </a: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12960" y="907920"/>
            <a:ext cx="4630680" cy="595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бийство Цезаря в Риме восприняли неоднознач-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го враги встретил извес-тие о смерти диктатора с востор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отив них выступил друг Цезаря Анто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н предложил отменить все то, что сделал Це-зарь.И тогда сенаторы решили похоронить его с поче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2560" y="69480"/>
            <a:ext cx="77724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Последствия убийства Цезаря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16080" y="878040"/>
            <a:ext cx="3978000" cy="43606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44520" y="5361120"/>
            <a:ext cx="388620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Марк Анто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Древнеримский барелье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760320"/>
            <a:ext cx="9144000" cy="3286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Заговорщики,опасаясь мести,бежали на Балканы и стали готовить силы для восстановления республи-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 в это время в Риме стало известно, что Цезарь заве-щал власть своему приемному сыну-Октавиа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скоре он, Антоний и полководец Лепид в ввели в Рим войска, и сенат передал им власть на 5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2560" y="29880"/>
            <a:ext cx="77724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Конец Римской республик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471760" y="4092480"/>
            <a:ext cx="6522840" cy="27036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08600" y="4475160"/>
            <a:ext cx="1654560" cy="192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Лепид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Октав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и Анто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ъезжаю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 Р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701720" y="4005360"/>
            <a:ext cx="5870520" cy="27558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32623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скоре Лепид сошел со сцены. Антоний недооценивал  Октавиана, полагая, что тот ничего не понимает, но Октавиан оказался хитрым человеком.Вскоре пра-вители поделили римские владения, как показано на кар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азбив сторонников республики, они укрепили свою вл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2560" y="101160"/>
            <a:ext cx="7772400" cy="554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Конец Римской республик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019840" y="4610160"/>
            <a:ext cx="1440" cy="22478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2880" y="5994360"/>
            <a:ext cx="15631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Октав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5320" y="4707000"/>
            <a:ext cx="14029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Анто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1560"/>
            <a:ext cx="9144000" cy="67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3.Борьба Антония и Октавиана за власть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60760" y="948960"/>
            <a:ext cx="4556160" cy="5575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ктавиан,обвинял сопер-ника в разбазаривании земель, которые тот да-рил жене и дочер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ба полководца стали го-товиться к войне. Анто-ний,обосновавшийся  в восточных провинциях, вызвал к себе Клеопат-ру-царицу Егип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та умная и красивая жен щина вскоре стала  его же ной и стала активно вмешиваться в полити-ческую борьб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82680" y="879480"/>
            <a:ext cx="3701880" cy="49356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03120" y="5340240"/>
            <a:ext cx="384660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ктави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Древнеримс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аме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04:12:08Z</dcterms:created>
  <dc:creator>ЧЕРНОВ АЛЕКСЕЙ</dc:creator>
  <dc:description/>
  <dc:language>en-US</dc:language>
  <cp:lastModifiedBy>Чернов Алексей</cp:lastModifiedBy>
  <dcterms:modified xsi:type="dcterms:W3CDTF">2002-05-09T16:13:37Z</dcterms:modified>
  <cp:revision>21</cp:revision>
  <dc:subject/>
  <dc:title>УСТАНОВЛЕНИЕ ИМПЕРИИ В РИМЕ.</dc:title>
</cp:coreProperties>
</file>