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CC53-5504-405A-A91F-2A4DA233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820C-E2EB-4F83-B893-3778A87B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D719-F3BB-4008-BBC4-9281AEE9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E45B-A9E7-43D5-9A66-F28EAB2C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22FE-70C7-47E5-AA70-B618F125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5001-0668-4EEE-95DB-EF624DB2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0B7B-957E-40C4-83CB-64B78113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F9A6-77A7-4766-860A-8E0C2081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797A-C93F-422F-8B65-ECDB081F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D861-1EA6-408C-A50E-49E84154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C9C4-0149-4F98-928F-9DED8020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8440-CCE1-4B67-B9F7-05E96E3B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1ABD-3EAD-49A7-842A-5B654EB8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69EB-B86F-47FC-94E0-D920603A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0840-4C7C-493B-B698-2035FA66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A997-80D9-47AD-BEE3-BE78AF0C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0C5E-18CF-4300-BECA-E166F6CB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4F3-1AEE-4118-87D2-793ED49E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560A-B555-48FE-A03B-9C7AA426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297C-9DAD-4749-96B5-D9BA525F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8C1-48BC-4066-B829-F4E4BDEC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89B-C1D5-485E-A065-C253C004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52D-4AD6-44D6-ADE6-E5C67C13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2C58-64DD-48CC-9AB9-1DA3B10D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9240" y="1622520"/>
            <a:ext cx="8800920" cy="5045040"/>
            <a:chOff x="219240" y="1622520"/>
            <a:chExt cx="8800920" cy="5045040"/>
          </a:xfrm>
        </p:grpSpPr>
        <p:grpSp>
          <p:nvGrpSpPr>
            <p:cNvPr id="1" name=""/>
            <p:cNvGrpSpPr/>
            <p:nvPr/>
          </p:nvGrpSpPr>
          <p:grpSpPr>
            <a:xfrm>
              <a:off x="219240" y="1622520"/>
              <a:ext cx="8305560" cy="150840"/>
              <a:chOff x="219240" y="1622520"/>
              <a:chExt cx="8305560" cy="150840"/>
            </a:xfrm>
          </p:grpSpPr>
          <p:sp>
            <p:nvSpPr>
              <p:cNvPr id="2" name=""/>
              <p:cNvSpPr/>
              <p:nvPr/>
            </p:nvSpPr>
            <p:spPr>
              <a:xfrm>
                <a:off x="219240" y="1638360"/>
                <a:ext cx="8288280" cy="135000"/>
              </a:xfrm>
              <a:custGeom>
                <a:avLst/>
                <a:gdLst/>
                <a:ahLst/>
                <a:rect l="l" t="t" r="r" b="b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8f8f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236520" y="1622520"/>
                <a:ext cx="8288280" cy="135000"/>
              </a:xfrm>
              <a:custGeom>
                <a:avLst/>
                <a:gdLst/>
                <a:ahLst/>
                <a:rect l="l" t="t" r="r" b="b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8408880" y="5302080"/>
              <a:ext cx="611280" cy="1365480"/>
              <a:chOff x="8408880" y="5302080"/>
              <a:chExt cx="611280" cy="136548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415360" y="5319360"/>
                <a:ext cx="604800" cy="1348200"/>
                <a:chOff x="8415360" y="5319360"/>
                <a:chExt cx="604800" cy="1348200"/>
              </a:xfrm>
            </p:grpSpPr>
            <p:sp>
              <p:nvSpPr>
                <p:cNvPr id="6" name=""/>
                <p:cNvSpPr/>
                <p:nvPr/>
              </p:nvSpPr>
              <p:spPr>
                <a:xfrm>
                  <a:off x="8415360" y="5662440"/>
                  <a:ext cx="536400" cy="1005120"/>
                </a:xfrm>
                <a:custGeom>
                  <a:avLst/>
                  <a:gdLst/>
                  <a:ahLst/>
                  <a:rect l="l" t="t" r="r" b="b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 rot="705000">
                  <a:off x="8577360" y="5331960"/>
                  <a:ext cx="158760" cy="311400"/>
                </a:xfrm>
                <a:prstGeom prst="ellipse">
                  <a:avLst/>
                </a:pr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8753400" y="5448240"/>
                  <a:ext cx="85680" cy="214200"/>
                </a:xfrm>
                <a:custGeom>
                  <a:avLst/>
                  <a:gdLst/>
                  <a:ahLst/>
                  <a:rect l="l" t="t" r="r" b="b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8829720" y="5565600"/>
                  <a:ext cx="92160" cy="169920"/>
                </a:xfrm>
                <a:custGeom>
                  <a:avLst/>
                  <a:gdLst/>
                  <a:ahLst/>
                  <a:rect l="l" t="t" r="r" b="b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8943840" y="5781600"/>
                  <a:ext cx="76320" cy="131760"/>
                </a:xfrm>
                <a:custGeom>
                  <a:avLst/>
                  <a:gdLst/>
                  <a:ahLst/>
                  <a:rect l="l" t="t" r="r" b="b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8888400" y="5683320"/>
                  <a:ext cx="88920" cy="147600"/>
                </a:xfrm>
                <a:custGeom>
                  <a:avLst/>
                  <a:gdLst/>
                  <a:ahLst/>
                  <a:rect l="l" t="t" r="r" b="b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" name=""/>
              <p:cNvGrpSpPr/>
              <p:nvPr/>
            </p:nvGrpSpPr>
            <p:grpSpPr>
              <a:xfrm>
                <a:off x="8408880" y="5302080"/>
                <a:ext cx="604800" cy="1347840"/>
                <a:chOff x="8408880" y="5302080"/>
                <a:chExt cx="604800" cy="1347840"/>
              </a:xfrm>
            </p:grpSpPr>
            <p:sp>
              <p:nvSpPr>
                <p:cNvPr id="13" name=""/>
                <p:cNvSpPr/>
                <p:nvPr/>
              </p:nvSpPr>
              <p:spPr>
                <a:xfrm>
                  <a:off x="8408880" y="5645160"/>
                  <a:ext cx="536760" cy="1004760"/>
                </a:xfrm>
                <a:custGeom>
                  <a:avLst/>
                  <a:gdLst/>
                  <a:ahLst/>
                  <a:rect l="l" t="t" r="r" b="b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 rot="705000">
                  <a:off x="8570880" y="5314680"/>
                  <a:ext cx="158760" cy="311040"/>
                </a:xfrm>
                <a:prstGeom prst="ellipse">
                  <a:avLst/>
                </a:pr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747280" y="5430960"/>
                  <a:ext cx="85680" cy="214200"/>
                </a:xfrm>
                <a:custGeom>
                  <a:avLst/>
                  <a:gdLst/>
                  <a:ahLst/>
                  <a:rect l="l" t="t" r="r" b="b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823240" y="5548320"/>
                  <a:ext cx="92160" cy="169920"/>
                </a:xfrm>
                <a:custGeom>
                  <a:avLst/>
                  <a:gdLst/>
                  <a:ahLst/>
                  <a:rect l="l" t="t" r="r" b="b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937720" y="5764320"/>
                  <a:ext cx="75960" cy="131760"/>
                </a:xfrm>
                <a:custGeom>
                  <a:avLst/>
                  <a:gdLst/>
                  <a:ahLst/>
                  <a:rect l="l" t="t" r="r" b="b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881920" y="5665680"/>
                  <a:ext cx="88920" cy="147600"/>
                </a:xfrm>
                <a:custGeom>
                  <a:avLst/>
                  <a:gdLst/>
                  <a:ahLst/>
                  <a:rect l="l" t="t" r="r" b="b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D9E2-5306-4D00-80CA-4F9733825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44440" y="3316320"/>
            <a:ext cx="8305920" cy="150840"/>
            <a:chOff x="244440" y="3316320"/>
            <a:chExt cx="8305920" cy="150840"/>
          </a:xfrm>
        </p:grpSpPr>
        <p:sp>
          <p:nvSpPr>
            <p:cNvPr id="61" name=""/>
            <p:cNvSpPr/>
            <p:nvPr/>
          </p:nvSpPr>
          <p:spPr>
            <a:xfrm>
              <a:off x="244440" y="3332160"/>
              <a:ext cx="8288280" cy="135000"/>
            </a:xfrm>
            <a:custGeom>
              <a:avLst/>
              <a:gdLst/>
              <a:ahLst/>
              <a:rect l="l" t="t" r="r" b="b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2080" y="3316320"/>
              <a:ext cx="8288280" cy="135000"/>
            </a:xfrm>
            <a:custGeom>
              <a:avLst/>
              <a:gdLst/>
              <a:ahLst/>
              <a:rect l="l" t="t" r="r" b="b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19BB-4586-42E6-B4CE-7B2F680969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55080"/>
            <a:ext cx="87822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Используя мышку,расставьте события в хронологическом порядке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9400" y="5994360"/>
            <a:ext cx="458532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 Cyr"/>
              </a:rPr>
              <a:t>Бегство из школы гладиаторов</a:t>
            </a:r>
            <a:r>
              <a:rPr b="0" lang="en-US" sz="2400" spc="-1" strike="noStrike">
                <a:solidFill>
                  <a:srgbClr val="ffffff"/>
                </a:solidFill>
                <a:latin typeface="Times New Roman Cyr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040" y="4584600"/>
            <a:ext cx="444060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 Cyr"/>
              </a:rPr>
              <a:t>Устройство лагеря на Везувие</a:t>
            </a:r>
            <a:r>
              <a:rPr b="0" lang="en-US" sz="2400" spc="-1" strike="noStrike">
                <a:solidFill>
                  <a:srgbClr val="ffffff"/>
                </a:solidFill>
                <a:latin typeface="Times New Roman Cyr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2222640"/>
            <a:ext cx="322272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 Cyr"/>
              </a:rPr>
              <a:t>Разгром 2-х консулов</a:t>
            </a:r>
            <a:r>
              <a:rPr b="0" lang="en-US" sz="2400" spc="-1" strike="noStrike">
                <a:solidFill>
                  <a:srgbClr val="ffffff"/>
                </a:solidFill>
                <a:latin typeface="Times New Roman Cyr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5200" y="2832120"/>
            <a:ext cx="37162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 Cyr"/>
              </a:rPr>
              <a:t>Битва в предгорьях Аль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00640" y="1536840"/>
            <a:ext cx="53074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 Cyr"/>
              </a:rPr>
              <a:t>Строительство Крассом укреплений</a:t>
            </a:r>
            <a:r>
              <a:rPr b="0" lang="en-US" sz="2400" spc="-1" strike="noStrike">
                <a:solidFill>
                  <a:srgbClr val="ffffff"/>
                </a:solidFill>
                <a:latin typeface="Times New Roman Cyr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97400" y="4979880"/>
            <a:ext cx="33904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 Cyr"/>
              </a:rPr>
              <a:t>Переправа в Сицилию</a:t>
            </a:r>
            <a:r>
              <a:rPr b="0" lang="en-US" sz="2400" spc="-1" strike="noStrike">
                <a:solidFill>
                  <a:srgbClr val="ffffff"/>
                </a:solidFill>
                <a:latin typeface="Times New Roman Cyr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27600" y="3778200"/>
            <a:ext cx="49510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 Cyr"/>
              </a:rPr>
              <a:t>Последнее сражение с римлянами</a:t>
            </a:r>
            <a:r>
              <a:rPr b="0" lang="en-US" sz="2400" spc="-1" strike="noStrike">
                <a:solidFill>
                  <a:srgbClr val="ffffff"/>
                </a:solidFill>
                <a:latin typeface="Times New Roman Cyr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336560" y="1347480"/>
            <a:ext cx="4730760" cy="1873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Успехи Цезаря раздражали и Помпея. В Борьбе с конкурентом он решил опереться на Сена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74640" y="-360"/>
            <a:ext cx="8002800" cy="11732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.ЗАВОЕВАТЕЛЬНЫЕ ПОХОДЫ ЦЕЗАРЯ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20040" y="3627360"/>
            <a:ext cx="1628640" cy="58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3939"/>
                </a:solidFill>
                <a:latin typeface="Times New Roman Cyr"/>
              </a:rPr>
              <a:t>СЕНА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3172680" y="259956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9393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3094200" y="442584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9393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32240" y="4497480"/>
            <a:ext cx="4730760" cy="2068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Сенат приказал Цезарю  распустить войско и яви-ться  в Рим для отчета безоруж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320760" y="1333440"/>
            <a:ext cx="2396880" cy="248148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28680" y="4168800"/>
            <a:ext cx="2370240" cy="248904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880" y="4978440"/>
            <a:ext cx="9018360" cy="1822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Узнав о решении воле Сената Цезарь подвел войско к границе исконно римской территории-реке Рубик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Несколько часов он в задумчивости простоял на берегу,пока наконец не произнес: «Жребий брошен!».Вскоре его легио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ны без боя вступили в Ри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700200" y="55080"/>
            <a:ext cx="7772400" cy="5511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ЗАХВАТ ЦЕЗАРЕМ ВЛАСТИ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3209760" y="668160"/>
            <a:ext cx="5696280" cy="427212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703080" y="2192400"/>
            <a:ext cx="1579680" cy="119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 Cyr"/>
              </a:rPr>
              <a:t>Цеза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 Cyr"/>
              </a:rPr>
              <a:t>переходи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 Cyr"/>
              </a:rPr>
              <a:t>Рубик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629160" y="520560"/>
            <a:ext cx="5124240" cy="384336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1000" y="4033800"/>
            <a:ext cx="8845560" cy="27338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На улицах города Цезаря встречала беднота.Помпей и Сенат в страхе бежали на Балканы,где попыта-лись набрать войско для  борьбы с Цезарем.Но тот не оставил противникам шансов-он атаковал  и разбил войско Помпея.А вскоре сам Помпей погиб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69720" y="81000"/>
            <a:ext cx="8469360" cy="6033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ЗАХВАТ ЦЕЗАРЕМ ВЛАСТИ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90640" y="1697040"/>
            <a:ext cx="1788480" cy="119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 Cyr"/>
              </a:rPr>
              <a:t>Вступ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 Cyr"/>
              </a:rPr>
              <a:t>Цезар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 Cyr"/>
              </a:rPr>
              <a:t>в Ри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9" dur="1" fill="hold"/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90080" y="4106880"/>
            <a:ext cx="8820360" cy="2751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Опираясь на легионы,Цезарь добился от Сената провозглашения себя диктатор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Большинство своих обещаний он выполнил : в про-винциях солдатам  раздали землю,были заново от-строены Карфаген и Коринф-туда переселили бед-ня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49440" y="80640"/>
            <a:ext cx="7772400" cy="6541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ЗАХВАТ ЦЕЗАРЕМ ВЛАСТИ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390760" y="792000"/>
            <a:ext cx="4324320" cy="32436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3" dur="1" fill="hold"/>
                                  <p:tgtEl>
                                    <p:spTgt spid="1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371680" y="754200"/>
            <a:ext cx="4324320" cy="324324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152280" y="3973680"/>
            <a:ext cx="8858520" cy="2846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На государственные должности избирали только тех,кого рекомендовал Цезар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Его профиль чеканили на монетах,украшая голову диктатора корон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На торжествах Цезарь садился на золотое кресло, напоминавшее тр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9440" y="80640"/>
            <a:ext cx="7772400" cy="6541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ЗАХВАТ ЦЕЗАРЕМ ВЛАСТИ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2" dur="1" fill="hold"/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248000" y="2368440"/>
            <a:ext cx="277920" cy="277920"/>
          </a:xfrm>
          <a:prstGeom prst="flowChartConnector">
            <a:avLst/>
          </a:prstGeom>
          <a:solidFill>
            <a:srgbClr val="cc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33000" y="26226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 Cyr"/>
              </a:rPr>
              <a:t>РИ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869080"/>
            <a:ext cx="919152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Эти действия Цезаря настроили против него сторонников Рес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публики,и ему пришлось совершить против них ряд поход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3843600">
            <a:off x="3607560" y="15973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cc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rot="19839600">
            <a:off x="2986200" y="568080"/>
            <a:ext cx="814320" cy="866880"/>
          </a:xfrm>
          <a:custGeom>
            <a:avLst/>
            <a:gdLst>
              <a:gd name="textAreaLeft" fmla="*/ 360 w 814320"/>
              <a:gd name="textAreaRight" fmla="*/ 81504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9275600">
            <a:off x="1955880" y="11588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cc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9275600">
            <a:off x="1130400" y="1878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cc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7480" y="2673360"/>
            <a:ext cx="209484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Times New Roman"/>
              </a:rPr>
              <a:t>49 г.-Исп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62440" y="2239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5120" y="2235240"/>
            <a:ext cx="189216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Times New Roman"/>
              </a:rPr>
              <a:t>48 г.-Гре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20226000">
            <a:off x="4581360" y="29113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c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20226000">
            <a:off x="5106600" y="38620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20226000">
            <a:off x="5632200" y="48114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54800" y="5194440"/>
            <a:ext cx="185544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Times New Roman"/>
              </a:rPr>
              <a:t>45 г.-Егип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734760"/>
            <a:ext cx="9144000" cy="23828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5 мая 44 г.до н.э. Недовольные правлением Цезаря устроили заговор, во главе с его другом-Брут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Цезарь узнал о заговоре, но с гордостью заявил: «Лучше один раз умереть, чем постоянно ожидать смерти!»-и отправился в Сенат без охраны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623880" y="81000"/>
            <a:ext cx="7772400" cy="628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4.ГИБЕЛЬ ЦЕЗАРЯ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743120" y="3138480"/>
            <a:ext cx="5810040" cy="36432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9" dur="1" fill="hold"/>
                                  <p:tgtEl>
                                    <p:spTgt spid="1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734760"/>
            <a:ext cx="9144000" cy="23828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Когда он появился, сенаторы встали и подошли к нему якобы с просьбой.Цезарь отказал и один из заговорщиков нанес ему сзади удар кинжал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Удары посыпались со всех сторон.Увидев оружие в руке Брута Цезарь воскликнул-«И ты,Брут,туда ж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23880" y="81000"/>
            <a:ext cx="7772400" cy="628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4.ГИБЕЛЬ ЦЕЗАРЯ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743120" y="3138480"/>
            <a:ext cx="5810040" cy="36432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1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829800"/>
            <a:ext cx="9144000" cy="2287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С этими словами Цезарь рухнул на пол около статуи Помпея.Многим показалось,что мертвый Помпей отомстил за смерть своему противни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Брут хотел произнести речь, но здание опустело, сенаторы в ужасе разбежалис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23880" y="81000"/>
            <a:ext cx="7772400" cy="628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4.ГИБЕЛЬ ЦЕЗАРЯ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743120" y="3138480"/>
            <a:ext cx="5810040" cy="36432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ЕДИНОВЛАСТИЕ ЦЕЗАРЯ В РИМЕ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.РЕФОРМА АРМИИ И ВОЗВЫШЕ-НИЕ ЮЛИЯ ЦЕЗАР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ЗАВОЕВАТЕЛЬНЫЕ ПОХОДЫ ЦЕЗАР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.ЗАХВАТ ЦЕЗАРЕМ ВЛА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4.ГИБЕЛЬ ЦЕЗАР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ЗАДАНИЕ НА УРОК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0720" y="2066400"/>
            <a:ext cx="7772400" cy="3767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3939"/>
                </a:solidFill>
                <a:latin typeface="Times New Roman"/>
              </a:rPr>
              <a:t>? </a:t>
            </a:r>
            <a:r>
              <a:rPr b="1" lang="ru-RU" sz="4000" spc="-1" strike="noStrike">
                <a:solidFill>
                  <a:srgbClr val="393939"/>
                </a:solidFill>
                <a:latin typeface="Times New Roman"/>
              </a:rPr>
              <a:t> Подумайте, как изменилось государственное управление  Рима после захвата власти Цезарем   </a:t>
            </a:r>
            <a:r>
              <a:rPr b="1" lang="en-US" sz="4000" spc="-1" strike="noStrike">
                <a:solidFill>
                  <a:srgbClr val="393939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90560" y="1068480"/>
            <a:ext cx="5951520" cy="394956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-360" y="4979520"/>
            <a:ext cx="9016920" cy="17989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В сер.1 века до н.э. После восстания Спартака,Сенат решил изменить принцип комплектования арм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Если раньше основу войска составляли земледельцы,то теперь войско стали набирать из неимущих гражда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Times New Roman"/>
              </a:rPr>
              <a:t>?   </a:t>
            </a: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Как вы думаете, почему это было сделано   </a:t>
            </a:r>
            <a:r>
              <a:rPr b="1" lang="en-US" sz="2400" spc="-1" strike="noStrike">
                <a:solidFill>
                  <a:srgbClr val="393939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66360" y="60480"/>
            <a:ext cx="7877160" cy="10396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.РЕФОРМА АРМИИ И ВОЗВЫШЕНИЕ ЮЛИЯ ЦЕЗАРЯ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727440" y="1473120"/>
            <a:ext cx="5097600" cy="5013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Разбив Спартака, консулы Помпей и Красс, ненави-девшие друг друга,начали борьбу за вла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Однако на первый план вскоре вышел Юлий Це-зар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Он происходил из знатного, но не богатого рода.Цезарь был высокообразованным, хитрым человеко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66360" y="60480"/>
            <a:ext cx="7877160" cy="10396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.РЕФОРМА АРМИИ И ВОЗВЫШЕНИЕ ЮЛИЯ ЦЕЗАРЯ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0680" y="1771560"/>
            <a:ext cx="12643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 Cyr"/>
              </a:rPr>
              <a:t>Помп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99960" y="3546360"/>
            <a:ext cx="12229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 Cyr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imes New Roman Cyr"/>
              </a:rPr>
              <a:t>Крас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0320" y="5425920"/>
            <a:ext cx="12351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 Cyr"/>
              </a:rPr>
              <a:t>Цезар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0760" y="1333440"/>
            <a:ext cx="1673280" cy="173196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26880" y="3063960"/>
            <a:ext cx="1657440" cy="17352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28680" y="4797360"/>
            <a:ext cx="1654200" cy="173664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727440" y="1473120"/>
            <a:ext cx="5097600" cy="5013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Цезарь помирил обоих пол- ководцев и заручился их поддержкой.Симпатизиро-вали ему и народные мас-сы, интересы которых он отстаивал перед сенатора-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скоре Цезарь стал консу-лом, а год спустя-наместни ком богатой провинции -Галл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66360" y="60480"/>
            <a:ext cx="7877160" cy="10396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.РЕФОРМА АРМИИ И ВОЗВЫШЕНИЕ ЮЛИЯ ЦЕЗАРЯ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0680" y="1771560"/>
            <a:ext cx="12643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 Cyr"/>
              </a:rPr>
              <a:t>Помп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99960" y="3546360"/>
            <a:ext cx="12229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 Cyr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imes New Roman Cyr"/>
              </a:rPr>
              <a:t>Крас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0320" y="5425920"/>
            <a:ext cx="12351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 Cyr"/>
              </a:rPr>
              <a:t>Цезар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0760" y="1333440"/>
            <a:ext cx="1673280" cy="173196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26880" y="3063960"/>
            <a:ext cx="1657440" cy="17352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28680" y="4797360"/>
            <a:ext cx="1654200" cy="173664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248000" y="2368440"/>
            <a:ext cx="277920" cy="277920"/>
          </a:xfrm>
          <a:prstGeom prst="flowChartConnector">
            <a:avLst/>
          </a:prstGeom>
          <a:solidFill>
            <a:srgbClr val="cc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33000" y="26226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 Cyr"/>
              </a:rPr>
              <a:t>РИ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3938400">
            <a:off x="3602880" y="1568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cc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rot="20378400">
            <a:off x="3063600" y="517680"/>
            <a:ext cx="814320" cy="866880"/>
          </a:xfrm>
          <a:custGeom>
            <a:avLst/>
            <a:gdLst>
              <a:gd name="textAreaLeft" fmla="*/ 360 w 814320"/>
              <a:gd name="textAreaRight" fmla="*/ 81504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9499400">
            <a:off x="2111040" y="97740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cc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4800">
            <a:off x="1827360" y="-1440"/>
            <a:ext cx="460080" cy="1465200"/>
          </a:xfrm>
          <a:prstGeom prst="upArrow">
            <a:avLst>
              <a:gd name="adj1" fmla="val 50000"/>
              <a:gd name="adj2" fmla="val 79617"/>
            </a:avLst>
          </a:prstGeom>
          <a:solidFill>
            <a:srgbClr val="cc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440" y="5888160"/>
            <a:ext cx="910836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В то время Риму принадлежала Предальпийская Галлия, а в За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альпийской римляне владели лишь небольшой территор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248000" y="2368440"/>
            <a:ext cx="277920" cy="277920"/>
          </a:xfrm>
          <a:prstGeom prst="flowChartConnector">
            <a:avLst/>
          </a:prstGeom>
          <a:solidFill>
            <a:srgbClr val="cc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33000" y="26226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 Cyr"/>
              </a:rPr>
              <a:t>РИ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480" y="5900760"/>
            <a:ext cx="914796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За 10 лет Цезарь завоевал практически всю территорию совре-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менной Франции, а в 55 г до.н.э. покорил Британи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280" y="5902200"/>
            <a:ext cx="909144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Победы Цезаря стали вызывать зависть у Сенаторов.Красс отп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равился  в Парфию, но потерпел там поражение и поги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0230200">
            <a:off x="3886200" y="13366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d6009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20349000">
            <a:off x="3578400" y="30924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d6009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2535000">
            <a:off x="4349520" y="5140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6009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535000">
            <a:off x="5209920" y="11826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d6009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2535000">
            <a:off x="6070320" y="18493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d6009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77160" y="23432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6009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67520" y="23432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6009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534520" y="2295360"/>
            <a:ext cx="609480" cy="609840"/>
          </a:xfrm>
          <a:prstGeom prst="flowChartSummingJunction">
            <a:avLst/>
          </a:prstGeom>
          <a:solidFill>
            <a:srgbClr val="cc0000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8T08:45:54Z</dcterms:created>
  <dc:creator>ЧЕРНОВ АЛЕКСЕЙ</dc:creator>
  <dc:description/>
  <dc:language>en-US</dc:language>
  <cp:lastModifiedBy>Чернов Алексей</cp:lastModifiedBy>
  <dcterms:modified xsi:type="dcterms:W3CDTF">2002-05-08T15:58:43Z</dcterms:modified>
  <cp:revision>24</cp:revision>
  <dc:subject/>
  <dc:title>Заголовок слайда отсутствует</dc:title>
</cp:coreProperties>
</file>