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598-A92D-4BC1-B2C9-E8BA6E5B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658-C99D-41D6-AE69-EE85F1F9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1F6-6D27-4DEB-98DE-3568AF95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409-BDC5-4281-86CC-C11C0A44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5B7D-0547-4CD7-8787-A60559C5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0C53-9614-4B73-9087-F47F7351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B361-6A46-4299-AA9F-5844340A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3217-5EC9-42FD-88F2-72B82DEB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7B6E-0B93-4FF8-887F-484E9AD0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4AA3-23F7-4075-AC2D-04F76430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D237-29BE-42F2-96D7-ABFE7C7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AB7-BF73-4668-8AAC-B5B3F9BE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8E7B-84A3-45A7-84D1-6A30BC33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83DA-19DD-4F08-AD84-46FCFF9F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04DB-A2AA-4025-8F52-CCDE4DC6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C2AF-DEBE-4683-9538-64269102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B22E-3B50-4936-96D3-CD917B35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134-3E22-4CA4-AF26-D01FE203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FD3-6C9D-4A8D-A61E-1FA590AE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3D8-57A1-4CD6-BBD6-D4E19F70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516-1359-4DD1-9601-8022CCDB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B3D-3DA9-49CC-A0DF-D1EE386C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493-D26F-4F39-89D1-093D0955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95A-8B95-4E7F-80A8-A13C45A4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8EF0-48E2-4DCC-81BC-895C4DDE7AC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C92-57A7-405F-B6EB-CFFEA9E07CC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6.jpe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jpe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5.png"/><Relationship Id="rId43" Type="http://schemas.openxmlformats.org/officeDocument/2006/relationships/image" Target="../media/image15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10.png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6.jpe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Нашествие персидских войск на Элладу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44000" cy="6183360"/>
          </a:xfrm>
          <a:prstGeom prst="rect">
            <a:avLst/>
          </a:prstGeom>
          <a:ln w="76320">
            <a:solidFill>
              <a:srgbClr val="350035"/>
            </a:solidFill>
            <a:miter/>
          </a:ln>
        </p:spPr>
      </p:pic>
      <p:grpSp>
        <p:nvGrpSpPr>
          <p:cNvPr id="397" name=""/>
          <p:cNvGrpSpPr/>
          <p:nvPr/>
        </p:nvGrpSpPr>
        <p:grpSpPr>
          <a:xfrm>
            <a:off x="539640" y="981000"/>
            <a:ext cx="1785960" cy="2089080"/>
            <a:chOff x="539640" y="981000"/>
            <a:chExt cx="1785960" cy="2089080"/>
          </a:xfrm>
        </p:grpSpPr>
        <p:pic>
          <p:nvPicPr>
            <p:cNvPr id="398" name="" descr=""/>
            <p:cNvPicPr/>
            <p:nvPr/>
          </p:nvPicPr>
          <p:blipFill>
            <a:blip r:embed="rId2"/>
            <a:stretch/>
          </p:blipFill>
          <p:spPr>
            <a:xfrm>
              <a:off x="539640" y="98100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3"/>
            <a:stretch/>
          </p:blipFill>
          <p:spPr>
            <a:xfrm>
              <a:off x="755640" y="119700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4"/>
            <a:stretch/>
          </p:blipFill>
          <p:spPr>
            <a:xfrm>
              <a:off x="971640" y="141264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5"/>
            <a:stretch/>
          </p:blipFill>
          <p:spPr>
            <a:xfrm>
              <a:off x="1187640" y="1628640"/>
              <a:ext cx="1137960" cy="144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3.Фермопильское сражени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522160" y="4865760"/>
            <a:ext cx="1281240" cy="1398600"/>
            <a:chOff x="2522160" y="4865760"/>
            <a:chExt cx="1281240" cy="1398600"/>
          </a:xfrm>
        </p:grpSpPr>
        <p:sp>
          <p:nvSpPr>
            <p:cNvPr id="404" name=""/>
            <p:cNvSpPr/>
            <p:nvPr/>
          </p:nvSpPr>
          <p:spPr>
            <a:xfrm rot="17926800">
              <a:off x="2725200" y="5029200"/>
              <a:ext cx="914400" cy="914400"/>
            </a:xfrm>
            <a:prstGeom prst="bracketPair">
              <a:avLst>
                <a:gd name="adj" fmla="val 17129"/>
              </a:avLst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7926800">
              <a:off x="2706120" y="5220720"/>
              <a:ext cx="835200" cy="914400"/>
            </a:xfrm>
            <a:prstGeom prst="bracketPair">
              <a:avLst>
                <a:gd name="adj" fmla="val 17129"/>
              </a:avLst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848760" y="2362320"/>
            <a:ext cx="3260520" cy="51912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алиакский залив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3124080"/>
            <a:ext cx="685800" cy="7621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381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74040" y="3124080"/>
            <a:ext cx="131148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Ксерк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1000" y="1141560"/>
            <a:ext cx="8793000" cy="1551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Греки по приказу Леонида разделились надвое-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Леонид и 300 спартанцев остались защищать проход,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а остальная армия начала отступлени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25320" y="3716280"/>
            <a:ext cx="2001960" cy="2305080"/>
            <a:chOff x="625320" y="3716280"/>
            <a:chExt cx="2001960" cy="2305080"/>
          </a:xfrm>
        </p:grpSpPr>
        <p:pic>
          <p:nvPicPr>
            <p:cNvPr id="411" name="" descr=""/>
            <p:cNvPicPr/>
            <p:nvPr/>
          </p:nvPicPr>
          <p:blipFill>
            <a:blip r:embed="rId7"/>
            <a:stretch/>
          </p:blipFill>
          <p:spPr>
            <a:xfrm>
              <a:off x="625320" y="371628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8"/>
            <a:stretch/>
          </p:blipFill>
          <p:spPr>
            <a:xfrm>
              <a:off x="841320" y="393228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9"/>
            <a:stretch/>
          </p:blipFill>
          <p:spPr>
            <a:xfrm>
              <a:off x="1057320" y="414792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10"/>
            <a:stretch/>
          </p:blipFill>
          <p:spPr>
            <a:xfrm>
              <a:off x="1273320" y="4363920"/>
              <a:ext cx="11379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11"/>
            <a:stretch/>
          </p:blipFill>
          <p:spPr>
            <a:xfrm>
              <a:off x="1488960" y="4579920"/>
              <a:ext cx="113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"/>
          <p:cNvGrpSpPr/>
          <p:nvPr/>
        </p:nvGrpSpPr>
        <p:grpSpPr>
          <a:xfrm>
            <a:off x="6084360" y="4797360"/>
            <a:ext cx="1354320" cy="1657440"/>
            <a:chOff x="6084360" y="4797360"/>
            <a:chExt cx="1354320" cy="1657440"/>
          </a:xfrm>
        </p:grpSpPr>
        <p:pic>
          <p:nvPicPr>
            <p:cNvPr id="417" name="" descr=""/>
            <p:cNvPicPr/>
            <p:nvPr/>
          </p:nvPicPr>
          <p:blipFill>
            <a:blip r:embed="rId12"/>
            <a:stretch/>
          </p:blipFill>
          <p:spPr>
            <a:xfrm flipH="1">
              <a:off x="6084360" y="4797360"/>
              <a:ext cx="11379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3"/>
            <a:stretch/>
          </p:blipFill>
          <p:spPr>
            <a:xfrm flipH="1">
              <a:off x="6300360" y="5013360"/>
              <a:ext cx="113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"/>
          <p:cNvGrpSpPr/>
          <p:nvPr/>
        </p:nvGrpSpPr>
        <p:grpSpPr>
          <a:xfrm>
            <a:off x="4500360" y="4694400"/>
            <a:ext cx="1942920" cy="2163600"/>
            <a:chOff x="4500360" y="4694400"/>
            <a:chExt cx="1942920" cy="2163600"/>
          </a:xfrm>
        </p:grpSpPr>
        <p:grpSp>
          <p:nvGrpSpPr>
            <p:cNvPr id="420" name=""/>
            <p:cNvGrpSpPr/>
            <p:nvPr/>
          </p:nvGrpSpPr>
          <p:grpSpPr>
            <a:xfrm>
              <a:off x="4500360" y="4694400"/>
              <a:ext cx="1523880" cy="1731960"/>
              <a:chOff x="4500360" y="4694400"/>
              <a:chExt cx="1523880" cy="1731960"/>
            </a:xfrm>
          </p:grpSpPr>
          <p:pic>
            <p:nvPicPr>
              <p:cNvPr id="421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4500360" y="469440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 flipH="1">
                <a:off x="4655880" y="490896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716360" y="4910040"/>
              <a:ext cx="1523880" cy="1731960"/>
              <a:chOff x="4716360" y="4910040"/>
              <a:chExt cx="1523880" cy="173196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4716360" y="49100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 flipH="1">
                <a:off x="4871880" y="51246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4919400" y="5126040"/>
              <a:ext cx="1523880" cy="1731960"/>
              <a:chOff x="4919400" y="5126040"/>
              <a:chExt cx="1523880" cy="1731960"/>
            </a:xfrm>
          </p:grpSpPr>
          <p:pic>
            <p:nvPicPr>
              <p:cNvPr id="427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919400" y="51260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 flipH="1">
                <a:off x="5074920" y="53406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3059280" y="5013360"/>
            <a:ext cx="1523880" cy="1731960"/>
            <a:chOff x="3059280" y="5013360"/>
            <a:chExt cx="1523880" cy="1731960"/>
          </a:xfrm>
        </p:grpSpPr>
        <p:pic>
          <p:nvPicPr>
            <p:cNvPr id="430" name="" descr=""/>
            <p:cNvPicPr/>
            <p:nvPr/>
          </p:nvPicPr>
          <p:blipFill>
            <a:blip r:embed="rId17"/>
            <a:stretch/>
          </p:blipFill>
          <p:spPr>
            <a:xfrm>
              <a:off x="3059280" y="5013360"/>
              <a:ext cx="152388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3132360" y="5227920"/>
              <a:ext cx="1295280" cy="360360"/>
            </a:xfrm>
            <a:prstGeom prst="line">
              <a:avLst/>
            </a:prstGeom>
            <a:ln w="19080">
              <a:solidFill>
                <a:srgbClr val="00005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275280" y="5229360"/>
            <a:ext cx="1739160" cy="1947600"/>
            <a:chOff x="3275280" y="5229360"/>
            <a:chExt cx="1739160" cy="1947600"/>
          </a:xfrm>
        </p:grpSpPr>
        <p:grpSp>
          <p:nvGrpSpPr>
            <p:cNvPr id="433" name=""/>
            <p:cNvGrpSpPr/>
            <p:nvPr/>
          </p:nvGrpSpPr>
          <p:grpSpPr>
            <a:xfrm>
              <a:off x="3275280" y="5229360"/>
              <a:ext cx="1523880" cy="1731960"/>
              <a:chOff x="3275280" y="5229360"/>
              <a:chExt cx="1523880" cy="1731960"/>
            </a:xfrm>
          </p:grpSpPr>
          <p:pic>
            <p:nvPicPr>
              <p:cNvPr id="434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3275280" y="522936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 flipH="1">
                <a:off x="3430800" y="544392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490560" y="5445000"/>
              <a:ext cx="1523880" cy="1731960"/>
              <a:chOff x="3490560" y="5445000"/>
              <a:chExt cx="1523880" cy="1731960"/>
            </a:xfrm>
          </p:grpSpPr>
          <p:pic>
            <p:nvPicPr>
              <p:cNvPr id="437" name="" descr=""/>
              <p:cNvPicPr/>
              <p:nvPr/>
            </p:nvPicPr>
            <p:blipFill>
              <a:blip r:embed="rId19"/>
              <a:stretch/>
            </p:blipFill>
            <p:spPr>
              <a:xfrm flipH="1">
                <a:off x="3490560" y="544500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 flipH="1">
                <a:off x="3646080" y="565956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22222E-006 L 0.44878 -0.01042 E">
                                      <p:cBhvr>
                                        <p:cTn id="337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32292 0.01065 E">
                                      <p:cBhvr>
                                        <p:cTn id="339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44000" cy="6183360"/>
          </a:xfrm>
          <a:prstGeom prst="rect">
            <a:avLst/>
          </a:prstGeom>
          <a:ln w="76320">
            <a:solidFill>
              <a:srgbClr val="350035"/>
            </a:solidFill>
            <a:miter/>
          </a:ln>
        </p:spPr>
      </p:pic>
      <p:grpSp>
        <p:nvGrpSpPr>
          <p:cNvPr id="440" name=""/>
          <p:cNvGrpSpPr/>
          <p:nvPr/>
        </p:nvGrpSpPr>
        <p:grpSpPr>
          <a:xfrm>
            <a:off x="6084360" y="4797360"/>
            <a:ext cx="1354320" cy="1657440"/>
            <a:chOff x="6084360" y="4797360"/>
            <a:chExt cx="1354320" cy="1657440"/>
          </a:xfrm>
        </p:grpSpPr>
        <p:pic>
          <p:nvPicPr>
            <p:cNvPr id="441" name="" descr=""/>
            <p:cNvPicPr/>
            <p:nvPr/>
          </p:nvPicPr>
          <p:blipFill>
            <a:blip r:embed="rId2"/>
            <a:stretch/>
          </p:blipFill>
          <p:spPr>
            <a:xfrm flipH="1">
              <a:off x="6084360" y="4797360"/>
              <a:ext cx="11379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3"/>
            <a:stretch/>
          </p:blipFill>
          <p:spPr>
            <a:xfrm flipH="1">
              <a:off x="6300360" y="5013360"/>
              <a:ext cx="113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3" name=""/>
          <p:cNvGrpSpPr/>
          <p:nvPr/>
        </p:nvGrpSpPr>
        <p:grpSpPr>
          <a:xfrm>
            <a:off x="2522160" y="4865760"/>
            <a:ext cx="1281240" cy="1398600"/>
            <a:chOff x="2522160" y="4865760"/>
            <a:chExt cx="1281240" cy="1398600"/>
          </a:xfrm>
        </p:grpSpPr>
        <p:sp>
          <p:nvSpPr>
            <p:cNvPr id="444" name=""/>
            <p:cNvSpPr/>
            <p:nvPr/>
          </p:nvSpPr>
          <p:spPr>
            <a:xfrm rot="17926800">
              <a:off x="2725200" y="5029200"/>
              <a:ext cx="914400" cy="914400"/>
            </a:xfrm>
            <a:prstGeom prst="bracketPair">
              <a:avLst>
                <a:gd name="adj" fmla="val 17129"/>
              </a:avLst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7926800">
              <a:off x="2706120" y="5220720"/>
              <a:ext cx="835200" cy="914400"/>
            </a:xfrm>
            <a:prstGeom prst="bracketPair">
              <a:avLst>
                <a:gd name="adj" fmla="val 17129"/>
              </a:avLst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39640" y="981000"/>
            <a:ext cx="1785960" cy="2089080"/>
            <a:chOff x="539640" y="981000"/>
            <a:chExt cx="1785960" cy="2089080"/>
          </a:xfrm>
        </p:grpSpPr>
        <p:pic>
          <p:nvPicPr>
            <p:cNvPr id="447" name="" descr=""/>
            <p:cNvPicPr/>
            <p:nvPr/>
          </p:nvPicPr>
          <p:blipFill>
            <a:blip r:embed="rId4"/>
            <a:stretch/>
          </p:blipFill>
          <p:spPr>
            <a:xfrm>
              <a:off x="539640" y="98100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5"/>
            <a:stretch/>
          </p:blipFill>
          <p:spPr>
            <a:xfrm>
              <a:off x="755640" y="119700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6"/>
            <a:stretch/>
          </p:blipFill>
          <p:spPr>
            <a:xfrm>
              <a:off x="971640" y="141264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7"/>
            <a:stretch/>
          </p:blipFill>
          <p:spPr>
            <a:xfrm>
              <a:off x="1187640" y="1628640"/>
              <a:ext cx="113796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"/>
          <p:cNvGrpSpPr/>
          <p:nvPr/>
        </p:nvGrpSpPr>
        <p:grpSpPr>
          <a:xfrm>
            <a:off x="3059280" y="5013360"/>
            <a:ext cx="1523880" cy="1731960"/>
            <a:chOff x="3059280" y="5013360"/>
            <a:chExt cx="1523880" cy="1731960"/>
          </a:xfrm>
        </p:grpSpPr>
        <p:pic>
          <p:nvPicPr>
            <p:cNvPr id="452" name="" descr=""/>
            <p:cNvPicPr/>
            <p:nvPr/>
          </p:nvPicPr>
          <p:blipFill>
            <a:blip r:embed="rId8"/>
            <a:stretch/>
          </p:blipFill>
          <p:spPr>
            <a:xfrm>
              <a:off x="3059280" y="5013360"/>
              <a:ext cx="152388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132360" y="5227920"/>
              <a:ext cx="1295280" cy="360360"/>
            </a:xfrm>
            <a:prstGeom prst="line">
              <a:avLst/>
            </a:prstGeom>
            <a:ln w="19080">
              <a:solidFill>
                <a:srgbClr val="00005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3.Фермопильское сражени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48760" y="2362320"/>
            <a:ext cx="3260520" cy="51912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алиакский залив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95280" y="3124080"/>
            <a:ext cx="685800" cy="7621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381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74040" y="3124080"/>
            <a:ext cx="131148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Ксерк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135240" y="56689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059280" y="56689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135240" y="56689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059280" y="56689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059280" y="56689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49640" y="551664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02280" y="551664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25960" y="551664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02280" y="551664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25960" y="551664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5680" y="1052640"/>
            <a:ext cx="8664840" cy="1036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300 спартанцев приняв верную смерть,прикрыва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отход армии,совершили подвиг оставшийся в веках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25320" y="3716280"/>
            <a:ext cx="2001960" cy="2305080"/>
            <a:chOff x="625320" y="3716280"/>
            <a:chExt cx="2001960" cy="2305080"/>
          </a:xfrm>
        </p:grpSpPr>
        <p:pic>
          <p:nvPicPr>
            <p:cNvPr id="470" name="" descr=""/>
            <p:cNvPicPr/>
            <p:nvPr/>
          </p:nvPicPr>
          <p:blipFill>
            <a:blip r:embed="rId10"/>
            <a:stretch/>
          </p:blipFill>
          <p:spPr>
            <a:xfrm>
              <a:off x="625320" y="371628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11"/>
            <a:stretch/>
          </p:blipFill>
          <p:spPr>
            <a:xfrm>
              <a:off x="841320" y="393228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12"/>
            <a:stretch/>
          </p:blipFill>
          <p:spPr>
            <a:xfrm>
              <a:off x="1057320" y="414792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13"/>
            <a:stretch/>
          </p:blipFill>
          <p:spPr>
            <a:xfrm>
              <a:off x="1273320" y="4363920"/>
              <a:ext cx="11379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14"/>
            <a:stretch/>
          </p:blipFill>
          <p:spPr>
            <a:xfrm>
              <a:off x="1488960" y="4579920"/>
              <a:ext cx="1138320" cy="144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22222E-006 L -0.14185 0.03171 E">
                                      <p:cBhvr>
                                        <p:cTn id="350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evt="end">
                                        <p:tn val="353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evt="end">
                                        <p:tn val="359"/>
                                      </p:cond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5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5" dur="1" fill="hold">
                                    <p:stCondLst>
                                      <p:cond evt="end">
                                        <p:tn val="371"/>
                                      </p:cond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evt="end">
                                        <p:tn val="383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5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evt="end">
                                        <p:tn val="407"/>
                                      </p:cond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24000" y="5229360"/>
            <a:ext cx="8820000" cy="1552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и один спартанец ни сдался персам.Впоследствии на памят-нике в ущелье была сделана надпис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Путник,весть отнеси всем гражданам Лакедомона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: честно исполнив долг,здесь мы в могиле лежим.”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687240" y="44280"/>
            <a:ext cx="7772400" cy="7207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3.Фермопильское сражение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803240" y="907920"/>
            <a:ext cx="5648400" cy="42166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4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50920" y="1104840"/>
            <a:ext cx="8653320" cy="57531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5b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Фермопильское сражени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3002600">
            <a:off x="6400800" y="297144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1029800">
            <a:off x="6172200" y="205668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1760600">
            <a:off x="5333400" y="175176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0215000">
            <a:off x="4419360" y="167616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rot="15437400">
            <a:off x="2815560" y="1892160"/>
            <a:ext cx="486000" cy="904680"/>
          </a:xfrm>
          <a:custGeom>
            <a:avLst/>
            <a:gdLst>
              <a:gd name="textAreaLeft" fmla="*/ 360 w 486000"/>
              <a:gd name="textAreaRight" fmla="*/ 486720 w 4860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8464200">
            <a:off x="2514240" y="3352320"/>
            <a:ext cx="485640" cy="1067040"/>
          </a:xfrm>
          <a:custGeom>
            <a:avLst/>
            <a:gdLst>
              <a:gd name="textAreaLeft" fmla="*/ 0 w 485640"/>
              <a:gd name="textAreaRight" fmla="*/ 486000 w 4856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6561000">
            <a:off x="2209320" y="289548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2480400">
            <a:off x="2895120" y="449532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2869800">
            <a:off x="3428640" y="4952880"/>
            <a:ext cx="717480" cy="412920"/>
          </a:xfrm>
          <a:custGeom>
            <a:avLst/>
            <a:gdLst>
              <a:gd name="textAreaLeft" fmla="*/ 0 w 717480"/>
              <a:gd name="textAreaRight" fmla="*/ 717480 w 71748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rot="14649000">
            <a:off x="3790080" y="1771560"/>
            <a:ext cx="486000" cy="905040"/>
          </a:xfrm>
          <a:custGeom>
            <a:avLst/>
            <a:gdLst>
              <a:gd name="textAreaLeft" fmla="*/ 360 w 486000"/>
              <a:gd name="textAreaRight" fmla="*/ 486720 w 48600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2038400">
            <a:off x="3428280" y="2133360"/>
            <a:ext cx="717480" cy="412560"/>
          </a:xfrm>
          <a:custGeom>
            <a:avLst/>
            <a:gdLst>
              <a:gd name="textAreaLeft" fmla="*/ 0 w 717480"/>
              <a:gd name="textAreaRight" fmla="*/ 717480 w 71748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2656200">
            <a:off x="6629040" y="1981080"/>
            <a:ext cx="609480" cy="762120"/>
          </a:xfrm>
          <a:prstGeom prst="upDownArrow">
            <a:avLst>
              <a:gd name="adj1" fmla="val 50000"/>
              <a:gd name="adj2" fmla="val 24893"/>
            </a:avLst>
          </a:prstGeom>
          <a:solidFill>
            <a:srgbClr val="ff0000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8739200">
            <a:off x="6324480" y="236196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2539400">
            <a:off x="7391160" y="426672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4715000">
            <a:off x="6857640" y="373320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3560" y="1447920"/>
            <a:ext cx="8276040" cy="1036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Пройдя Фермопилы персы разорили Аттику и без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труда взяли Афин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1280" y="4317840"/>
            <a:ext cx="2388960" cy="82548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Фермопильск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сраж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3"/>
                                      </p:cond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evt="end">
                                        <p:tn val="449"/>
                                      </p:cond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evt="end">
                                        <p:tn val="455"/>
                                      </p:cond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250920" y="1104840"/>
            <a:ext cx="8653320" cy="575316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5b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Битва при Саламин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13002600">
            <a:off x="6400800" y="297144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11029800">
            <a:off x="6172200" y="205668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11760600">
            <a:off x="5333400" y="175176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0215000">
            <a:off x="4419360" y="167616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rot="15437400">
            <a:off x="2815560" y="1892160"/>
            <a:ext cx="486000" cy="904680"/>
          </a:xfrm>
          <a:custGeom>
            <a:avLst/>
            <a:gdLst>
              <a:gd name="textAreaLeft" fmla="*/ 360 w 486000"/>
              <a:gd name="textAreaRight" fmla="*/ 486720 w 4860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8464200">
            <a:off x="2514240" y="3352320"/>
            <a:ext cx="485640" cy="1067040"/>
          </a:xfrm>
          <a:custGeom>
            <a:avLst/>
            <a:gdLst>
              <a:gd name="textAreaLeft" fmla="*/ 0 w 485640"/>
              <a:gd name="textAreaRight" fmla="*/ 486000 w 4856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6561000">
            <a:off x="2209320" y="289548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2480400">
            <a:off x="2895120" y="449532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2869800">
            <a:off x="3428640" y="4952880"/>
            <a:ext cx="717480" cy="412920"/>
          </a:xfrm>
          <a:custGeom>
            <a:avLst/>
            <a:gdLst>
              <a:gd name="textAreaLeft" fmla="*/ 0 w 717480"/>
              <a:gd name="textAreaRight" fmla="*/ 717480 w 71748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rot="14649000">
            <a:off x="3790080" y="1771560"/>
            <a:ext cx="486000" cy="905040"/>
          </a:xfrm>
          <a:custGeom>
            <a:avLst/>
            <a:gdLst>
              <a:gd name="textAreaLeft" fmla="*/ 360 w 486000"/>
              <a:gd name="textAreaRight" fmla="*/ 486720 w 48600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2038400">
            <a:off x="3428280" y="2133360"/>
            <a:ext cx="717480" cy="412560"/>
          </a:xfrm>
          <a:custGeom>
            <a:avLst/>
            <a:gdLst>
              <a:gd name="textAreaLeft" fmla="*/ 0 w 717480"/>
              <a:gd name="textAreaRight" fmla="*/ 717480 w 71748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1428800">
            <a:off x="5104800" y="2056680"/>
            <a:ext cx="1204920" cy="228600"/>
          </a:xfrm>
          <a:custGeom>
            <a:avLst/>
            <a:gdLst>
              <a:gd name="textAreaLeft" fmla="*/ 150480 w 1204920"/>
              <a:gd name="textAreaRight" fmla="*/ 1054440 w 12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9405600">
            <a:off x="4037760" y="2057040"/>
            <a:ext cx="1204920" cy="228600"/>
          </a:xfrm>
          <a:custGeom>
            <a:avLst/>
            <a:gdLst>
              <a:gd name="textAreaLeft" fmla="*/ 150480 w 1204920"/>
              <a:gd name="textAreaRight" fmla="*/ 1054440 w 12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8989200">
            <a:off x="4114440" y="2590560"/>
            <a:ext cx="380880" cy="838080"/>
          </a:xfrm>
          <a:prstGeom prst="uturnArrow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7201800">
            <a:off x="3618720" y="2628720"/>
            <a:ext cx="304920" cy="990360"/>
          </a:xfrm>
          <a:custGeom>
            <a:avLst/>
            <a:gdLst>
              <a:gd name="textAreaLeft" fmla="*/ 40680 w 304920"/>
              <a:gd name="textAreaRight" fmla="*/ 264240 w 30492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8024400">
            <a:off x="3161520" y="2171520"/>
            <a:ext cx="304920" cy="990360"/>
          </a:xfrm>
          <a:custGeom>
            <a:avLst/>
            <a:gdLst>
              <a:gd name="textAreaLeft" fmla="*/ 40680 w 304920"/>
              <a:gd name="textAreaRight" fmla="*/ 264240 w 30492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20142600">
            <a:off x="3200400" y="2361960"/>
            <a:ext cx="228600" cy="1357200"/>
          </a:xfrm>
          <a:prstGeom prst="downArrow">
            <a:avLst>
              <a:gd name="adj1" fmla="val 50000"/>
              <a:gd name="adj2" fmla="val 148425"/>
            </a:avLst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9076400">
            <a:off x="3733560" y="358128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7636200">
            <a:off x="4471200" y="4214520"/>
            <a:ext cx="304920" cy="866520"/>
          </a:xfrm>
          <a:custGeom>
            <a:avLst/>
            <a:gdLst>
              <a:gd name="textAreaLeft" fmla="*/ 0 w 304920"/>
              <a:gd name="textAreaRight" fmla="*/ 305280 w 30492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528000">
            <a:off x="4723920" y="487656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1278000">
            <a:off x="3886200" y="56383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2656200">
            <a:off x="6629040" y="1981080"/>
            <a:ext cx="609480" cy="762120"/>
          </a:xfrm>
          <a:prstGeom prst="upDownArrow">
            <a:avLst>
              <a:gd name="adj1" fmla="val 50000"/>
              <a:gd name="adj2" fmla="val 24893"/>
            </a:avLst>
          </a:prstGeom>
          <a:solidFill>
            <a:srgbClr val="ff0000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8739200">
            <a:off x="6324480" y="236196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2539400">
            <a:off x="7391160" y="426672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4715000">
            <a:off x="6857640" y="373320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1440" y="1273320"/>
            <a:ext cx="7751880" cy="1036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А в это время флот персов подошел к проливу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между о.Саламином и Аттикой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98720" y="1273320"/>
            <a:ext cx="6971760" cy="1036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Здесь его поджидал флот греков-началось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знаменитое Саламинское сражение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1280" y="4317840"/>
            <a:ext cx="2388960" cy="82548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Фермопильск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сраж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500"/>
                            </p:stCondLst>
                            <p:childTnLst>
                              <p:par>
                                <p:cTn id="5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9" dur="1" fill="hold">
                                    <p:stCondLst>
                                      <p:cond evt="end">
                                        <p:tn val="535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500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evt="end">
                                        <p:tn val="541"/>
                                      </p:cond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1" dur="1" fill="hold">
                                    <p:stCondLst>
                                      <p:cond evt="end">
                                        <p:tn val="547"/>
                                      </p:cond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evt="end">
                                        <p:tn val="553"/>
                                      </p:cond>
                                    </p:stCondLst>
                                  </p:cTn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684360" y="1001880"/>
            <a:ext cx="7848360" cy="57402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4.Битва при Саламин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84680" y="981000"/>
            <a:ext cx="1698480" cy="52056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АТТИК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25800">
            <a:off x="685800" y="5029200"/>
            <a:ext cx="2058840" cy="52056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.Саламин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373392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7960" y="3114720"/>
            <a:ext cx="2001960" cy="520560"/>
          </a:xfrm>
          <a:prstGeom prst="rect">
            <a:avLst/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Фемистокл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675400" y="2565360"/>
            <a:ext cx="2209680" cy="1936800"/>
            <a:chOff x="5675400" y="2565360"/>
            <a:chExt cx="2209680" cy="1936800"/>
          </a:xfrm>
        </p:grpSpPr>
        <p:pic>
          <p:nvPicPr>
            <p:cNvPr id="554" name="" descr=""/>
            <p:cNvPicPr/>
            <p:nvPr/>
          </p:nvPicPr>
          <p:blipFill>
            <a:blip r:embed="rId2"/>
            <a:stretch/>
          </p:blipFill>
          <p:spPr>
            <a:xfrm>
              <a:off x="5675400" y="256536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3"/>
            <a:stretch/>
          </p:blipFill>
          <p:spPr>
            <a:xfrm>
              <a:off x="5891040" y="278136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4"/>
            <a:stretch/>
          </p:blipFill>
          <p:spPr>
            <a:xfrm>
              <a:off x="6107040" y="299736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5"/>
            <a:stretch/>
          </p:blipFill>
          <p:spPr>
            <a:xfrm>
              <a:off x="6323040" y="321300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" descr=""/>
            <p:cNvPicPr/>
            <p:nvPr/>
          </p:nvPicPr>
          <p:blipFill>
            <a:blip r:embed="rId6"/>
            <a:stretch/>
          </p:blipFill>
          <p:spPr>
            <a:xfrm>
              <a:off x="6539040" y="342900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" descr=""/>
            <p:cNvPicPr/>
            <p:nvPr/>
          </p:nvPicPr>
          <p:blipFill>
            <a:blip r:embed="rId7"/>
            <a:stretch/>
          </p:blipFill>
          <p:spPr>
            <a:xfrm>
              <a:off x="6754680" y="364500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8"/>
            <a:stretch/>
          </p:blipFill>
          <p:spPr>
            <a:xfrm>
              <a:off x="6970680" y="3860640"/>
              <a:ext cx="914400" cy="64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"/>
          <p:cNvGrpSpPr/>
          <p:nvPr/>
        </p:nvGrpSpPr>
        <p:grpSpPr>
          <a:xfrm>
            <a:off x="5386320" y="2852640"/>
            <a:ext cx="2209680" cy="1936800"/>
            <a:chOff x="5386320" y="2852640"/>
            <a:chExt cx="2209680" cy="1936800"/>
          </a:xfrm>
        </p:grpSpPr>
        <p:pic>
          <p:nvPicPr>
            <p:cNvPr id="562" name="" descr=""/>
            <p:cNvPicPr/>
            <p:nvPr/>
          </p:nvPicPr>
          <p:blipFill>
            <a:blip r:embed="rId9"/>
            <a:stretch/>
          </p:blipFill>
          <p:spPr>
            <a:xfrm>
              <a:off x="5386320" y="285264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10"/>
            <a:stretch/>
          </p:blipFill>
          <p:spPr>
            <a:xfrm>
              <a:off x="5601960" y="306864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11"/>
            <a:stretch/>
          </p:blipFill>
          <p:spPr>
            <a:xfrm>
              <a:off x="5817960" y="328464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12"/>
            <a:stretch/>
          </p:blipFill>
          <p:spPr>
            <a:xfrm>
              <a:off x="6033960" y="350028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13"/>
            <a:stretch/>
          </p:blipFill>
          <p:spPr>
            <a:xfrm>
              <a:off x="6249960" y="371628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14"/>
            <a:stretch/>
          </p:blipFill>
          <p:spPr>
            <a:xfrm>
              <a:off x="6465600" y="393228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15"/>
            <a:stretch/>
          </p:blipFill>
          <p:spPr>
            <a:xfrm>
              <a:off x="6681600" y="4147920"/>
              <a:ext cx="914400" cy="64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"/>
          <p:cNvGrpSpPr/>
          <p:nvPr/>
        </p:nvGrpSpPr>
        <p:grpSpPr>
          <a:xfrm>
            <a:off x="5148360" y="3141720"/>
            <a:ext cx="2209680" cy="1936800"/>
            <a:chOff x="5148360" y="3141720"/>
            <a:chExt cx="2209680" cy="1936800"/>
          </a:xfrm>
        </p:grpSpPr>
        <p:pic>
          <p:nvPicPr>
            <p:cNvPr id="570" name="" descr=""/>
            <p:cNvPicPr/>
            <p:nvPr/>
          </p:nvPicPr>
          <p:blipFill>
            <a:blip r:embed="rId16"/>
            <a:stretch/>
          </p:blipFill>
          <p:spPr>
            <a:xfrm>
              <a:off x="5148360" y="314172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17"/>
            <a:stretch/>
          </p:blipFill>
          <p:spPr>
            <a:xfrm>
              <a:off x="5364000" y="335772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18"/>
            <a:stretch/>
          </p:blipFill>
          <p:spPr>
            <a:xfrm>
              <a:off x="5580000" y="357372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19"/>
            <a:stretch/>
          </p:blipFill>
          <p:spPr>
            <a:xfrm>
              <a:off x="5796000" y="378936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20"/>
            <a:stretch/>
          </p:blipFill>
          <p:spPr>
            <a:xfrm>
              <a:off x="6012000" y="400536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21"/>
            <a:stretch/>
          </p:blipFill>
          <p:spPr>
            <a:xfrm>
              <a:off x="6227640" y="422136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22"/>
            <a:stretch/>
          </p:blipFill>
          <p:spPr>
            <a:xfrm>
              <a:off x="6443640" y="4437000"/>
              <a:ext cx="914400" cy="64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7" name=""/>
          <p:cNvGrpSpPr/>
          <p:nvPr/>
        </p:nvGrpSpPr>
        <p:grpSpPr>
          <a:xfrm>
            <a:off x="7186680" y="5524560"/>
            <a:ext cx="1346040" cy="1073160"/>
            <a:chOff x="7186680" y="5524560"/>
            <a:chExt cx="1346040" cy="1073160"/>
          </a:xfrm>
        </p:grpSpPr>
        <p:pic>
          <p:nvPicPr>
            <p:cNvPr id="578" name="" descr=""/>
            <p:cNvPicPr/>
            <p:nvPr/>
          </p:nvPicPr>
          <p:blipFill>
            <a:blip r:embed="rId23"/>
            <a:stretch/>
          </p:blipFill>
          <p:spPr>
            <a:xfrm>
              <a:off x="7186680" y="552456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24"/>
            <a:stretch/>
          </p:blipFill>
          <p:spPr>
            <a:xfrm>
              <a:off x="7402680" y="574056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25"/>
            <a:stretch/>
          </p:blipFill>
          <p:spPr>
            <a:xfrm>
              <a:off x="7618320" y="5956200"/>
              <a:ext cx="914400" cy="64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"/>
          <p:cNvGrpSpPr/>
          <p:nvPr/>
        </p:nvGrpSpPr>
        <p:grpSpPr>
          <a:xfrm>
            <a:off x="5508720" y="4724280"/>
            <a:ext cx="1562040" cy="1289160"/>
            <a:chOff x="5508720" y="4724280"/>
            <a:chExt cx="1562040" cy="1289160"/>
          </a:xfrm>
        </p:grpSpPr>
        <p:pic>
          <p:nvPicPr>
            <p:cNvPr id="582" name="" descr=""/>
            <p:cNvPicPr/>
            <p:nvPr/>
          </p:nvPicPr>
          <p:blipFill>
            <a:blip r:embed="rId26"/>
            <a:stretch/>
          </p:blipFill>
          <p:spPr>
            <a:xfrm>
              <a:off x="5508720" y="472428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" descr=""/>
            <p:cNvPicPr/>
            <p:nvPr/>
          </p:nvPicPr>
          <p:blipFill>
            <a:blip r:embed="rId27"/>
            <a:stretch/>
          </p:blipFill>
          <p:spPr>
            <a:xfrm>
              <a:off x="5724360" y="494028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" descr=""/>
            <p:cNvPicPr/>
            <p:nvPr/>
          </p:nvPicPr>
          <p:blipFill>
            <a:blip r:embed="rId28"/>
            <a:stretch/>
          </p:blipFill>
          <p:spPr>
            <a:xfrm>
              <a:off x="5940360" y="515628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29"/>
            <a:stretch/>
          </p:blipFill>
          <p:spPr>
            <a:xfrm>
              <a:off x="6156360" y="5372280"/>
              <a:ext cx="914400" cy="64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6" name=""/>
          <p:cNvGrpSpPr/>
          <p:nvPr/>
        </p:nvGrpSpPr>
        <p:grpSpPr>
          <a:xfrm>
            <a:off x="2484360" y="3429000"/>
            <a:ext cx="2154240" cy="1927080"/>
            <a:chOff x="2484360" y="3429000"/>
            <a:chExt cx="2154240" cy="1927080"/>
          </a:xfrm>
        </p:grpSpPr>
        <p:pic>
          <p:nvPicPr>
            <p:cNvPr id="587" name="" descr=""/>
            <p:cNvPicPr/>
            <p:nvPr/>
          </p:nvPicPr>
          <p:blipFill>
            <a:blip r:embed="rId30"/>
            <a:stretch/>
          </p:blipFill>
          <p:spPr>
            <a:xfrm>
              <a:off x="2484360" y="342900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31"/>
            <a:stretch/>
          </p:blipFill>
          <p:spPr>
            <a:xfrm>
              <a:off x="2700360" y="364500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32"/>
            <a:stretch/>
          </p:blipFill>
          <p:spPr>
            <a:xfrm>
              <a:off x="2916360" y="386064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33"/>
            <a:stretch/>
          </p:blipFill>
          <p:spPr>
            <a:xfrm>
              <a:off x="3132000" y="407664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34"/>
            <a:stretch/>
          </p:blipFill>
          <p:spPr>
            <a:xfrm>
              <a:off x="3348000" y="429264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5"/>
            <a:stretch/>
          </p:blipFill>
          <p:spPr>
            <a:xfrm>
              <a:off x="3564000" y="4508640"/>
              <a:ext cx="1074600" cy="84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"/>
          <p:cNvSpPr/>
          <p:nvPr/>
        </p:nvSpPr>
        <p:spPr>
          <a:xfrm>
            <a:off x="5029200" y="1676520"/>
            <a:ext cx="91440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12520" y="1905120"/>
            <a:ext cx="131148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Ксерк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34560" y="907920"/>
            <a:ext cx="7399800" cy="103608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Битва при Саламине состоялась 27 сентябр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480 г до н.э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47520" y="907920"/>
            <a:ext cx="5577120" cy="103608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У персов было 800 кораблей ,рас-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положенных тремя группами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73200" y="907920"/>
            <a:ext cx="6125760" cy="52056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У греков-200,построенных в 2 линии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14600" y="907920"/>
            <a:ext cx="6041880" cy="10360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Фемистокл отдал приказ отаковать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левый фланг персов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348000" y="3429000"/>
            <a:ext cx="2154240" cy="1927080"/>
            <a:chOff x="3348000" y="3429000"/>
            <a:chExt cx="2154240" cy="1927080"/>
          </a:xfrm>
        </p:grpSpPr>
        <p:pic>
          <p:nvPicPr>
            <p:cNvPr id="600" name="" descr=""/>
            <p:cNvPicPr/>
            <p:nvPr/>
          </p:nvPicPr>
          <p:blipFill>
            <a:blip r:embed="rId40"/>
            <a:stretch/>
          </p:blipFill>
          <p:spPr>
            <a:xfrm>
              <a:off x="3348000" y="342900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41"/>
            <a:stretch/>
          </p:blipFill>
          <p:spPr>
            <a:xfrm>
              <a:off x="3564000" y="364500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42"/>
            <a:stretch/>
          </p:blipFill>
          <p:spPr>
            <a:xfrm>
              <a:off x="3780000" y="386064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43"/>
            <a:stretch/>
          </p:blipFill>
          <p:spPr>
            <a:xfrm>
              <a:off x="3995640" y="407664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44"/>
            <a:stretch/>
          </p:blipFill>
          <p:spPr>
            <a:xfrm>
              <a:off x="4211640" y="429264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45"/>
            <a:stretch/>
          </p:blipFill>
          <p:spPr>
            <a:xfrm>
              <a:off x="4427640" y="4508640"/>
              <a:ext cx="1074600" cy="84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6" name=""/>
          <p:cNvSpPr/>
          <p:nvPr/>
        </p:nvSpPr>
        <p:spPr>
          <a:xfrm>
            <a:off x="735480" y="981000"/>
            <a:ext cx="7672680" cy="1551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Греческие корабли таранили персидские, а те,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прижатые друг к другу,не могли разогнатьс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и не причиняли грекам никакого вред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1320" y="907920"/>
            <a:ext cx="7744320" cy="1551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Вскоре персов атаковали греческий центр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и  правый фланг.Персы в панике двинулись к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проливам ,забитым своими же судами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7.40741E-007 C 0.00174 -0.04144 0.00209 -0.08264 0.01164 -0.1132 C 0.01424 -0.13657 0.01424 -0.14306 0.02205 -0.15116 C 0.02726 -0.17685 0.02344 -0.16574 0.03559 -0.17824 C 0.03716 -0.18009 0.04063 -0.18357 0.04063 -0.1831 C 0.06528 -0.23495 0.10921 -0.18056 0.13907 -0.16759 C 0.15 -0.15625 0.14931 -0.16852 0.14931 -0.15116 E">
                                      <p:cBhvr>
                                        <p:cTn id="585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09445 E">
                                      <p:cBhvr>
                                        <p:cTn id="594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09445 E">
                                      <p:cBhvr>
                                        <p:cTn id="596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09445 E">
                                      <p:cBhvr>
                                        <p:cTn id="598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31 -0.15115 L 0.25955 -0.05648 E">
                                      <p:cBhvr>
                                        <p:cTn id="60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C 0.01076 -0.00509 0.01753 -0.00625 0.02986 -0.0081 C 0.04184 -0.01343 0.05399 -0.01875 0.06597 -0.02407 C 0.06996 -0.02593 0.07395 -0.02755 0.07795 -0.0294 C 0.08003 -0.03032 0.08402 -0.03194 0.08402 -0.03194 C 0.10329 -0.03102 0.12274 -0.03102 0.14201 -0.0294 C 0.16145 -0.02778 0.17986 -0.01042 0.19791 -0.00278 C 0.20399 0.00255 0.2092 0.00995 0.21597 0.01319 C 0.22795 0.01875 0.23993 0.02384 0.25191 0.0294 C 0.25642 0.03843 0.26128 0.04259 0.26996 0.04259 E">
                                      <p:cBhvr>
                                        <p:cTn id="611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4.Битва при Саламин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30592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Греческие корабли таранят персидские галеры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977080" cy="29318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684360" y="1001880"/>
            <a:ext cx="7848360" cy="57402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4.Битва при Саламин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65480" y="1447920"/>
            <a:ext cx="1698480" cy="52056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АТТИК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029200" y="1676520"/>
            <a:ext cx="91440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212520" y="1905120"/>
            <a:ext cx="131148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Ксерк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25800">
            <a:off x="685800" y="5029200"/>
            <a:ext cx="2058840" cy="52056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.Саламин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373392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77960" y="3114720"/>
            <a:ext cx="2001960" cy="520560"/>
          </a:xfrm>
          <a:prstGeom prst="rect">
            <a:avLst/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Фемистокл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7186680" y="5524560"/>
            <a:ext cx="1346040" cy="1073160"/>
            <a:chOff x="7186680" y="5524560"/>
            <a:chExt cx="1346040" cy="1073160"/>
          </a:xfrm>
        </p:grpSpPr>
        <p:pic>
          <p:nvPicPr>
            <p:cNvPr id="620" name="" descr=""/>
            <p:cNvPicPr/>
            <p:nvPr/>
          </p:nvPicPr>
          <p:blipFill>
            <a:blip r:embed="rId2"/>
            <a:stretch/>
          </p:blipFill>
          <p:spPr>
            <a:xfrm>
              <a:off x="7186680" y="552456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3"/>
            <a:stretch/>
          </p:blipFill>
          <p:spPr>
            <a:xfrm>
              <a:off x="7402680" y="574056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4"/>
            <a:stretch/>
          </p:blipFill>
          <p:spPr>
            <a:xfrm>
              <a:off x="7618320" y="5956200"/>
              <a:ext cx="914400" cy="64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"/>
          <p:cNvGrpSpPr/>
          <p:nvPr/>
        </p:nvGrpSpPr>
        <p:grpSpPr>
          <a:xfrm>
            <a:off x="5508720" y="4724280"/>
            <a:ext cx="1562040" cy="1289160"/>
            <a:chOff x="5508720" y="4724280"/>
            <a:chExt cx="1562040" cy="1289160"/>
          </a:xfrm>
        </p:grpSpPr>
        <p:pic>
          <p:nvPicPr>
            <p:cNvPr id="624" name="" descr=""/>
            <p:cNvPicPr/>
            <p:nvPr/>
          </p:nvPicPr>
          <p:blipFill>
            <a:blip r:embed="rId5"/>
            <a:stretch/>
          </p:blipFill>
          <p:spPr>
            <a:xfrm>
              <a:off x="5508720" y="472428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6"/>
            <a:stretch/>
          </p:blipFill>
          <p:spPr>
            <a:xfrm>
              <a:off x="5724360" y="4940280"/>
              <a:ext cx="91440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7"/>
            <a:stretch/>
          </p:blipFill>
          <p:spPr>
            <a:xfrm>
              <a:off x="5940360" y="5156280"/>
              <a:ext cx="91440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8"/>
            <a:stretch/>
          </p:blipFill>
          <p:spPr>
            <a:xfrm>
              <a:off x="6156360" y="5372280"/>
              <a:ext cx="914400" cy="64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"/>
          <p:cNvGrpSpPr/>
          <p:nvPr/>
        </p:nvGrpSpPr>
        <p:grpSpPr>
          <a:xfrm>
            <a:off x="5730840" y="3230640"/>
            <a:ext cx="2154240" cy="1927080"/>
            <a:chOff x="5730840" y="3230640"/>
            <a:chExt cx="2154240" cy="1927080"/>
          </a:xfrm>
        </p:grpSpPr>
        <p:pic>
          <p:nvPicPr>
            <p:cNvPr id="629" name="" descr=""/>
            <p:cNvPicPr/>
            <p:nvPr/>
          </p:nvPicPr>
          <p:blipFill>
            <a:blip r:embed="rId9"/>
            <a:stretch/>
          </p:blipFill>
          <p:spPr>
            <a:xfrm>
              <a:off x="5730840" y="323064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10"/>
            <a:stretch/>
          </p:blipFill>
          <p:spPr>
            <a:xfrm>
              <a:off x="5946840" y="344664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11"/>
            <a:stretch/>
          </p:blipFill>
          <p:spPr>
            <a:xfrm>
              <a:off x="6162840" y="366228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12"/>
            <a:stretch/>
          </p:blipFill>
          <p:spPr>
            <a:xfrm>
              <a:off x="6378480" y="387828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13"/>
            <a:stretch/>
          </p:blipFill>
          <p:spPr>
            <a:xfrm>
              <a:off x="6594480" y="409428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14"/>
            <a:stretch/>
          </p:blipFill>
          <p:spPr>
            <a:xfrm>
              <a:off x="6810480" y="4310280"/>
              <a:ext cx="1074600" cy="84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"/>
          <p:cNvGrpSpPr/>
          <p:nvPr/>
        </p:nvGrpSpPr>
        <p:grpSpPr>
          <a:xfrm>
            <a:off x="4859280" y="3141720"/>
            <a:ext cx="2154240" cy="1927080"/>
            <a:chOff x="4859280" y="3141720"/>
            <a:chExt cx="2154240" cy="1927080"/>
          </a:xfrm>
        </p:grpSpPr>
        <p:pic>
          <p:nvPicPr>
            <p:cNvPr id="636" name="" descr=""/>
            <p:cNvPicPr/>
            <p:nvPr/>
          </p:nvPicPr>
          <p:blipFill>
            <a:blip r:embed="rId15"/>
            <a:stretch/>
          </p:blipFill>
          <p:spPr>
            <a:xfrm>
              <a:off x="4859280" y="314172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16"/>
            <a:stretch/>
          </p:blipFill>
          <p:spPr>
            <a:xfrm>
              <a:off x="5075280" y="335772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17"/>
            <a:stretch/>
          </p:blipFill>
          <p:spPr>
            <a:xfrm>
              <a:off x="5291280" y="357336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18"/>
            <a:stretch/>
          </p:blipFill>
          <p:spPr>
            <a:xfrm>
              <a:off x="5506920" y="378936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19"/>
            <a:stretch/>
          </p:blipFill>
          <p:spPr>
            <a:xfrm>
              <a:off x="5722920" y="400536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20"/>
            <a:stretch/>
          </p:blipFill>
          <p:spPr>
            <a:xfrm>
              <a:off x="5938920" y="4221360"/>
              <a:ext cx="1074600" cy="847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1.85185E-006 L 0.04723 0.12593 E">
                                      <p:cBhvr>
                                        <p:cTn id="618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5.18519E-006 L 0.01581 0.13658 E">
                                      <p:cBhvr>
                                        <p:cTn id="620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684360" y="1001880"/>
            <a:ext cx="7848360" cy="57402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4.Битва при Саламин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65480" y="1447920"/>
            <a:ext cx="1698480" cy="52056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АТТИК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1676520"/>
            <a:ext cx="91440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212520" y="1905120"/>
            <a:ext cx="131148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Ксерк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25800">
            <a:off x="685800" y="5029200"/>
            <a:ext cx="2058840" cy="52056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.Саламин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" y="373392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77960" y="3114720"/>
            <a:ext cx="2001960" cy="520560"/>
          </a:xfrm>
          <a:prstGeom prst="rect">
            <a:avLst/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Фемистокл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6120" y="981000"/>
            <a:ext cx="8093160" cy="1036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В итоге этой грандиозной битвы персы потеряли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более 200 кораблей, а греки-только 40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5508720" y="5524560"/>
            <a:ext cx="914400" cy="6411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7524720" y="6216480"/>
            <a:ext cx="914400" cy="6415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4643280" y="6027840"/>
            <a:ext cx="914400" cy="64116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6305400" y="3807000"/>
            <a:ext cx="2154240" cy="1927080"/>
            <a:chOff x="6305400" y="3807000"/>
            <a:chExt cx="2154240" cy="1927080"/>
          </a:xfrm>
        </p:grpSpPr>
        <p:pic>
          <p:nvPicPr>
            <p:cNvPr id="655" name="" descr=""/>
            <p:cNvPicPr/>
            <p:nvPr/>
          </p:nvPicPr>
          <p:blipFill>
            <a:blip r:embed="rId6"/>
            <a:stretch/>
          </p:blipFill>
          <p:spPr>
            <a:xfrm>
              <a:off x="6305400" y="380700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7"/>
            <a:stretch/>
          </p:blipFill>
          <p:spPr>
            <a:xfrm>
              <a:off x="6521400" y="402300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8"/>
            <a:stretch/>
          </p:blipFill>
          <p:spPr>
            <a:xfrm>
              <a:off x="6737400" y="423864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9"/>
            <a:stretch/>
          </p:blipFill>
          <p:spPr>
            <a:xfrm>
              <a:off x="6953040" y="445464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10"/>
            <a:stretch/>
          </p:blipFill>
          <p:spPr>
            <a:xfrm>
              <a:off x="7169040" y="467064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11"/>
            <a:stretch/>
          </p:blipFill>
          <p:spPr>
            <a:xfrm>
              <a:off x="7385040" y="4886640"/>
              <a:ext cx="1074600" cy="84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1" name=""/>
          <p:cNvGrpSpPr/>
          <p:nvPr/>
        </p:nvGrpSpPr>
        <p:grpSpPr>
          <a:xfrm>
            <a:off x="4865760" y="3878280"/>
            <a:ext cx="2154240" cy="1927080"/>
            <a:chOff x="4865760" y="3878280"/>
            <a:chExt cx="2154240" cy="1927080"/>
          </a:xfrm>
        </p:grpSpPr>
        <p:pic>
          <p:nvPicPr>
            <p:cNvPr id="662" name="" descr=""/>
            <p:cNvPicPr/>
            <p:nvPr/>
          </p:nvPicPr>
          <p:blipFill>
            <a:blip r:embed="rId12"/>
            <a:stretch/>
          </p:blipFill>
          <p:spPr>
            <a:xfrm>
              <a:off x="4865760" y="387828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13"/>
            <a:stretch/>
          </p:blipFill>
          <p:spPr>
            <a:xfrm>
              <a:off x="5081760" y="409428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14"/>
            <a:stretch/>
          </p:blipFill>
          <p:spPr>
            <a:xfrm>
              <a:off x="5297760" y="430992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15"/>
            <a:stretch/>
          </p:blipFill>
          <p:spPr>
            <a:xfrm>
              <a:off x="5513400" y="4525920"/>
              <a:ext cx="107496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16"/>
            <a:stretch/>
          </p:blipFill>
          <p:spPr>
            <a:xfrm>
              <a:off x="5729400" y="4741920"/>
              <a:ext cx="10746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17"/>
            <a:stretch/>
          </p:blipFill>
          <p:spPr>
            <a:xfrm>
              <a:off x="5945400" y="4957920"/>
              <a:ext cx="1074600" cy="847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50920" y="1104840"/>
            <a:ext cx="8653320" cy="575316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3452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5b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Битва при Саламин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13002600">
            <a:off x="6400800" y="297144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11029800">
            <a:off x="6172200" y="205668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11760600">
            <a:off x="5333400" y="175176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0215000">
            <a:off x="4419360" y="167616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15437400">
            <a:off x="2815560" y="1892160"/>
            <a:ext cx="486000" cy="904680"/>
          </a:xfrm>
          <a:custGeom>
            <a:avLst/>
            <a:gdLst>
              <a:gd name="textAreaLeft" fmla="*/ 360 w 486000"/>
              <a:gd name="textAreaRight" fmla="*/ 486720 w 4860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8464200">
            <a:off x="2514240" y="3352320"/>
            <a:ext cx="485640" cy="1067040"/>
          </a:xfrm>
          <a:custGeom>
            <a:avLst/>
            <a:gdLst>
              <a:gd name="textAreaLeft" fmla="*/ 0 w 485640"/>
              <a:gd name="textAreaRight" fmla="*/ 486000 w 4856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6561000">
            <a:off x="2209320" y="289548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2480400">
            <a:off x="2895120" y="449532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2869800">
            <a:off x="3428640" y="4952880"/>
            <a:ext cx="717480" cy="412920"/>
          </a:xfrm>
          <a:custGeom>
            <a:avLst/>
            <a:gdLst>
              <a:gd name="textAreaLeft" fmla="*/ 0 w 717480"/>
              <a:gd name="textAreaRight" fmla="*/ 717480 w 71748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rot="14649000">
            <a:off x="3790080" y="1771560"/>
            <a:ext cx="486000" cy="905040"/>
          </a:xfrm>
          <a:custGeom>
            <a:avLst/>
            <a:gdLst>
              <a:gd name="textAreaLeft" fmla="*/ 360 w 486000"/>
              <a:gd name="textAreaRight" fmla="*/ 486720 w 48600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12038400">
            <a:off x="3428280" y="2133360"/>
            <a:ext cx="717480" cy="412560"/>
          </a:xfrm>
          <a:custGeom>
            <a:avLst/>
            <a:gdLst>
              <a:gd name="textAreaLeft" fmla="*/ 0 w 717480"/>
              <a:gd name="textAreaRight" fmla="*/ 717480 w 71748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1280" y="4317840"/>
            <a:ext cx="2388960" cy="82548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Фермопильск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сраж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1428800">
            <a:off x="5104800" y="2056680"/>
            <a:ext cx="1204920" cy="228600"/>
          </a:xfrm>
          <a:custGeom>
            <a:avLst/>
            <a:gdLst>
              <a:gd name="textAreaLeft" fmla="*/ 150480 w 1204920"/>
              <a:gd name="textAreaRight" fmla="*/ 1054440 w 12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9405600">
            <a:off x="4037760" y="2057040"/>
            <a:ext cx="1204920" cy="228600"/>
          </a:xfrm>
          <a:custGeom>
            <a:avLst/>
            <a:gdLst>
              <a:gd name="textAreaLeft" fmla="*/ 150480 w 1204920"/>
              <a:gd name="textAreaRight" fmla="*/ 1054440 w 12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8989200">
            <a:off x="4114440" y="2590560"/>
            <a:ext cx="380880" cy="838080"/>
          </a:xfrm>
          <a:prstGeom prst="uturnArrow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7201800">
            <a:off x="3618720" y="2628720"/>
            <a:ext cx="304920" cy="990360"/>
          </a:xfrm>
          <a:custGeom>
            <a:avLst/>
            <a:gdLst>
              <a:gd name="textAreaLeft" fmla="*/ 40680 w 304920"/>
              <a:gd name="textAreaRight" fmla="*/ 264240 w 30492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rot="8024400">
            <a:off x="3161520" y="2171520"/>
            <a:ext cx="304920" cy="990360"/>
          </a:xfrm>
          <a:custGeom>
            <a:avLst/>
            <a:gdLst>
              <a:gd name="textAreaLeft" fmla="*/ 40680 w 304920"/>
              <a:gd name="textAreaRight" fmla="*/ 264240 w 30492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rot="20142600">
            <a:off x="3200400" y="2361960"/>
            <a:ext cx="228600" cy="1357200"/>
          </a:xfrm>
          <a:prstGeom prst="downArrow">
            <a:avLst>
              <a:gd name="adj1" fmla="val 50000"/>
              <a:gd name="adj2" fmla="val 148425"/>
            </a:avLst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19076400">
            <a:off x="3733560" y="358128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7636200">
            <a:off x="4471200" y="4214520"/>
            <a:ext cx="304920" cy="866520"/>
          </a:xfrm>
          <a:custGeom>
            <a:avLst/>
            <a:gdLst>
              <a:gd name="textAreaLeft" fmla="*/ 0 w 304920"/>
              <a:gd name="textAreaRight" fmla="*/ 305280 w 30492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528000">
            <a:off x="4723920" y="487656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278000">
            <a:off x="3886200" y="56383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 rot="563400">
            <a:off x="4343400" y="594324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20515800">
            <a:off x="5029200" y="60199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21481800">
            <a:off x="5715000" y="579024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20603400">
            <a:off x="6552720" y="57139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2646000">
            <a:off x="3619080" y="5594040"/>
            <a:ext cx="838440" cy="228240"/>
          </a:xfrm>
          <a:prstGeom prst="rightArrow">
            <a:avLst>
              <a:gd name="adj1" fmla="val 50000"/>
              <a:gd name="adj2" fmla="val 91838"/>
            </a:avLst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5334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2656200">
            <a:off x="6629040" y="1981080"/>
            <a:ext cx="609480" cy="762120"/>
          </a:xfrm>
          <a:prstGeom prst="upDownArrow">
            <a:avLst>
              <a:gd name="adj1" fmla="val 50000"/>
              <a:gd name="adj2" fmla="val 24893"/>
            </a:avLst>
          </a:prstGeom>
          <a:solidFill>
            <a:srgbClr val="ff0000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rot="18739200">
            <a:off x="6324480" y="236196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12539400">
            <a:off x="7391160" y="426672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4715000">
            <a:off x="6857640" y="373320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9240" y="1370160"/>
            <a:ext cx="8404200" cy="155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После поражения Ксеркс покинул Грецию,оставив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там часть армии.Через год и она была разбит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Так Греция отстояла свою независимость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21360" y="5445000"/>
            <a:ext cx="1619280" cy="82548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итва пр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аламин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5b"/>
                </a:solidFill>
                <a:latin typeface="Times New Roman"/>
              </a:rPr>
              <a:t>1.Подготовка греков к войне с персами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5b"/>
                </a:solidFill>
                <a:latin typeface="Times New Roman"/>
              </a:rPr>
              <a:t>2.Вторжение персов в Элладу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5b"/>
                </a:solidFill>
                <a:latin typeface="Times New Roman"/>
              </a:rPr>
              <a:t>3.Фермопильское сражение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5b"/>
                </a:solidFill>
                <a:latin typeface="Times New Roman"/>
              </a:rPr>
              <a:t>4.Битва при Саламине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3557520"/>
          <a:ext cx="7772400" cy="29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57520"/>
                    <a:ext cx="7772400" cy="29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073520" y="2133720"/>
            <a:ext cx="6971760" cy="1036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b"/>
                </a:solidFill>
                <a:latin typeface="Times New Roman"/>
              </a:rPr>
              <a:t>Сравните  3 битвы.Что между ними было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b"/>
                </a:solidFill>
                <a:latin typeface="Times New Roman"/>
              </a:rPr>
              <a:t>общего, в чем было различие</a:t>
            </a:r>
            <a:r>
              <a:rPr b="1" lang="en-US" sz="2800" spc="-1" strike="noStrike">
                <a:solidFill>
                  <a:srgbClr val="00005b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Подготовка греков к войне с персами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43400" y="1295280"/>
            <a:ext cx="4495680" cy="556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После Марафонской бит-вы угроза со стороны Персии сохранялась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Это прекрасно понимал Фемистокл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По его предложению афи-няне построили флот в 200 триер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Благодаря Фемистоклу 30 эллинских государств  создали союз против персов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971640" y="1373040"/>
            <a:ext cx="3112920" cy="41436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1188360" y="5516640"/>
            <a:ext cx="2626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Фемистокл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Древнегреческая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скульптур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104840"/>
            <a:ext cx="8653320" cy="57531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.Вторжение персов в Элладу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2539400">
            <a:off x="7391160" y="426672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4715000">
            <a:off x="6857640" y="373320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3002600">
            <a:off x="6400800" y="297144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656200">
            <a:off x="6629040" y="1981080"/>
            <a:ext cx="609480" cy="762120"/>
          </a:xfrm>
          <a:prstGeom prst="upDownArrow">
            <a:avLst>
              <a:gd name="adj1" fmla="val 50000"/>
              <a:gd name="adj2" fmla="val 2489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8739200">
            <a:off x="6324480" y="236196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6640" y="5724360"/>
            <a:ext cx="8085600" cy="1036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В 480 году до н.э. Царь Ксеркс повел свои войск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на Элладу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5800" y="5724360"/>
            <a:ext cx="8486640" cy="1036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При переправе через Босфор мост разметало бур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Строителям отрубили головы , море - высекли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9000" y="5724360"/>
            <a:ext cx="8806680" cy="1036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Новые строители построили новый мост, и началась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переправа,продолжавшаяся 7 дней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0920" y="1104840"/>
            <a:ext cx="8653320" cy="57531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.Вторжение персов в Элладу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3002600">
            <a:off x="6400800" y="297144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1029800">
            <a:off x="6172200" y="205668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1760600">
            <a:off x="5333400" y="175176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215000">
            <a:off x="4419360" y="167616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5437400">
            <a:off x="2815560" y="1892160"/>
            <a:ext cx="486000" cy="904680"/>
          </a:xfrm>
          <a:custGeom>
            <a:avLst/>
            <a:gdLst>
              <a:gd name="textAreaLeft" fmla="*/ 360 w 486000"/>
              <a:gd name="textAreaRight" fmla="*/ 486720 w 4860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8464200">
            <a:off x="2514240" y="3352320"/>
            <a:ext cx="485640" cy="1067040"/>
          </a:xfrm>
          <a:custGeom>
            <a:avLst/>
            <a:gdLst>
              <a:gd name="textAreaLeft" fmla="*/ 0 w 485640"/>
              <a:gd name="textAreaRight" fmla="*/ 486000 w 4856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6561000">
            <a:off x="2209320" y="289548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rot="14649000">
            <a:off x="3790080" y="1771560"/>
            <a:ext cx="486000" cy="905040"/>
          </a:xfrm>
          <a:custGeom>
            <a:avLst/>
            <a:gdLst>
              <a:gd name="textAreaLeft" fmla="*/ 360 w 486000"/>
              <a:gd name="textAreaRight" fmla="*/ 486720 w 48600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2038400">
            <a:off x="3428280" y="2133360"/>
            <a:ext cx="717480" cy="412560"/>
          </a:xfrm>
          <a:custGeom>
            <a:avLst/>
            <a:gdLst>
              <a:gd name="textAreaLeft" fmla="*/ 0 w 717480"/>
              <a:gd name="textAreaRight" fmla="*/ 717480 w 71748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656200">
            <a:off x="6629040" y="1981080"/>
            <a:ext cx="609480" cy="762120"/>
          </a:xfrm>
          <a:prstGeom prst="upDownArrow">
            <a:avLst>
              <a:gd name="adj1" fmla="val 50000"/>
              <a:gd name="adj2" fmla="val 24893"/>
            </a:avLst>
          </a:prstGeom>
          <a:solidFill>
            <a:srgbClr val="ff0000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4191120"/>
            <a:ext cx="457200" cy="380880"/>
          </a:xfrm>
          <a:custGeom>
            <a:avLst/>
            <a:gdLst>
              <a:gd name="textAreaLeft" fmla="*/ 104400 w 457200"/>
              <a:gd name="textAreaRight" fmla="*/ 352800 w 4572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8739200">
            <a:off x="6324480" y="236196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2539400">
            <a:off x="7391160" y="4266720"/>
            <a:ext cx="990360" cy="228600"/>
          </a:xfrm>
          <a:custGeom>
            <a:avLst/>
            <a:gdLst>
              <a:gd name="textAreaLeft" fmla="*/ 154800 w 990360"/>
              <a:gd name="textAreaRight" fmla="*/ 866880 w 9903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4715000">
            <a:off x="6857640" y="373320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371600"/>
            <a:ext cx="7832880" cy="155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Армия персов вторглась в Северную Грецию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За ней шел огромный обоз с продовольствие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Вдоль берега шел огромный флот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62800" y="1371600"/>
            <a:ext cx="700524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Над Грецией нависла смертельная угроз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9160" y="1295280"/>
            <a:ext cx="8032320" cy="1551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Греки решили защищать узкий Фермопильский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проход, который ведет из Северной Греции в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Среднюю Грецию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78720" y="1371600"/>
            <a:ext cx="6688080" cy="1036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Именно здесь разыгралась легендарная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Фермопильская би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1280" y="4317840"/>
            <a:ext cx="2388960" cy="82548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Фермопильск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сражени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44000" cy="6183360"/>
          </a:xfrm>
          <a:prstGeom prst="rect">
            <a:avLst/>
          </a:prstGeom>
          <a:ln w="76320">
            <a:solidFill>
              <a:srgbClr val="350035"/>
            </a:solidFill>
            <a:miter/>
          </a:ln>
        </p:spPr>
      </p:pic>
      <p:grpSp>
        <p:nvGrpSpPr>
          <p:cNvPr id="223" name=""/>
          <p:cNvGrpSpPr/>
          <p:nvPr/>
        </p:nvGrpSpPr>
        <p:grpSpPr>
          <a:xfrm>
            <a:off x="625320" y="3716280"/>
            <a:ext cx="2001960" cy="2305080"/>
            <a:chOff x="625320" y="3716280"/>
            <a:chExt cx="2001960" cy="2305080"/>
          </a:xfrm>
        </p:grpSpPr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625320" y="371628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841320" y="393228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1057320" y="414792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1273320" y="4363920"/>
              <a:ext cx="11379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1488960" y="4579920"/>
              <a:ext cx="113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3276720" y="3860640"/>
            <a:ext cx="2590560" cy="2811600"/>
            <a:chOff x="3276720" y="3860640"/>
            <a:chExt cx="2590560" cy="2811600"/>
          </a:xfrm>
        </p:grpSpPr>
        <p:grpSp>
          <p:nvGrpSpPr>
            <p:cNvPr id="230" name=""/>
            <p:cNvGrpSpPr/>
            <p:nvPr/>
          </p:nvGrpSpPr>
          <p:grpSpPr>
            <a:xfrm>
              <a:off x="3276720" y="3860640"/>
              <a:ext cx="1523880" cy="1731960"/>
              <a:chOff x="3276720" y="3860640"/>
              <a:chExt cx="1523880" cy="1731960"/>
            </a:xfrm>
          </p:grpSpPr>
          <p:pic>
            <p:nvPicPr>
              <p:cNvPr id="23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276720" y="3860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3349800" y="4075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492360" y="4076640"/>
              <a:ext cx="1523880" cy="1731960"/>
              <a:chOff x="3492360" y="4076640"/>
              <a:chExt cx="1523880" cy="1731960"/>
            </a:xfrm>
          </p:grpSpPr>
          <p:pic>
            <p:nvPicPr>
              <p:cNvPr id="23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92360" y="4076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3565440" y="4291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708360" y="4292640"/>
              <a:ext cx="1523880" cy="1731960"/>
              <a:chOff x="3708360" y="4292640"/>
              <a:chExt cx="1523880" cy="1731960"/>
            </a:xfrm>
          </p:grpSpPr>
          <p:pic>
            <p:nvPicPr>
              <p:cNvPr id="23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708360" y="4292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3781440" y="4507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924360" y="4508640"/>
              <a:ext cx="1523880" cy="1731960"/>
              <a:chOff x="3924360" y="4508640"/>
              <a:chExt cx="1523880" cy="173196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924360" y="4508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3997440" y="4723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140360" y="4724280"/>
              <a:ext cx="1523880" cy="1731960"/>
              <a:chOff x="4140360" y="4724280"/>
              <a:chExt cx="1523880" cy="173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140360" y="472428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4213440" y="493884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343400" y="4940280"/>
              <a:ext cx="1523880" cy="1731960"/>
              <a:chOff x="4343400" y="4940280"/>
              <a:chExt cx="1523880" cy="1731960"/>
            </a:xfrm>
          </p:grpSpPr>
          <p:pic>
            <p:nvPicPr>
              <p:cNvPr id="24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343400" y="494028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4416480" y="515484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539640" y="981000"/>
            <a:ext cx="1785960" cy="2089080"/>
            <a:chOff x="539640" y="981000"/>
            <a:chExt cx="1785960" cy="2089080"/>
          </a:xfrm>
        </p:grpSpPr>
        <p:pic>
          <p:nvPicPr>
            <p:cNvPr id="249" name="" descr=""/>
            <p:cNvPicPr/>
            <p:nvPr/>
          </p:nvPicPr>
          <p:blipFill>
            <a:blip r:embed="rId13"/>
            <a:stretch/>
          </p:blipFill>
          <p:spPr>
            <a:xfrm>
              <a:off x="539640" y="98100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4"/>
            <a:stretch/>
          </p:blipFill>
          <p:spPr>
            <a:xfrm>
              <a:off x="755640" y="119700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15"/>
            <a:stretch/>
          </p:blipFill>
          <p:spPr>
            <a:xfrm>
              <a:off x="971640" y="141264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16"/>
            <a:stretch/>
          </p:blipFill>
          <p:spPr>
            <a:xfrm>
              <a:off x="1187640" y="1628640"/>
              <a:ext cx="1137960" cy="144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3.Фермопильское сражени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522160" y="4865760"/>
            <a:ext cx="1281240" cy="1398600"/>
            <a:chOff x="2522160" y="4865760"/>
            <a:chExt cx="1281240" cy="1398600"/>
          </a:xfrm>
        </p:grpSpPr>
        <p:sp>
          <p:nvSpPr>
            <p:cNvPr id="255" name=""/>
            <p:cNvSpPr/>
            <p:nvPr/>
          </p:nvSpPr>
          <p:spPr>
            <a:xfrm rot="17926800">
              <a:off x="2725200" y="5029200"/>
              <a:ext cx="914400" cy="914400"/>
            </a:xfrm>
            <a:prstGeom prst="bracketPair">
              <a:avLst>
                <a:gd name="adj" fmla="val 17129"/>
              </a:avLst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7926800">
              <a:off x="2706120" y="5220720"/>
              <a:ext cx="835200" cy="914400"/>
            </a:xfrm>
            <a:prstGeom prst="bracketPair">
              <a:avLst>
                <a:gd name="adj" fmla="val 17129"/>
              </a:avLst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48760" y="2362320"/>
            <a:ext cx="3260520" cy="51912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алиакский залив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124080"/>
            <a:ext cx="685800" cy="7621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381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74040" y="3124080"/>
            <a:ext cx="131148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Ксерк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85800" y="1143000"/>
          <a:ext cx="1133640" cy="1438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" y="1143000"/>
                    <a:ext cx="113364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5486400" y="4343400"/>
            <a:ext cx="762120" cy="76212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56520" y="4267080"/>
            <a:ext cx="1169640" cy="520560"/>
          </a:xfrm>
          <a:prstGeom prst="rect">
            <a:avLst/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Греки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524040" y="4965840"/>
            <a:ext cx="1258200" cy="735480"/>
            <a:chOff x="3524040" y="4965840"/>
            <a:chExt cx="1258200" cy="735480"/>
          </a:xfrm>
        </p:grpSpPr>
        <p:sp>
          <p:nvSpPr>
            <p:cNvPr id="265" name=""/>
            <p:cNvSpPr/>
            <p:nvPr/>
          </p:nvSpPr>
          <p:spPr>
            <a:xfrm flipH="1" rot="435600">
              <a:off x="3529800" y="5496120"/>
              <a:ext cx="838080" cy="152280"/>
            </a:xfrm>
            <a:prstGeom prst="leftArrow">
              <a:avLst>
                <a:gd name="adj1" fmla="val 50000"/>
                <a:gd name="adj2" fmla="val 137589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435600">
              <a:off x="3937320" y="501804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369440" y="4591080"/>
            <a:ext cx="994680" cy="1027800"/>
            <a:chOff x="1369440" y="4591080"/>
            <a:chExt cx="994680" cy="1027800"/>
          </a:xfrm>
        </p:grpSpPr>
        <p:sp>
          <p:nvSpPr>
            <p:cNvPr id="268" name=""/>
            <p:cNvSpPr/>
            <p:nvPr/>
          </p:nvSpPr>
          <p:spPr>
            <a:xfrm rot="1147200">
              <a:off x="1523880" y="5333400"/>
              <a:ext cx="838080" cy="152280"/>
            </a:xfrm>
            <a:prstGeom prst="leftArrow">
              <a:avLst>
                <a:gd name="adj1" fmla="val 50000"/>
                <a:gd name="adj2" fmla="val 137589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147200">
              <a:off x="1371240" y="472392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369440" y="4591080"/>
            <a:ext cx="994680" cy="1027800"/>
            <a:chOff x="1369440" y="4591080"/>
            <a:chExt cx="994680" cy="1027800"/>
          </a:xfrm>
        </p:grpSpPr>
        <p:sp>
          <p:nvSpPr>
            <p:cNvPr id="271" name=""/>
            <p:cNvSpPr/>
            <p:nvPr/>
          </p:nvSpPr>
          <p:spPr>
            <a:xfrm rot="1147200">
              <a:off x="1523880" y="5333400"/>
              <a:ext cx="838080" cy="152280"/>
            </a:xfrm>
            <a:prstGeom prst="leftArrow">
              <a:avLst>
                <a:gd name="adj1" fmla="val 50000"/>
                <a:gd name="adj2" fmla="val 137589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147200">
              <a:off x="1371240" y="472392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369440" y="4591080"/>
            <a:ext cx="994680" cy="1027800"/>
            <a:chOff x="1369440" y="4591080"/>
            <a:chExt cx="994680" cy="1027800"/>
          </a:xfrm>
        </p:grpSpPr>
        <p:sp>
          <p:nvSpPr>
            <p:cNvPr id="274" name=""/>
            <p:cNvSpPr/>
            <p:nvPr/>
          </p:nvSpPr>
          <p:spPr>
            <a:xfrm rot="1147200">
              <a:off x="1523880" y="5333400"/>
              <a:ext cx="838080" cy="152280"/>
            </a:xfrm>
            <a:prstGeom prst="leftArrow">
              <a:avLst>
                <a:gd name="adj1" fmla="val 50000"/>
                <a:gd name="adj2" fmla="val 137589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147200">
              <a:off x="1371240" y="472392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369440" y="4591080"/>
            <a:ext cx="994680" cy="1027800"/>
            <a:chOff x="1369440" y="4591080"/>
            <a:chExt cx="994680" cy="1027800"/>
          </a:xfrm>
        </p:grpSpPr>
        <p:sp>
          <p:nvSpPr>
            <p:cNvPr id="277" name=""/>
            <p:cNvSpPr/>
            <p:nvPr/>
          </p:nvSpPr>
          <p:spPr>
            <a:xfrm rot="1147200">
              <a:off x="1523880" y="5333400"/>
              <a:ext cx="838080" cy="152280"/>
            </a:xfrm>
            <a:prstGeom prst="leftArrow">
              <a:avLst>
                <a:gd name="adj1" fmla="val 50000"/>
                <a:gd name="adj2" fmla="val 137589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47200">
              <a:off x="1371240" y="472392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369440" y="4591080"/>
            <a:ext cx="994680" cy="1027800"/>
            <a:chOff x="1369440" y="4591080"/>
            <a:chExt cx="994680" cy="1027800"/>
          </a:xfrm>
        </p:grpSpPr>
        <p:sp>
          <p:nvSpPr>
            <p:cNvPr id="280" name=""/>
            <p:cNvSpPr/>
            <p:nvPr/>
          </p:nvSpPr>
          <p:spPr>
            <a:xfrm rot="1147200">
              <a:off x="1523880" y="5333400"/>
              <a:ext cx="838080" cy="152280"/>
            </a:xfrm>
            <a:prstGeom prst="leftArrow">
              <a:avLst>
                <a:gd name="adj1" fmla="val 50000"/>
                <a:gd name="adj2" fmla="val 137589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147200">
              <a:off x="1371240" y="472392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524040" y="4965840"/>
            <a:ext cx="1258200" cy="735480"/>
            <a:chOff x="3524040" y="4965840"/>
            <a:chExt cx="1258200" cy="735480"/>
          </a:xfrm>
        </p:grpSpPr>
        <p:sp>
          <p:nvSpPr>
            <p:cNvPr id="283" name=""/>
            <p:cNvSpPr/>
            <p:nvPr/>
          </p:nvSpPr>
          <p:spPr>
            <a:xfrm flipH="1" rot="435600">
              <a:off x="3529800" y="5496120"/>
              <a:ext cx="838080" cy="152280"/>
            </a:xfrm>
            <a:prstGeom prst="leftArrow">
              <a:avLst>
                <a:gd name="adj1" fmla="val 50000"/>
                <a:gd name="adj2" fmla="val 137589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435600">
              <a:off x="3937320" y="501804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524040" y="4965840"/>
            <a:ext cx="1258200" cy="735480"/>
            <a:chOff x="3524040" y="4965840"/>
            <a:chExt cx="1258200" cy="735480"/>
          </a:xfrm>
        </p:grpSpPr>
        <p:sp>
          <p:nvSpPr>
            <p:cNvPr id="286" name=""/>
            <p:cNvSpPr/>
            <p:nvPr/>
          </p:nvSpPr>
          <p:spPr>
            <a:xfrm flipH="1" rot="435600">
              <a:off x="3529800" y="5496120"/>
              <a:ext cx="838080" cy="152280"/>
            </a:xfrm>
            <a:prstGeom prst="leftArrow">
              <a:avLst>
                <a:gd name="adj1" fmla="val 50000"/>
                <a:gd name="adj2" fmla="val 137589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rot="435600">
              <a:off x="3937320" y="501804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524040" y="4965840"/>
            <a:ext cx="1258200" cy="735480"/>
            <a:chOff x="3524040" y="4965840"/>
            <a:chExt cx="1258200" cy="735480"/>
          </a:xfrm>
        </p:grpSpPr>
        <p:sp>
          <p:nvSpPr>
            <p:cNvPr id="289" name=""/>
            <p:cNvSpPr/>
            <p:nvPr/>
          </p:nvSpPr>
          <p:spPr>
            <a:xfrm flipH="1" rot="435600">
              <a:off x="3529800" y="5496120"/>
              <a:ext cx="838080" cy="152280"/>
            </a:xfrm>
            <a:prstGeom prst="leftArrow">
              <a:avLst>
                <a:gd name="adj1" fmla="val 50000"/>
                <a:gd name="adj2" fmla="val 137589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rot="435600">
              <a:off x="3937320" y="501804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524040" y="4965840"/>
            <a:ext cx="1258200" cy="735480"/>
            <a:chOff x="3524040" y="4965840"/>
            <a:chExt cx="1258200" cy="735480"/>
          </a:xfrm>
        </p:grpSpPr>
        <p:sp>
          <p:nvSpPr>
            <p:cNvPr id="292" name=""/>
            <p:cNvSpPr/>
            <p:nvPr/>
          </p:nvSpPr>
          <p:spPr>
            <a:xfrm flipH="1" rot="435600">
              <a:off x="3529800" y="5496120"/>
              <a:ext cx="838080" cy="152280"/>
            </a:xfrm>
            <a:prstGeom prst="leftArrow">
              <a:avLst>
                <a:gd name="adj1" fmla="val 50000"/>
                <a:gd name="adj2" fmla="val 137589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rot="435600">
              <a:off x="3937320" y="5018040"/>
              <a:ext cx="838440" cy="152280"/>
            </a:xfrm>
            <a:prstGeom prst="leftArrow">
              <a:avLst>
                <a:gd name="adj1" fmla="val 50000"/>
                <a:gd name="adj2" fmla="val 137648"/>
              </a:avLst>
            </a:prstGeom>
            <a:solidFill>
              <a:srgbClr val="00005b"/>
            </a:solidFill>
            <a:ln w="936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587880" y="914400"/>
            <a:ext cx="8039880" cy="15516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Главные силы персов попытались взять  проход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лобовой атакой .Командиры гнали в воинов бой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плетками,но греки устояли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6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28"/>
                                      </p:cond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40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44000" cy="6183360"/>
          </a:xfrm>
          <a:prstGeom prst="rect">
            <a:avLst/>
          </a:prstGeom>
          <a:ln w="76320">
            <a:solidFill>
              <a:srgbClr val="350035"/>
            </a:solidFill>
            <a:miter/>
          </a:ln>
        </p:spPr>
      </p:pic>
      <p:grpSp>
        <p:nvGrpSpPr>
          <p:cNvPr id="296" name=""/>
          <p:cNvGrpSpPr/>
          <p:nvPr/>
        </p:nvGrpSpPr>
        <p:grpSpPr>
          <a:xfrm>
            <a:off x="539640" y="981000"/>
            <a:ext cx="1785960" cy="2089080"/>
            <a:chOff x="539640" y="981000"/>
            <a:chExt cx="1785960" cy="2089080"/>
          </a:xfrm>
        </p:grpSpPr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539640" y="98100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3"/>
            <a:stretch/>
          </p:blipFill>
          <p:spPr>
            <a:xfrm>
              <a:off x="755640" y="119700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4"/>
            <a:stretch/>
          </p:blipFill>
          <p:spPr>
            <a:xfrm>
              <a:off x="971640" y="141264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5"/>
            <a:stretch/>
          </p:blipFill>
          <p:spPr>
            <a:xfrm>
              <a:off x="1187640" y="1628640"/>
              <a:ext cx="1137960" cy="144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3.Фермопильское сражени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522160" y="4865760"/>
            <a:ext cx="1281240" cy="1398600"/>
            <a:chOff x="2522160" y="4865760"/>
            <a:chExt cx="1281240" cy="1398600"/>
          </a:xfrm>
        </p:grpSpPr>
        <p:sp>
          <p:nvSpPr>
            <p:cNvPr id="303" name=""/>
            <p:cNvSpPr/>
            <p:nvPr/>
          </p:nvSpPr>
          <p:spPr>
            <a:xfrm rot="17926800">
              <a:off x="2725200" y="5029200"/>
              <a:ext cx="914400" cy="914400"/>
            </a:xfrm>
            <a:prstGeom prst="bracketPair">
              <a:avLst>
                <a:gd name="adj" fmla="val 17129"/>
              </a:avLst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7926800">
              <a:off x="2706120" y="5220720"/>
              <a:ext cx="835200" cy="914400"/>
            </a:xfrm>
            <a:prstGeom prst="bracketPair">
              <a:avLst>
                <a:gd name="adj" fmla="val 17129"/>
              </a:avLst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848760" y="2362320"/>
            <a:ext cx="3260520" cy="51912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алиакский залив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3124080"/>
            <a:ext cx="685800" cy="7621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381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74040" y="3124080"/>
            <a:ext cx="131148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Ксерк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343400"/>
            <a:ext cx="762120" cy="76212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56520" y="4267080"/>
            <a:ext cx="1169640" cy="520560"/>
          </a:xfrm>
          <a:prstGeom prst="rect">
            <a:avLst/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Греки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0360" y="1120680"/>
            <a:ext cx="7793280" cy="1036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Благодаря предателю персы горными тропами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смогли пройти в тыл грека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25320" y="3716280"/>
            <a:ext cx="2001960" cy="2305080"/>
            <a:chOff x="625320" y="3716280"/>
            <a:chExt cx="2001960" cy="2305080"/>
          </a:xfrm>
        </p:grpSpPr>
        <p:pic>
          <p:nvPicPr>
            <p:cNvPr id="312" name="" descr=""/>
            <p:cNvPicPr/>
            <p:nvPr/>
          </p:nvPicPr>
          <p:blipFill>
            <a:blip r:embed="rId7"/>
            <a:stretch/>
          </p:blipFill>
          <p:spPr>
            <a:xfrm>
              <a:off x="625320" y="371628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8"/>
            <a:stretch/>
          </p:blipFill>
          <p:spPr>
            <a:xfrm>
              <a:off x="841320" y="393228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9"/>
            <a:stretch/>
          </p:blipFill>
          <p:spPr>
            <a:xfrm>
              <a:off x="1057320" y="414792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0"/>
            <a:stretch/>
          </p:blipFill>
          <p:spPr>
            <a:xfrm>
              <a:off x="1273320" y="4363920"/>
              <a:ext cx="11379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1"/>
            <a:stretch/>
          </p:blipFill>
          <p:spPr>
            <a:xfrm>
              <a:off x="1488960" y="4579920"/>
              <a:ext cx="113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"/>
          <p:cNvGrpSpPr/>
          <p:nvPr/>
        </p:nvGrpSpPr>
        <p:grpSpPr>
          <a:xfrm>
            <a:off x="3276720" y="3860640"/>
            <a:ext cx="2590560" cy="2811600"/>
            <a:chOff x="3276720" y="3860640"/>
            <a:chExt cx="2590560" cy="2811600"/>
          </a:xfrm>
        </p:grpSpPr>
        <p:grpSp>
          <p:nvGrpSpPr>
            <p:cNvPr id="318" name=""/>
            <p:cNvGrpSpPr/>
            <p:nvPr/>
          </p:nvGrpSpPr>
          <p:grpSpPr>
            <a:xfrm>
              <a:off x="3276720" y="3860640"/>
              <a:ext cx="1523880" cy="1731960"/>
              <a:chOff x="3276720" y="3860640"/>
              <a:chExt cx="1523880" cy="173196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76720" y="3860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3349800" y="4075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492360" y="4076640"/>
              <a:ext cx="1523880" cy="1731960"/>
              <a:chOff x="3492360" y="4076640"/>
              <a:chExt cx="1523880" cy="173196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492360" y="4076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3565440" y="4291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708360" y="4292640"/>
              <a:ext cx="1523880" cy="1731960"/>
              <a:chOff x="3708360" y="4292640"/>
              <a:chExt cx="1523880" cy="1731960"/>
            </a:xfrm>
          </p:grpSpPr>
          <p:pic>
            <p:nvPicPr>
              <p:cNvPr id="32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708360" y="4292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3781440" y="4507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24360" y="4508640"/>
              <a:ext cx="1523880" cy="1731960"/>
              <a:chOff x="3924360" y="4508640"/>
              <a:chExt cx="1523880" cy="1731960"/>
            </a:xfrm>
          </p:grpSpPr>
          <p:pic>
            <p:nvPicPr>
              <p:cNvPr id="32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24360" y="4508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3997440" y="4723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140360" y="4724280"/>
              <a:ext cx="1523880" cy="1731960"/>
              <a:chOff x="4140360" y="4724280"/>
              <a:chExt cx="1523880" cy="1731960"/>
            </a:xfrm>
          </p:grpSpPr>
          <p:pic>
            <p:nvPicPr>
              <p:cNvPr id="33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140360" y="472428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4213440" y="493884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343400" y="4940280"/>
              <a:ext cx="1523880" cy="1731960"/>
              <a:chOff x="4343400" y="4940280"/>
              <a:chExt cx="1523880" cy="1731960"/>
            </a:xfrm>
          </p:grpSpPr>
          <p:pic>
            <p:nvPicPr>
              <p:cNvPr id="33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343400" y="494028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4416480" y="515484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1547640" y="4581360"/>
            <a:ext cx="1354320" cy="1657440"/>
            <a:chOff x="1547640" y="4581360"/>
            <a:chExt cx="1354320" cy="1657440"/>
          </a:xfrm>
        </p:grpSpPr>
        <p:pic>
          <p:nvPicPr>
            <p:cNvPr id="337" name="" descr=""/>
            <p:cNvPicPr/>
            <p:nvPr/>
          </p:nvPicPr>
          <p:blipFill>
            <a:blip r:embed="rId18"/>
            <a:stretch/>
          </p:blipFill>
          <p:spPr>
            <a:xfrm>
              <a:off x="1547640" y="458136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9"/>
            <a:stretch/>
          </p:blipFill>
          <p:spPr>
            <a:xfrm>
              <a:off x="1763640" y="4797360"/>
              <a:ext cx="113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5651280" y="4940280"/>
            <a:ext cx="1354320" cy="1657440"/>
            <a:chOff x="5651280" y="4940280"/>
            <a:chExt cx="1354320" cy="1657440"/>
          </a:xfrm>
        </p:grpSpPr>
        <p:pic>
          <p:nvPicPr>
            <p:cNvPr id="340" name="" descr=""/>
            <p:cNvPicPr/>
            <p:nvPr/>
          </p:nvPicPr>
          <p:blipFill>
            <a:blip r:embed="rId20"/>
            <a:stretch/>
          </p:blipFill>
          <p:spPr>
            <a:xfrm flipH="1">
              <a:off x="5651280" y="4940280"/>
              <a:ext cx="11379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21"/>
            <a:stretch/>
          </p:blipFill>
          <p:spPr>
            <a:xfrm flipH="1">
              <a:off x="5867280" y="5156280"/>
              <a:ext cx="1138320" cy="144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C 0.00417 0.0169 0.000869999999999999 0.00717 0.01163 0.0287 C 0.01337 0.03171 0.01632 0.03819 0.01632 0.03842 C 0.01944 0.05092 0.01996 0.06204 0.02569 0.07338 C 0.02969 0.09097 0.03628 0.10903 0.04896 0.11505 C 0.05243 0.12801 0.05642 0.12662 0.06545 0.13079 C 0.08698 0.14074 0.10521 0.14444 0.12865 0.14699 C 0.13871 0.14954 0.14896 0.15417 0.15885 0.15671 C 0.17986 0.16204 0.22448 0.1625 0.23611 0.16296 C 0.29184 0.15972 0.35365 0.17315 0.40694 0.15023 C 0.40903 0.14699 0.41128 0.14329 0.41371 0.14051 C 0.41597 0.13796 0.4191 0.13727 0.42083 0.13426 C 0.42986 0.11875 0.41476 0.12801 0.43021 0.12153 C 0.43264 0.11042 0.4349 0.10231 0.43958 0.09259 C 0.44253 0.08032 0.44896 0.06157 0.44896 0.04792 E">
                                      <p:cBhvr>
                                        <p:cTn id="254" dur="5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evt="end">
                                        <p:tn val="253"/>
                                      </p:cond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44000" cy="6183360"/>
          </a:xfrm>
          <a:prstGeom prst="rect">
            <a:avLst/>
          </a:prstGeom>
          <a:ln w="76320">
            <a:solidFill>
              <a:srgbClr val="350035"/>
            </a:solidFill>
            <a:miter/>
          </a:ln>
        </p:spPr>
      </p:pic>
      <p:grpSp>
        <p:nvGrpSpPr>
          <p:cNvPr id="343" name=""/>
          <p:cNvGrpSpPr/>
          <p:nvPr/>
        </p:nvGrpSpPr>
        <p:grpSpPr>
          <a:xfrm>
            <a:off x="6084360" y="4797360"/>
            <a:ext cx="1354320" cy="1657440"/>
            <a:chOff x="6084360" y="4797360"/>
            <a:chExt cx="1354320" cy="16574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 flipH="1">
              <a:off x="6084360" y="4797360"/>
              <a:ext cx="11379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 flipH="1">
              <a:off x="6300360" y="5013360"/>
              <a:ext cx="1138320" cy="144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3.Фермопильское сражение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522160" y="4865760"/>
            <a:ext cx="1281240" cy="1398600"/>
            <a:chOff x="2522160" y="4865760"/>
            <a:chExt cx="1281240" cy="1398600"/>
          </a:xfrm>
        </p:grpSpPr>
        <p:sp>
          <p:nvSpPr>
            <p:cNvPr id="348" name=""/>
            <p:cNvSpPr/>
            <p:nvPr/>
          </p:nvSpPr>
          <p:spPr>
            <a:xfrm rot="17926800">
              <a:off x="2725200" y="5029200"/>
              <a:ext cx="914400" cy="914400"/>
            </a:xfrm>
            <a:prstGeom prst="bracketPair">
              <a:avLst>
                <a:gd name="adj" fmla="val 17129"/>
              </a:avLst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7926800">
              <a:off x="2706120" y="5220720"/>
              <a:ext cx="835200" cy="914400"/>
            </a:xfrm>
            <a:prstGeom prst="bracketPair">
              <a:avLst>
                <a:gd name="adj" fmla="val 17129"/>
              </a:avLst>
            </a:prstGeom>
            <a:noFill/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848760" y="2362320"/>
            <a:ext cx="3260520" cy="51912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алиакский залив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3124080"/>
            <a:ext cx="685800" cy="7621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381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74040" y="3124080"/>
            <a:ext cx="131148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Ксерк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86400" y="4343400"/>
            <a:ext cx="762120" cy="76212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56520" y="4267080"/>
            <a:ext cx="1169640" cy="520560"/>
          </a:xfrm>
          <a:prstGeom prst="rect">
            <a:avLst/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Греки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895480" y="57913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895480" y="57913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895480" y="57913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895480" y="57913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819520" y="579132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548640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548640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19920" y="548640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19920" y="548640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19920" y="5486400"/>
            <a:ext cx="976320" cy="228600"/>
          </a:xfrm>
          <a:prstGeom prst="leftArrow">
            <a:avLst>
              <a:gd name="adj1" fmla="val 50000"/>
              <a:gd name="adj2" fmla="val 106772"/>
            </a:avLst>
          </a:prstGeom>
          <a:solidFill>
            <a:srgbClr val="00005b"/>
          </a:solidFill>
          <a:ln w="936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39640" y="981000"/>
            <a:ext cx="1785960" cy="2089080"/>
            <a:chOff x="539640" y="981000"/>
            <a:chExt cx="1785960" cy="2089080"/>
          </a:xfrm>
        </p:grpSpPr>
        <p:pic>
          <p:nvPicPr>
            <p:cNvPr id="366" name="" descr=""/>
            <p:cNvPicPr/>
            <p:nvPr/>
          </p:nvPicPr>
          <p:blipFill>
            <a:blip r:embed="rId4"/>
            <a:stretch/>
          </p:blipFill>
          <p:spPr>
            <a:xfrm>
              <a:off x="539640" y="98100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5"/>
            <a:stretch/>
          </p:blipFill>
          <p:spPr>
            <a:xfrm>
              <a:off x="755640" y="119700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6"/>
            <a:stretch/>
          </p:blipFill>
          <p:spPr>
            <a:xfrm>
              <a:off x="971640" y="141264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7"/>
            <a:stretch/>
          </p:blipFill>
          <p:spPr>
            <a:xfrm>
              <a:off x="1187640" y="1628640"/>
              <a:ext cx="113796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625320" y="3716280"/>
            <a:ext cx="2001960" cy="2305080"/>
            <a:chOff x="625320" y="3716280"/>
            <a:chExt cx="2001960" cy="2305080"/>
          </a:xfrm>
        </p:grpSpPr>
        <p:pic>
          <p:nvPicPr>
            <p:cNvPr id="371" name="" descr=""/>
            <p:cNvPicPr/>
            <p:nvPr/>
          </p:nvPicPr>
          <p:blipFill>
            <a:blip r:embed="rId8"/>
            <a:stretch/>
          </p:blipFill>
          <p:spPr>
            <a:xfrm>
              <a:off x="625320" y="371628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9"/>
            <a:stretch/>
          </p:blipFill>
          <p:spPr>
            <a:xfrm>
              <a:off x="841320" y="393228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0"/>
            <a:stretch/>
          </p:blipFill>
          <p:spPr>
            <a:xfrm>
              <a:off x="1057320" y="4147920"/>
              <a:ext cx="113832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1"/>
            <a:stretch/>
          </p:blipFill>
          <p:spPr>
            <a:xfrm>
              <a:off x="1273320" y="4363920"/>
              <a:ext cx="11379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2"/>
            <a:stretch/>
          </p:blipFill>
          <p:spPr>
            <a:xfrm>
              <a:off x="1488960" y="4579920"/>
              <a:ext cx="113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3276720" y="3860640"/>
            <a:ext cx="1955520" cy="2163960"/>
            <a:chOff x="3276720" y="3860640"/>
            <a:chExt cx="1955520" cy="2163960"/>
          </a:xfrm>
        </p:grpSpPr>
        <p:grpSp>
          <p:nvGrpSpPr>
            <p:cNvPr id="377" name=""/>
            <p:cNvGrpSpPr/>
            <p:nvPr/>
          </p:nvGrpSpPr>
          <p:grpSpPr>
            <a:xfrm>
              <a:off x="3276720" y="3860640"/>
              <a:ext cx="1523880" cy="1731960"/>
              <a:chOff x="3276720" y="3860640"/>
              <a:chExt cx="1523880" cy="1731960"/>
            </a:xfrm>
          </p:grpSpPr>
          <p:pic>
            <p:nvPicPr>
              <p:cNvPr id="37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76720" y="3860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3349800" y="4075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3492360" y="4076640"/>
              <a:ext cx="1523880" cy="1731960"/>
              <a:chOff x="3492360" y="4076640"/>
              <a:chExt cx="1523880" cy="1731960"/>
            </a:xfrm>
          </p:grpSpPr>
          <p:pic>
            <p:nvPicPr>
              <p:cNvPr id="38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92360" y="4076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3565440" y="4291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708360" y="4292640"/>
              <a:ext cx="1523880" cy="1731960"/>
              <a:chOff x="3708360" y="4292640"/>
              <a:chExt cx="1523880" cy="1731960"/>
            </a:xfrm>
          </p:grpSpPr>
          <p:pic>
            <p:nvPicPr>
              <p:cNvPr id="38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08360" y="4292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3781440" y="4507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3924000" y="4508640"/>
            <a:ext cx="1942920" cy="2163600"/>
            <a:chOff x="3924000" y="4508640"/>
            <a:chExt cx="1942920" cy="2163600"/>
          </a:xfrm>
        </p:grpSpPr>
        <p:grpSp>
          <p:nvGrpSpPr>
            <p:cNvPr id="387" name=""/>
            <p:cNvGrpSpPr/>
            <p:nvPr/>
          </p:nvGrpSpPr>
          <p:grpSpPr>
            <a:xfrm>
              <a:off x="3924000" y="4508640"/>
              <a:ext cx="1523880" cy="1731960"/>
              <a:chOff x="3924000" y="4508640"/>
              <a:chExt cx="1523880" cy="1731960"/>
            </a:xfrm>
          </p:grpSpPr>
          <p:pic>
            <p:nvPicPr>
              <p:cNvPr id="388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3924000" y="450864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 flipH="1">
                <a:off x="4079520" y="472320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140000" y="4724280"/>
              <a:ext cx="1523880" cy="1731960"/>
              <a:chOff x="4140000" y="4724280"/>
              <a:chExt cx="1523880" cy="1731960"/>
            </a:xfrm>
          </p:grpSpPr>
          <p:pic>
            <p:nvPicPr>
              <p:cNvPr id="391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4140000" y="472428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 flipH="1">
                <a:off x="4295520" y="493884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4343040" y="4940280"/>
              <a:ext cx="1523880" cy="1731960"/>
              <a:chOff x="4343040" y="4940280"/>
              <a:chExt cx="1523880" cy="1731960"/>
            </a:xfrm>
          </p:grpSpPr>
          <p:pic>
            <p:nvPicPr>
              <p:cNvPr id="394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4343040" y="4940280"/>
                <a:ext cx="1523880" cy="17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 flipH="1">
                <a:off x="4498560" y="5154840"/>
                <a:ext cx="1295280" cy="360360"/>
              </a:xfrm>
              <a:prstGeom prst="line">
                <a:avLst/>
              </a:prstGeom>
              <a:ln w="19080">
                <a:solidFill>
                  <a:srgbClr val="00005b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8.51852E-006 L 0.0552 0.03149 E">
                                      <p:cBhvr>
                                        <p:cTn id="265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-3.7037E-007 L -0.00799 0.18912 E">
                                      <p:cBhvr>
                                        <p:cTn id="267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evt="end">
                                        <p:tn val="269"/>
                                      </p:cond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evt="end">
                                        <p:tn val="275"/>
                                      </p:cond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evt="end">
                                        <p:tn val="287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evt="end">
                                        <p:tn val="293"/>
                                      </p:cond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5"/>
                                      </p:cond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evt="end">
                                        <p:tn val="311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evt="end">
                                        <p:tn val="317"/>
                                      </p:cond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1T09:19:53Z</dcterms:created>
  <dc:creator>ЧЕРНОВ АЛЕКСЕЙ</dc:creator>
  <dc:description/>
  <dc:language>en-US</dc:language>
  <cp:lastModifiedBy>Чернов Алексей</cp:lastModifiedBy>
  <dcterms:modified xsi:type="dcterms:W3CDTF">2002-05-29T14:21:26Z</dcterms:modified>
  <cp:revision>43</cp:revision>
  <dc:subject/>
  <dc:title>Заголовок слайда отсутствует</dc:title>
</cp:coreProperties>
</file>