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961-3F16-479C-AAD9-69F86256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4F8-A89C-4350-A7E0-B9EAD41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012-A9D5-4CB0-A7A6-C5D4A717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D87-7D9E-4FE1-AC9C-A5D816E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F7B-A999-448B-BF2E-1E0E9E6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78D-85CE-4D38-A2E2-F042FAF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7D8-748F-495D-B715-7A548AF2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007-A812-48C7-B4EE-7AB7803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C0C-8B6D-4F35-BA38-40D57A1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C8B-8CE2-4A1E-8A21-E7CD416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50A-CE02-43E0-8C11-9528998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AF8-026B-40EF-AC4D-A0D829F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520-3E31-44EE-AC8D-59CC6640C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447920"/>
            <a:ext cx="5921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Внешняя политика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оссии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 рубеже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IX-XX веков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сной 1904 г.японцы вы-садились в Корее.В бит-ве под Тюренчем русс-кая армия потерпела по ражение и японцы пере резали ЮКВЖД,веду-щую к Порт-Артуру.За-няв порт Дальний они блокировали крепость с моря.В августе ген.Ку ропаткин попытался прорваться к Порт-Ар-туру, но в последний момент приказал отой-ти к Мукдену.2 октября 1904 г.из Лиепаи на Д. Восток отправилась 2-я Тихоокеанская эскадра под руководством адми рала Рожественс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04920" y="43920"/>
            <a:ext cx="86868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Падение Порт-Артура.Военные действия в 1905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97560" y="6135840"/>
            <a:ext cx="24879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.Н.Куропат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22360" y="836640"/>
            <a:ext cx="3510000" cy="5054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ответ японцы активизировались в районе Порт-Артура.2 декабря был убит комендант крепости ген.Р.Кондратенко.16 декабря но-вый комендант,ген.Стессель,принял реше-ние о капитуляции,собственноручно подняв над фортом белый флаг вопреки воле воен-ного совета.Позднее Стессель был отдан под суд за предатель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43920"/>
            <a:ext cx="86868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Падение Порт-Артура.Военные действия в 1905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9560" y="1125360"/>
            <a:ext cx="150048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р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сс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пон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11640" y="519120"/>
            <a:ext cx="4537080" cy="29210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феврале Куропаткин отвел армию от Мук-дена.Война была практически проиграна,но 2-я эскадра подошла к региону и 14-15 мая в Цусимском проливе произошло морское сра жение.Несмотря на героизм русских моря-ков 2-я эскадра практически была уничто-жена.Цусима стала ударом по русскому на-циональному самосозн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920" y="43920"/>
            <a:ext cx="86868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Падение Порт-Артура.Военные действия в 1905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1600" y="1413000"/>
            <a:ext cx="17640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усимск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ж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95640" y="515880"/>
            <a:ext cx="4824360" cy="29178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11640" y="299880"/>
            <a:ext cx="4464000" cy="3057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3284280"/>
            <a:ext cx="7850160" cy="35290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сер.1905 г.обе стороны были истощены.В Ро-ссии нарастала революция и противники на чали искать возможность заключить мир. Посредником на мирных переговорах стал президент США Т.Рузвельт.Русскую делега-цию возглавлял С.Витте.Ему удалось уме-рить претензии Японии и 23 августа подпи-сать Портсмутский мирный догов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Окончание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64120" y="1295280"/>
            <a:ext cx="24181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еннопл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японск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пита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920" y="3141720"/>
            <a:ext cx="7850160" cy="36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ссия признала Корею сферой японских интересов. Стороны выводили войска из Манчжурии.Россия передавала аренду Порт-Артура Японии и уступала ей Южный Сахалин.Японцы могли вести рыбную ловлю в русских территориальных водах в Японс-ком,Охотском и Баренцевом морях.Причинами по-ражения были: переоценка возможностей, бездар-ность командования,неподготовленность к войне и удаленность театра боевых действий от централь-ных районов стр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Окончание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6520" y="1341360"/>
            <a:ext cx="263880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ортсмут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ферен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635280" y="628560"/>
            <a:ext cx="5329440" cy="2432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17960" y="476280"/>
            <a:ext cx="4191120" cy="633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казавшись в диплома-тической изоляции Россия вновь перенес ла центр тяжести внешней политики в Европу. В 1904 г.Анг-лия отказавшись от политики «блестящей изоляции» заключила с Францией «сердеч-ное согласие».Это бы-ло вызвано усилени-ем Германии и ее вра-ждебностью в отноше нии Британской им-пе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Сближение России и Анг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4520" y="5334120"/>
            <a:ext cx="18097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р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бер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357200" y="692280"/>
            <a:ext cx="3359160" cy="4290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6920" y="3141720"/>
            <a:ext cx="7921800" cy="36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нглия пытаясь сколотить военно-политичес-кий блок начала искать пути сближения с Россией.В 1907 г .в Петербурге было подпи-сано соглашение  о разграничении интересов в Персии,Афганистане и на Тибете.Это озна-чало, что в европе появился 2-й военно-по-литический блок-Антанта.Но реально дейст-вовать он начал только в годы 1-й мировой вой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Сближение России и Анг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1960" y="1268280"/>
            <a:ext cx="13586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к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ро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635280" y="525600"/>
            <a:ext cx="5040360" cy="2549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Основные напр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Дальневосточная полит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Начало русско-японской вой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Падение Порт-Артура.Военные действия в 1905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Окончание вой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Сближение России и Англ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Выделите и охарактеризуйте основные направления внешней политики России на рубеже 19-20 веков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6920" y="3716280"/>
            <a:ext cx="7921800" cy="30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новными направлениями внешней политики Рос-сии на рубеже веков бы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Предотвращение военных конфликтов в Европ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Расширение сферы своего влияния на Д.Восто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9 г.по инициативе Николая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в Гааге прошла конференция по разоружению.В ней приняли учас-тие представители 25 стран Европы,Азии,Аме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Основные на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3400" y="1484280"/>
            <a:ext cx="208404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ролев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ре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аа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39960" y="620640"/>
            <a:ext cx="5253120" cy="3017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59280" y="549000"/>
            <a:ext cx="419112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частники конферен-ции взяли на себя обя зательство не приме-нять разрывные пули снаряды начиненые отравляющим газ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ля разбора междуна-родных конфликтов был образован Гаагс-кий международный трибуна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онференция впервые в истории поставила вопрос о всеобщем ра зору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371240" y="8064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Основные на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5516640"/>
            <a:ext cx="21117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н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ааг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фе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96920" y="692280"/>
            <a:ext cx="4506840" cy="45687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331640" y="3860280"/>
            <a:ext cx="7777080" cy="295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ир в Европе был необходим Николаю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для обеспе-чения господства России в Восточной Азии.Глав-ным противником на этом пути стала Японии. В 90- е гг.она начала захваты в Корее и в Кита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896 г. Россия и Китай заключили секретный дого-вор об оборонительном союзе.Россия получала право на строительство КВЖД.Это подтолкнуло Германию к захвату порта Цинда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Дальневосточн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0800" y="1368360"/>
            <a:ext cx="146088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а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зд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635280" y="566640"/>
            <a:ext cx="5329440" cy="3254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4191120" cy="619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ссия вместо оказания Ки-таю помощи,навязала ему договор об аернде Ля одуньского полуострова и строительстве там сво-ей военно-морской ба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ША и Англия обеспоко-енные усилением России в регионе, предоставили Японии кредиты и нача-ли подталкивать ее на войну с Росс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январе 1903 г.на совеща-нии при императоре бо-льшинство чиновников высказались за подготов- ку к войне.Лишь Витте был против,считая необ-ходимым экономическое усиление  на Д.Восто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Дальневосточн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7520" y="6280200"/>
            <a:ext cx="170784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.Ю.Вит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79200" y="3141720"/>
            <a:ext cx="236448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.М.Безобра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293920" y="692280"/>
            <a:ext cx="1533600" cy="2376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41720" y="3789360"/>
            <a:ext cx="1638000" cy="238284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ночь на 27 января 1904 г. японский флот атаковал эскадру Порт-Артура и в корейс-ком порту Чемульпо напал на крейсер «Ва-ряг» и канонерскую лодку «Кореец»получив во время боя повреждение «Варяг» мог дос-таться врагу,но его экипаж затопил крейсер а канонерская лодка была взорв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4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чало русско-японск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5600" y="1557360"/>
            <a:ext cx="146556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б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Варяг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95640" y="582480"/>
            <a:ext cx="4897440" cy="2857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58920" y="2997000"/>
            <a:ext cx="7850160" cy="381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понский план войны предусматривал дости-жение превосходства на море, а затем вы-садку сухопутного десанта и захват Примо-рья, Маньчжурии и Уссурийского кр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феврале в Порт-Артур прибыл новый коман дующий адмирал С.О.Макаров,развернув-ший активные действия.Но 31 марта флаг-манский корабль «Петропавловск» взорвал-ся на мине.В числе погибших оказался адми рал и знаменитый художник В.Верещаг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371240" y="44280"/>
            <a:ext cx="762012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чало русско-японск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70960" y="1268280"/>
            <a:ext cx="27730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б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Петропавловс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533520"/>
            <a:ext cx="4321080" cy="2403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</cp:lastModifiedBy>
  <dcterms:modified xsi:type="dcterms:W3CDTF">2003-01-05T14:59:22Z</dcterms:modified>
  <cp:revision>68</cp:revision>
  <dc:subject/>
  <dc:title>Презентация PowerPoint</dc:title>
</cp:coreProperties>
</file>