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9C2-4425-4777-B965-952E7953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5AF-F919-47DA-9586-233F70D8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78D-263F-45CF-B575-7258A785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386-083B-42D1-9DD8-40DE6409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931-BCA6-47CF-A816-E3F83089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B34-33DB-4E32-B08A-4C364DD5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D80-6C30-4A9F-BA96-7E05E113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1A7-94C3-4D87-9EC5-3E65D4BD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519-A49F-4685-8D86-C3AD9A23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118-D74B-4959-A7D9-DE890B5A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D0B-8209-4826-B228-F19E4EBA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506-0FA4-4149-BA0A-182F1FF7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89A1-6EC3-49EF-BA9A-B1F92C6D8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844640"/>
            <a:ext cx="8712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нешняя политик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ССР в 30-е годы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сле Мюнхенской конфе-ренции Англия и Фран-ция провозгласили нас-тупление «эры мира». В марте 1939 г.Гитлер ввел войска в Прагу и лишил Чехословакию независи-мости, а затем захватил Мемельскую область принадлежавшую Литве. В апреле Италия захва-тила Албанию и Англия и Франция пошли на пе-реговоры с СССР.12 ав-густа иностранные деле-гации прибыли в Моск-ву.Но они не обладали никакими полномочи-ями.Советская сторона представила план сов-мест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Советско-англо-французские перего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60960" y="3429000"/>
            <a:ext cx="138924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емьер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ин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Фр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елад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92920" y="5354640"/>
            <a:ext cx="160092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емьер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ин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нг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Чембер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620640"/>
            <a:ext cx="1725840" cy="266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243240" y="2637000"/>
            <a:ext cx="1654200" cy="256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ССР был готов в случае начала войны в Европе выставить 136 дивизий. Но они должны были пройти через террито-рии Польши и Румынии. Запад отказался решать эту проблему и начал за-тягивать переговоры.Ру-ководитель советской де легации К.Ворошилов 18 августа в ультиматив-ной форме потребовал подписать соглашение , но западные делегации отказались и перегово-ры были сорв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Советско-англо-французские перего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18160" y="6237360"/>
            <a:ext cx="2139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.Е Вороши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619280" y="620640"/>
            <a:ext cx="3057480" cy="5443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Советско-германский пакт 23 августа 193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79120" y="1249200"/>
            <a:ext cx="1902960" cy="161856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ерман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вет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По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20.09.193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5016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еред СССР вставала угроза возможной войны на 2 фронта(с Германией и с Японией).В этих условиях был подписан советско-германский пакт о ненапа-дении сроком на 10 лет.В приложении к нему содер-жались секретные протоколы, которые разделили Европу на сферы влияния между СССР и Германи-ей.В нашу сферу вошли Прибалтика,Финляндия, Бессарабия и часть Поль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356000" y="554040"/>
            <a:ext cx="4006800" cy="2840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222800" y="530280"/>
            <a:ext cx="4452840" cy="289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Советско-германский пакт 23 августа 193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4160" y="1249200"/>
            <a:ext cx="170640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оло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иббе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23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193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3500280"/>
            <a:ext cx="785016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Договор был очень выгоден.Германия избегала вой-ны на 2 фронта и создавала плацдарм для последу-ющих действий на Востоке.СССР получал время для укрепления оборонного потенциала и границ и избегал угрозы войны и с Германие и с Японией. Кроме того нам удалось перенести первый военный удар Гитлера в Европе с Востока на Запад. 4 апреля 1941 г.советские дипломаты смогли заключить пакт о ненападении с Япо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484280"/>
            <a:ext cx="7632720" cy="4681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1.Изменение внешнеполитического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2.Изменение курса Коминте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3.Дальневосточная политика ССС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4.Мюнхенская конферен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5.Советско-англо-французские перегов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6.Советско-германский пакт 23 августа 193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486080"/>
            <a:ext cx="7704000" cy="4464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99"/>
                </a:solidFill>
                <a:latin typeface="Monotype Corsiva"/>
              </a:rPr>
              <a:t>Как и почему изменялась внешнеполитическая линия СССР в 30-е гг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33 г.к власти в Герма-нии пришли фашисты. Советское руководство изменило курс во внеш-ней политике и попыта-лось вбить клин между империалистическими государствами.СССР предложил создать систе му коллективной безо-пасности и его политика до 1939 г.носила антигер манский характер. Этот курс был заслугой нарко ма иностранных дел М. М.Литвинова.В 1933 г. СССР установил дипло-матические отношения с США, а в 1934 г.стал членом Лиги Н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Изменение внешнеполитического кур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19680" y="6124680"/>
            <a:ext cx="1985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М.Литв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65200" y="1052640"/>
            <a:ext cx="3394080" cy="458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Формально СССР возвратился в мировое сообщество в качестве великой державы. При этом все споры вокруг царских долгов были решены в пользу Со-ветского Союза.В мае 1935 г.был подписан советс-ко-французский договор, вскоре к нему присоеди-нилась Чехословакия.Но реальной силы этот аль-янс не имел, так как не содержал конкретных во-енных обязательств.В 1935 г. СССР выступил про-тив милитаризации Рейнской зоны, но Лига наций нашу страну не поддерж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Изменение внешнеполитического кур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93640" y="1393920"/>
            <a:ext cx="268164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оветский полп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роянов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и вице-презид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ША Гард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27640" y="558720"/>
            <a:ext cx="4319640" cy="3054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громную роль во внешней политике СССР играл Коминтерн.До 1933 г.Сталин и Коминтерн считали своими главными врагами социал-демократов, на-зывая их пособниками фашистов.В итоге к власти в Германии пришел Гитлер.В 1933 г.установки Коминтерна изменились.Этому способствовал Г. Димитров.выдвинувший идею создания «Единого антифашистского фронта».Это помогло предотв-ратить фашистский переворот во Франции и орга-низовать помощь республиканской Исп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Изменение курса Коминт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11280" y="1268280"/>
            <a:ext cx="2282400" cy="161856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.Михай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.Дими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Лейпциг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цес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193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140360" y="549360"/>
            <a:ext cx="4608360" cy="2971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148360" y="476280"/>
            <a:ext cx="396072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к. 30-х гг. сложная ситу-ация складывалась на Дальнем Востоке. В 1929 г.произошел конф-ликт между СССР и Ки таем из-за КВЖД, т.к. советская администра-ция вытеснила из упра-вления дорогой китай-цев.В 1928 г.к власти пришел лидер Гоминь-дана Чан Кайши.Он на-чал боевые действия, но китайские войска бы ли разгромлены.В 1931 г. Япония захватила Манчжурию и отноше-ния между СССР и Ки-таем были восстанов-л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Дальневосточная политика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34640" y="5891040"/>
            <a:ext cx="2601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идер Гоминь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Чан Кай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547640" y="620640"/>
            <a:ext cx="3354480" cy="5024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36 г создается Антикоминтерновсий пакт(Герма-ния,Италия,Испания,Япония).В 1937 г. Япония на-чала агрессию против Китая и СССР начал оказы-вать ему помощь.Летом 1938 г.у  озера Хасан  в мае 1939 г.в районе реки Халхин-Гол японцы попыта-лись проникнуть на территории СССР и Монго-лии. Советские войска нанесли сокрушительный удар и японские милитаристы были разгромлены. Но в Манчжурии осталась 5 млн армия, готовая на нести удар по дальневосточным границам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Дальневосточная политика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12720" y="1484280"/>
            <a:ext cx="23144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расноармей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грани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 озера Хас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211640" y="549360"/>
            <a:ext cx="4392720" cy="2921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213000"/>
            <a:ext cx="7777080" cy="3600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36 г.состоялся аншлюс Австрии.В 1938 .Германия потребовала передать ей Судетскую область Чехо-словакии, где компактно проживали немцы.На кон ференции в Мюнхене  руководители Англии и Фра нции согласились с требованием Гитлера.Ни Чехо-словакия, ни СССР до участия в конференции не были допущены.СССР готов был оказать Чехосло-вакии помощь, но ее руководство на захотело обра-титься в Совет Лиги наций.Вскоре Германия,Анг-лия и Франция подписали ряд деклараций и стало ясно, что создать систему коллективной безопас-ности не удас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 Мюнхенское согла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00720" y="1104840"/>
            <a:ext cx="203544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арикатура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юнхенск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нферен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укрыник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427640" y="557280"/>
            <a:ext cx="4032000" cy="2595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3-02-11T15:39:52Z</dcterms:modified>
  <cp:revision>53</cp:revision>
  <dc:subject/>
  <dc:title>Слайд 1</dc:title>
</cp:coreProperties>
</file>