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270-E828-41B4-A926-36BE398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04E-55A4-4631-97CF-D4E57ED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4D-FBF1-49C2-A24F-BDF72173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3AC-E490-4F9A-B183-38600ED9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0A4-1663-4555-A322-41CB5C0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3A2-5A46-4C04-B43A-6CBC178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1B6-0863-4222-9247-048451A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213-D783-40C5-9C1F-C47E09A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F42-4702-4BB3-8A47-668D8FCA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4A1-DB31-4645-99A0-744ECC1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180-44F6-488C-8D30-338A5C5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634-D742-477B-90E2-B67F5950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5E85-6323-49F4-A58D-0BC858093B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371600"/>
            <a:ext cx="5921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оссийско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общество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 рубеж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толетий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32000" y="4005000"/>
            <a:ext cx="7718400" cy="2762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 20 в Россия начала переходить к индустриально-му обществу-т.е.началась модернизация.В России она имела свои особенности-нужно было догонять развитые государства,сохранялись феодальные пережитки,контроль со стороны власти привел к тому,что модернизацией были затронуты  лишь отдельные стороны росс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18840" y="1589040"/>
            <a:ext cx="17535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р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ном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35280" y="501480"/>
            <a:ext cx="5257800" cy="3422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24280" y="837720"/>
            <a:ext cx="4191120" cy="571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0920" y="6019920"/>
            <a:ext cx="260280" cy="5331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-ративное устрой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029_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ыделите характерные черты развития российской империи в н.20 век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11640" y="544680"/>
            <a:ext cx="4681440" cy="2981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920" y="3573360"/>
            <a:ext cx="7812000" cy="316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 н.20 в. Завершилось территориальное формирова-ние Российской империи.В нее входили Украина, Белоруссия,Прибалтика,Польша,Финляндия,Бес-сарабия,С.Кавказ,Закавказье,Казахстан,Ср.Азия.В зависимости от нее находились Тува,Бухара,Хива.-По площади-22 млн.кв.км. Россия занимала 2 место после Британской империи.Страна делилась на 81 губернию,20 областей,8 генерал-губернаторств и Великое Финляндское княж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24000" y="152280"/>
            <a:ext cx="868680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ративное устрой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5400" y="1368360"/>
            <a:ext cx="18435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.20 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37080" y="739800"/>
            <a:ext cx="4356000" cy="2833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ссия была абсолютной наследственной мо-нархией.Императору принадлежали все вет ви власти.Жители России были его поддан-ными.Гербом государства был двуглавый орел, Гимн- «Боже,царя храни»,флаг-бело-сине красный.Одновременно существовал императорский флаг-бело-желто-чер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7640" y="1268280"/>
            <a:ext cx="22975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0" b="5175"/>
          <a:stretch/>
        </p:blipFill>
        <p:spPr>
          <a:xfrm>
            <a:off x="3968640" y="189000"/>
            <a:ext cx="4996080" cy="3429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монархе был совещательный орган-Гос. Совет. Царь руководил страной через Комитет минист-ров,а церковью-через Синод. Высшим судебным органом оставался Сенат.Огромная власть принад лежал МВД,которое кроме порядка контролиро-вало местное самоуправление.Министерство фи-нансов отвечало за финансы,торговлю и промыш-ленность.Власть на местах управляли губернато-ры и наместники,в городах-городские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5960" y="1197000"/>
            <a:ext cx="26694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е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6040" y="549360"/>
            <a:ext cx="5008680" cy="3227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8000" y="3716280"/>
            <a:ext cx="766764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 переписи 1897г.в стране проживало 128,2 млн.че-ловек.Россия по этому показателю занимала 3 мес то в мире(Британская империя,Китай).57% состав ляли нерусские народы.Большая часть населения исповедовала православие.Широкое распростра-нение получили старообрядчество,протестантизм, католичество,ислам,иудаизм и буддизм.В Сибири ряд народов сохранял язы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59960" y="1197000"/>
            <a:ext cx="18554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44880" y="475920"/>
            <a:ext cx="4191120" cy="6265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0% населения проживало в сельской местности, треть городских жителей проживали в крупных го-родах.В Петербурге и в Москве насчитывалось почти по 2 млн жителей. Сельские жители придер-живались традиционного уклада,а жители запад-ных районов приближа-лись к уровню индустри-альной эпохи.Народы ок-раин находились на родо-племенном уровне. Гра-мотным был 21% населе-ния,1%имел высшее об-раз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58920" y="44280"/>
            <a:ext cx="777240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3960" y="5483160"/>
            <a:ext cx="3161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отность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имп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3384360" cy="3881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7416720" cy="3097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3100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селение страны делилось на 4 сословия: дворянст-во,духовенство,сельские обыватели и городские обыватели(купечество и мещане).Население окра-ин называлось «инородцами».В это время нача-лось размежевание и по классовому признаку-дво-ряне и крестьяне, буржуазия и пролетариат.однов-ременно существовало большое количество проме жуточных социальных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 Иванович</cp:lastModifiedBy>
  <dcterms:modified xsi:type="dcterms:W3CDTF">2002-01-26T16:14:25Z</dcterms:modified>
  <cp:revision>58</cp:revision>
  <dc:subject/>
  <dc:title>Презентация PowerPoint</dc:title>
</cp:coreProperties>
</file>