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A769-D742-4CE6-AE82-D65081B37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CD7B-719A-4D24-BABF-69D3319CF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2DE5-AB94-4E34-BE77-2ECD674E2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DBC1-B05B-4F1C-A454-740CA2102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5DE4B-0B0C-435E-BC30-B0216E6B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D0764-A1FF-4AE9-83A0-7189A221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2567-176D-47B3-BF8B-1BC8D27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3BAF8-E003-4A08-965E-CAA991F0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48977-B242-4EA7-A619-01FEB676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C3056-CFE6-46FC-9F44-4F32B3E5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D65F7-F475-4529-9914-DF2B9B6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BA2B-7558-4717-828C-4B06691E0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2A228-DC06-4BFE-8400-E51871DB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BE765-B706-4ACD-B21F-70F82FD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2DF14-03BB-4B00-9DC3-6CA5ED9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D9543-5E9D-40FE-90DF-CB497EE2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F092B-0E12-4F4B-85DB-24E9146A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8966-AFC2-4ADB-9887-3ED81E8CA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95A4-982F-42A7-B103-B2E06F1FE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040B-09FA-4D25-928D-FDA5A382B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5AE4-15B5-41FD-944A-E2B366917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0521-32BD-4AA1-BE3E-860B60E88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9DD7-ECBF-42A7-8BCA-3DF387293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CF7F-91E8-495F-B0C0-E63BF849D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DC45-8872-4383-9016-1C0411994889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5904-E6BA-48E0-994B-DF8234EF8DC3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B88-5999-4666-B7D2-42089AB5889E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08000" y="3070080"/>
            <a:ext cx="6985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Народы России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в 18 веке.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720" y="4572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я Отечества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9CE555-D04C-4DD1-BDE5-10712E7B50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428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6.Народы Кавказа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3080" y="1812960"/>
            <a:ext cx="266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еверный Кавказ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 к.18 век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7640" y="3789000"/>
            <a:ext cx="8929800" cy="302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В 18 веке Россия распространила свое влияние вплоть до Гла-вного Кавказского хребта.Под власть России перешла Ка-барда.Грузинские ханства с целью противостояния набегам турок и персов сначала объединились в Картийско-Кахе-тинское и Имеретинское царства, а в 1783 г.картли-кахе-тинский правитель Ираклий</a:t>
            </a:r>
            <a:r>
              <a:rPr b="1" lang="en-US" sz="2400" spc="-1" strike="noStrike">
                <a:solidFill>
                  <a:srgbClr val="090a11"/>
                </a:solidFill>
                <a:latin typeface="Times New Roman"/>
              </a:rPr>
              <a:t> II</a:t>
            </a: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 заключил с Екатериной</a:t>
            </a:r>
            <a:r>
              <a:rPr b="1" lang="en-US" sz="2400" spc="-1" strike="noStrike">
                <a:solidFill>
                  <a:srgbClr val="090a11"/>
                </a:solidFill>
                <a:latin typeface="Times New Roman"/>
              </a:rPr>
              <a:t> II </a:t>
            </a: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Георгиевский трактат.Россия брала Восточную Грузию под свое покровительств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24360" y="822240"/>
            <a:ext cx="4535280" cy="28688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7640" y="3789000"/>
            <a:ext cx="8929800" cy="302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Русская колонизация привела к росту сопротивления народов Сибири и Дальнего Востока.В 1731 г. началось восстание на Камчатке.В результате численность каряков и камчада-лов резко сократилась.Чукчи прекратили сопротивление лишь в 19 век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азаки,дойдя до тихого океана начали освоение курильских островов.Беринг в 30-40-хх гг.достиг Аляски и открыл ряд островов Алеутского архипелаг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428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7.Народы Сибири и Дальнего Востока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640" y="1884240"/>
            <a:ext cx="243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амчадальская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обачья почт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08360" y="849240"/>
            <a:ext cx="5219640" cy="28591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1640" y="765000"/>
            <a:ext cx="4465800" cy="6048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В 70-е гг.русские купцы нача-ли регулярные экспедиции на Аляску и Алеуты.Здесь возникли купеческие посе-ления, а затем торговые кампании, получившие пра во на управление «Русской Америкой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Освоение Сибири и Дальнего Востока привело к откры-тию полезных ископаемых. Их добычей занимались в Екатеринбургском,Алтайском и Нерчинском горно-промышленных районах 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428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7.Народы Сибири и Дальнего Востока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6440" y="5989680"/>
            <a:ext cx="25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усская Америк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 к.18 век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92480" cy="4849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Arial"/>
              </a:rPr>
              <a:t>1.Русский народ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Arial"/>
              </a:rPr>
              <a:t>2.Украинцы и белорусы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Arial"/>
              </a:rPr>
              <a:t>3.Народы Поволжья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Arial"/>
              </a:rPr>
              <a:t>4.Народы Казахстана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Arial"/>
              </a:rPr>
              <a:t>5.Калмык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Arial"/>
              </a:rPr>
              <a:t>6.Народы Кавказа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Arial"/>
              </a:rPr>
              <a:t>7.Народы Сибири и Дальнего Востока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4360" y="2060280"/>
            <a:ext cx="7240680" cy="3816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ую политику проводило самодержавие в отношении народов Российской империи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2920" y="765000"/>
            <a:ext cx="4465800" cy="6048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Население России к к.18 в.до- стигло 37 млн.человек.51% населения составляли не-русские народы.В ряде слу-чаев они имели большие права,чем русский народ (На Украине до 1783 г.не было крепостничества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равительство проводило по-литику русской колониза-ции, переселяя русских в Приуралье,Сибирь,на Да-льний Восток.Колонисты прививали кочевому насе-лению культуру земледе-лия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428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1.Русский народ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6800" y="6060960"/>
            <a:ext cx="414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Венецианов.Крестьянска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девушка с теленком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8120" y="907920"/>
            <a:ext cx="3989520" cy="5167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4428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1.Русский народ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6880" y="1812960"/>
            <a:ext cx="301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.Бирштейн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Тобольский кремль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7640" y="3789000"/>
            <a:ext cx="8929800" cy="302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Численность русских в Сибири составила 1 млн.чело-век.Захват помещиками земель приводил к восстани-ям местного населения против русских.С присоеди-нением Прибалтики,Северного Причерноморья и Се-верного Кавказа началось переселение сюда местно-го населения.В то же время была введена черта осед-лости для евреев и других народов.Им запрещалось селиться в центральных районах стра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27640" y="804960"/>
            <a:ext cx="4321080" cy="29271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761000" y="765000"/>
            <a:ext cx="4348080" cy="6048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Численность украинцев и бе-лорусов, проживавших в Российской империи вы-росла за счет присоедине-ния Правобережной Укра-ины.В отношении их пра-вительство проводило по-литику русификации. Зем-ля раздавалась русским помещикам,в 1764 г.было ликвидировано гетманст-во, управление стало осу-ществляться через мало-российскую коллегию. Но дворяне были уравнены в правах с русским дворян-ством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428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2.Украинцы и белорусы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080" y="6019560"/>
            <a:ext cx="434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рисоединение украинских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 белорусских земель в к.18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4680" y="907920"/>
            <a:ext cx="3882960" cy="50911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428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3.Народы Поволжья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1080" y="1842840"/>
            <a:ext cx="435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.Савицкий.Пригон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абочих на уральские заводы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7640" y="3789000"/>
            <a:ext cx="8929800" cy="302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роды Поволжья,как и прежде платили дань централь-ной власти.В 18 в.их начали использовать на горных заводах Южного Урала.Насилие властей приводило к частым восстаниям среди татар и башкир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отношение мусульман и язычников власти проводи-ли политику насильственной христианизации, но как только давление властей ослабевало «крещеные» вновь возвращались в ислам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5840" y="792000"/>
            <a:ext cx="4249800" cy="2936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7640" y="3860280"/>
            <a:ext cx="8929800" cy="302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В 18 в.казахские племена, находившиеся под протекторатом России,вели кочевой образ жизни-разводили скот и торго-вали со странами Востока.Ремесло носило семейный харак-тер.Женщины занимались ткачеством,а мужчины обраба-тывали металл, кожу, занимались резьбой по дерев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осле присоединения к России Старшего,Среднего и Млад-шего Казахских Жузов, налось развитие земледелия-выра-щивание пшеницы и прос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428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Народы Казахстана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800" y="1842840"/>
            <a:ext cx="386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азахстан и Средняя Аз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 18-19 в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357800" y="781200"/>
            <a:ext cx="4535280" cy="3024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61000" y="765000"/>
            <a:ext cx="4348080" cy="6048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В 18 в.калмыцкие племена вытеснили ногаев в район Северного Кавказа.В 1737 г. около Самары,-для при-нявших христианство бы-ла основана крепость. Но калмыки не захотели пе-рейти к оседлости и их пе-реселили в Оренбургские степ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В 1771 г.из-за усилившегося гнета,часть калмыков уш-ла в Китай. Калмыцкое ханство было ликвидиро-вано, а его территория во-шла в состав Астраханс-кой губерни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428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5.Калмыки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1480" y="6060960"/>
            <a:ext cx="304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алмыки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Открытка к.19 век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9320" y="907920"/>
            <a:ext cx="3461040" cy="5173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Чернов Алексей</cp:lastModifiedBy>
  <cp:lastPrinted>1997-01-19T19:09:28Z</cp:lastPrinted>
  <dcterms:modified xsi:type="dcterms:W3CDTF">2002-11-08T12:15:22Z</dcterms:modified>
  <cp:revision>190</cp:revision>
  <dc:subject/>
  <dc:title>Заголовок слайда отсутствует</dc:title>
</cp:coreProperties>
</file>