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6416-B2A2-4CEA-A700-0B859ED75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ABBE-39DE-4FB7-A699-C6DA333F3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1402-74E4-4660-BD6A-C33A8CA13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4CC2-E8FC-4E9E-9F4D-573B3EF57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BE570-7BA2-470D-960B-14A27A2C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6516D-2849-43FD-8F67-4D856E03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0E077-703D-4F0F-B7E3-B06ED099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B1B79-94AF-444A-B205-F7BCAAD1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78816-1EF0-4E36-BE3E-697E03E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C7CCC-82A9-4E80-A01B-1E43864E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438D7-D4F2-445F-A201-F89B0EB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1C95-E7FC-41B5-8387-82C4F9116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B9717-4813-4BB5-8410-311761C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89F0E-79DD-471E-8E75-18B03195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72285-5429-4784-A3F9-CE19244B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E0042-F500-4C0F-B278-32CC3789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38F77-F4D0-4628-B9A8-54E87EDC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2E00-B8DE-4771-9244-E2953EA48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08B5-7B88-4CCB-B466-4B200C21E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C033E-A146-457F-9827-B8B54646A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3D7C-47E5-43E9-83FB-488D81930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66DF-A59E-446D-B38B-8C8C3CC27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D6C1-ABAA-41F1-AFEC-B2DDB2999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30E6-3693-4205-83B0-8146BE2D1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41F3-D346-4043-B897-0691A7211E0A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8AD0-FD47-4615-AD9B-F5AB3E29990D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7256-C141-41B1-8ED7-8DD96FA9C967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19320" y="2209680"/>
            <a:ext cx="76197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Государство 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первых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Романовых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720" y="4572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я Отечества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26CF7D-311C-4340-B039-6EB78A1FCE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90a11"/>
                </a:solidFill>
                <a:latin typeface="Times New Roman"/>
              </a:rPr>
              <a:t>4.Соборное уложение 1649 г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30524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9 г. Земский Собор принял Соборное уло-жение-общерусский свод зако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нем отменялись уроч-ные лета-это означало окончательное закрепо-щение крестьян.Горо-жане были прикрепле-ны к посадам, а поме-щики стали отвечать за преступления своих крестьян.Главными объявлялись преступ-ления против царя и его имуществ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65720" cy="49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35800" y="5991120"/>
            <a:ext cx="41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оборное уложение 1649 г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аздел о беглых крестьяна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2.Земские соборы и Боярская Дума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3.Органы исполнительной власти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4.Соборное уложение 1649 г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кажите,что при первых Романовых в России сформировалась самодержавная система управления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Михаил Федорович стал царем в 16 лет.Он попал в зависимость от свое-го окружения-сначала родственников матери, а затем отца,который в 1619 г.был избран патри архом.Филарет получил огромную власть и да-же ставил свою под-пись на государствен-ных документа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отца Михил стал править самостоя-тельн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138320"/>
            <a:ext cx="3855960" cy="538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5 г.на престол всту-пил Алексей Михайло-вич. Его воспитатель Б. Морозов привил ему лю бовь к чтению. Царь был набожным челове-ком,за что получил проз вище- «Тишайший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Алексей был женат дваж-ды.От брака с М.Милос-лавской у него роди-лось 13 детей, а от Н.На рышкиной-трое,в том числе будущий царь- Петр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127160"/>
            <a:ext cx="3514680" cy="547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1640" y="990360"/>
            <a:ext cx="434340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Земский собор в н. прав-ления Михаила собирал ся регулярно.Он дол-жен был отстаивать ин-тересы населения пе-ред царем.Романовы были заинтересованы в поддержке Собора, но с укреплением государ-ства,особенно после смерти Филарета,они стали собираться не ре-гулярно-Романовы хо-тели «забыть выбор-ность» Михаил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3751200" cy="5573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2000" y="4508280"/>
            <a:ext cx="8982000" cy="2305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Михаила возникла идея сделать Собор постоянно действующим по образу английского пар-ламента,но это предложение  мешало становлению самодержав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этому Соборы стали созываться только для утверж-дения царских законов.Последний раз Земский Собор был созван в 1653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484360" y="1052640"/>
            <a:ext cx="6480360" cy="3384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41840" y="2565360"/>
            <a:ext cx="22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Ивано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Земский собор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52840" y="665280"/>
            <a:ext cx="5267160" cy="3527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320" y="4221000"/>
            <a:ext cx="8991360" cy="255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тепенно снижалась роль Боярской Думы-количест-во  ее членов сократилось.Царь стал созывать «ближ-нюю думу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ума по-прежнему решала вопросы мира и войны, вве-дения налогов и т.д.,но все чаще последнее слово оказывалось за царем,хотя решения оформлялись записью «Царь решил и бояре приговорили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04920" y="4428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960" y="1484280"/>
            <a:ext cx="323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Рябушкин.Сидение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царя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хаила Федорович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 боярами в его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осударевой комнате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64000" y="682560"/>
            <a:ext cx="5040360" cy="331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621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3.Органы исполнительной власт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8920" y="4076280"/>
            <a:ext cx="8534160" cy="2700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сполнительная власть принадлежала приказам.Кру-пнейшими были-Посольский ,Большого дворца,Ка-зенный,Разбойный и т.д.Но многие приказы часто имели сходные функции и мешали друг другу.В приказах царили взяточничество и казнокрадств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 местах власть принадлежала воеводам возглав-лявшим уезды,а те делились на станы и волости. Воеводы обладали всей полнотой власти в уезд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7160" y="2060640"/>
            <a:ext cx="304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Иванов.В Приказ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овских времен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Чернов Алексей</cp:lastModifiedBy>
  <cp:lastPrinted>1997-01-19T19:09:28Z</cp:lastPrinted>
  <dcterms:modified xsi:type="dcterms:W3CDTF">2002-08-17T11:29:31Z</dcterms:modified>
  <cp:revision>164</cp:revision>
  <dc:subject/>
  <dc:title>Заголовок слайда отсутствует</dc:title>
</cp:coreProperties>
</file>