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5.png" ContentType="image/png"/>
  <Override PartName="/ppt/media/image13.wmf" ContentType="image/x-wmf"/>
  <Override PartName="/ppt/media/image6.wmf" ContentType="image/x-wmf"/>
  <Override PartName="/ppt/media/image10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14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wmf" ContentType="image/x-wmf"/>
  <Override PartName="/ppt/media/image25.wmf" ContentType="image/x-wmf"/>
  <Override PartName="/ppt/media/image3.jpeg" ContentType="image/jpeg"/>
  <Override PartName="/ppt/media/image15.png" ContentType="image/png"/>
  <Override PartName="/ppt/media/image29.wmf" ContentType="image/x-wmf"/>
  <Override PartName="/ppt/media/image1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32.wmf" ContentType="image/x-wmf"/>
  <Override PartName="/ppt/media/image21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85A-E758-411B-9BC2-ABAB08C5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158-EC5A-4D49-AE6D-1952F4E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F6E-C2AC-4D37-9076-A3AF8B38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C25-6841-4F64-A0E8-05B1F082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7107-7843-4411-B943-A03E2280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E95B-0855-4A20-997B-1889D1D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DF18-29EC-4C92-8BF8-85532594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4D5F-AC45-4271-AC15-616A5DF6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544B-B060-4977-8F54-18C6F01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0B24-9F8D-41B9-831A-D870598A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F6C5-F980-4B56-A6AD-CCD523E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199-9371-4A30-A525-981EEA99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9B0E-AADD-46C5-930E-E3612D24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4202-86D8-42C1-8590-2FB2817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15F4-BE10-4181-B048-C42D9A02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B14-0593-4964-ACE7-5A952529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7591-1AEF-4B4D-98E7-A01029AC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497-B9A9-4647-8F11-545DC91F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F88-9727-4EC1-A702-58F8BAA2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AC0-7086-4B10-B62A-81A6A907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657-D60B-4C80-B661-E8F6CFD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417-3295-46A5-A31E-80AB76C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D86-8724-4CF6-A83D-7E546116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D61-1862-4BE4-9BA7-475B40E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957-E2EB-4F6F-B397-6DCA40A276F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2FF4-44E0-4F74-8312-DAB3259947E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Духовная культу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ая российская культу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19320" y="1143000"/>
            <a:ext cx="2095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Arial"/>
              </a:rPr>
              <a:t>кризис 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Arial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05320" y="1143000"/>
            <a:ext cx="4876560" cy="1143000"/>
            <a:chOff x="3505320" y="1143000"/>
            <a:chExt cx="4876560" cy="1143000"/>
          </a:xfrm>
        </p:grpSpPr>
        <p:grpSp>
          <p:nvGrpSpPr>
            <p:cNvPr id="274" name=""/>
            <p:cNvGrpSpPr/>
            <p:nvPr/>
          </p:nvGrpSpPr>
          <p:grpSpPr>
            <a:xfrm>
              <a:off x="4746600" y="1143000"/>
              <a:ext cx="3635280" cy="1143000"/>
              <a:chOff x="4746600" y="1143000"/>
              <a:chExt cx="3635280" cy="1143000"/>
            </a:xfrm>
          </p:grpSpPr>
          <p:pic>
            <p:nvPicPr>
              <p:cNvPr id="2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56280" y="1143000"/>
                <a:ext cx="142560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5200" y="1371600"/>
                <a:ext cx="17571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4746600" y="1219320"/>
                <a:ext cx="0" cy="106668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05320" y="14479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143000" y="2819520"/>
            <a:ext cx="7391520" cy="1143000"/>
            <a:chOff x="1143000" y="2819520"/>
            <a:chExt cx="7391520" cy="1143000"/>
          </a:xfrm>
        </p:grpSpPr>
        <p:sp>
          <p:nvSpPr>
            <p:cNvPr id="280" name=""/>
            <p:cNvSpPr/>
            <p:nvPr/>
          </p:nvSpPr>
          <p:spPr>
            <a:xfrm>
              <a:off x="1143000" y="2819520"/>
              <a:ext cx="7391520" cy="457200"/>
            </a:xfrm>
            <a:prstGeom prst="downArrowCallout">
              <a:avLst>
                <a:gd name="adj1" fmla="val 48655"/>
                <a:gd name="adj2" fmla="val 65641"/>
                <a:gd name="adj3" fmla="val 27431"/>
                <a:gd name="adj4" fmla="val 42014"/>
              </a:avLst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143000" y="3352680"/>
              <a:ext cx="739152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Times New Roman"/>
                </a:rPr>
                <a:t>духовное обнищание народ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83320" y="4390920"/>
            <a:ext cx="2922480" cy="1557000"/>
          </a:xfrm>
          <a:prstGeom prst="rect">
            <a:avLst/>
          </a:prstGeom>
          <a:solidFill>
            <a:srgbClr val="808080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упадок мора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рост преступ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засорение язы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724280" y="4038480"/>
            <a:ext cx="3733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интеллектуализация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олодежи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52880" y="46483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50000">
                      <a:srgbClr val="3b3b3b"/>
                    </a:gs>
                    <a:gs pos="100000">
                      <a:srgbClr val="808080"/>
                    </a:gs>
                  </a:gsLst>
                  <a:lin ang="13500000"/>
                </a:gradFill>
                <a:latin typeface="Arial"/>
              </a:rPr>
              <a:t>50-е - 3-е мест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5000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2880" y="53341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50000">
                      <a:srgbClr val="3b3b3b"/>
                    </a:gs>
                    <a:gs pos="100000">
                      <a:srgbClr val="808080"/>
                    </a:gs>
                  </a:gsLst>
                  <a:lin ang="13500000"/>
                </a:gradFill>
                <a:latin typeface="Arial"/>
              </a:rPr>
              <a:t>80-е - 42-е мест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5000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952880" y="60199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50000">
                      <a:srgbClr val="3b3b3b"/>
                    </a:gs>
                    <a:gs pos="100000">
                      <a:srgbClr val="808080"/>
                    </a:gs>
                  </a:gsLst>
                  <a:lin ang="13500000"/>
                </a:gradFill>
                <a:latin typeface="Arial"/>
              </a:rPr>
              <a:t>90-е - 50-е мест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5000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ая российская культу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19320" y="1219320"/>
            <a:ext cx="302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озрожд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культу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419720" y="1219320"/>
            <a:ext cx="4168800" cy="1066680"/>
            <a:chOff x="4419720" y="1219320"/>
            <a:chExt cx="4168800" cy="1066680"/>
          </a:xfrm>
        </p:grpSpPr>
        <p:sp>
          <p:nvSpPr>
            <p:cNvPr id="290" name=""/>
            <p:cNvSpPr txBox="1"/>
            <p:nvPr/>
          </p:nvSpPr>
          <p:spPr>
            <a:xfrm>
              <a:off x="5562720" y="1219320"/>
              <a:ext cx="302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возрожд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Росс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19720" y="1523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 txBox="1"/>
          <p:nvPr/>
        </p:nvSpPr>
        <p:spPr>
          <a:xfrm>
            <a:off x="1295280" y="2819520"/>
            <a:ext cx="2667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?  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то 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зрождать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048120" y="2514600"/>
            <a:ext cx="5181480" cy="1066680"/>
            <a:chOff x="3048120" y="2514600"/>
            <a:chExt cx="5181480" cy="1066680"/>
          </a:xfrm>
        </p:grpSpPr>
        <p:sp>
          <p:nvSpPr>
            <p:cNvPr id="294" name=""/>
            <p:cNvSpPr txBox="1"/>
            <p:nvPr/>
          </p:nvSpPr>
          <p:spPr>
            <a:xfrm>
              <a:off x="5029200" y="2514600"/>
              <a:ext cx="320040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cc00"/>
                      </a:gs>
                      <a:gs pos="50000">
                        <a:srgbClr val="755e00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Arial"/>
                </a:rPr>
                <a:t>классическ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755e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cc00"/>
                      </a:gs>
                      <a:gs pos="50000">
                        <a:srgbClr val="755e00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Arial"/>
                </a:rPr>
                <a:t>культур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755e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48120" y="2743200"/>
              <a:ext cx="1828800" cy="83808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048120" y="3581280"/>
            <a:ext cx="5029200" cy="1219320"/>
            <a:chOff x="3048120" y="3581280"/>
            <a:chExt cx="5029200" cy="1219320"/>
          </a:xfrm>
        </p:grpSpPr>
        <p:sp>
          <p:nvSpPr>
            <p:cNvPr id="297" name=""/>
            <p:cNvSpPr txBox="1"/>
            <p:nvPr/>
          </p:nvSpPr>
          <p:spPr>
            <a:xfrm>
              <a:off x="5029200" y="3657600"/>
              <a:ext cx="30481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народная</a:t>
              </a:r>
              <a:endParaRPr b="1" lang="en-US" sz="24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культура</a:t>
              </a:r>
              <a:endParaRPr b="1" lang="en-US" sz="24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48120" y="3581280"/>
              <a:ext cx="1752480" cy="6858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219320" y="5029200"/>
            <a:ext cx="7619760" cy="1600200"/>
            <a:chOff x="1219320" y="5029200"/>
            <a:chExt cx="7619760" cy="1600200"/>
          </a:xfrm>
        </p:grpSpPr>
        <p:sp>
          <p:nvSpPr>
            <p:cNvPr id="300" name=""/>
            <p:cNvSpPr/>
            <p:nvPr/>
          </p:nvSpPr>
          <p:spPr>
            <a:xfrm>
              <a:off x="1219320" y="5029200"/>
              <a:ext cx="7619760" cy="380880"/>
            </a:xfrm>
            <a:prstGeom prst="downArrowCallout">
              <a:avLst>
                <a:gd name="adj1" fmla="val 67433"/>
                <a:gd name="adj2" fmla="val 90396"/>
                <a:gd name="adj3" fmla="val 23333"/>
                <a:gd name="adj4" fmla="val 40417"/>
              </a:avLst>
            </a:prstGeom>
            <a:solidFill>
              <a:srgbClr val="ffcc00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2765520" y="5486400"/>
              <a:ext cx="44733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сочетание ценностей</a:t>
              </a:r>
              <a:endPara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различных культур</a:t>
              </a:r>
              <a:endParaRPr b="1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ая российская культу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19320" y="1219320"/>
            <a:ext cx="302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озрожд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культур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267080" y="1295280"/>
            <a:ext cx="4377240" cy="825480"/>
            <a:chOff x="4267080" y="1295280"/>
            <a:chExt cx="4377240" cy="825480"/>
          </a:xfrm>
        </p:grpSpPr>
        <p:sp>
          <p:nvSpPr>
            <p:cNvPr id="305" name=""/>
            <p:cNvSpPr/>
            <p:nvPr/>
          </p:nvSpPr>
          <p:spPr>
            <a:xfrm>
              <a:off x="5374440" y="1295280"/>
              <a:ext cx="3269880" cy="825480"/>
            </a:xfrm>
            <a:prstGeom prst="rect">
              <a:avLst/>
            </a:prstGeom>
            <a:solidFill>
              <a:srgbClr val="ffccff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хранение и защи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ультурного наслед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67080" y="1752480"/>
              <a:ext cx="99072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918000" y="2209680"/>
            <a:ext cx="4339440" cy="2543400"/>
            <a:chOff x="918000" y="2209680"/>
            <a:chExt cx="4339440" cy="2543400"/>
          </a:xfrm>
        </p:grpSpPr>
        <p:grpSp>
          <p:nvGrpSpPr>
            <p:cNvPr id="308" name=""/>
            <p:cNvGrpSpPr/>
            <p:nvPr/>
          </p:nvGrpSpPr>
          <p:grpSpPr>
            <a:xfrm>
              <a:off x="918000" y="2743200"/>
              <a:ext cx="2376720" cy="2009880"/>
              <a:chOff x="918000" y="2743200"/>
              <a:chExt cx="2376720" cy="2009880"/>
            </a:xfrm>
          </p:grpSpPr>
          <p:pic>
            <p:nvPicPr>
              <p:cNvPr id="3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66720" y="2743200"/>
                <a:ext cx="974880" cy="12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918000" y="3927600"/>
                <a:ext cx="237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рхитектурны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амятник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flipH="1">
              <a:off x="2209320" y="2209680"/>
              <a:ext cx="304812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517200" y="2209680"/>
            <a:ext cx="1740240" cy="2517840"/>
            <a:chOff x="3517200" y="2209680"/>
            <a:chExt cx="1740240" cy="251784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3733920" y="2836800"/>
              <a:ext cx="10602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517200" y="3902040"/>
              <a:ext cx="150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яды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ради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495320" y="2209680"/>
              <a:ext cx="762120" cy="6098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149800" y="2209680"/>
            <a:ext cx="1595160" cy="2517840"/>
            <a:chOff x="5149800" y="2209680"/>
            <a:chExt cx="1595160" cy="251784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5486400" y="2971800"/>
              <a:ext cx="8460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149800" y="3902040"/>
              <a:ext cx="159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од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с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57800" y="2209680"/>
              <a:ext cx="533520" cy="7621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257800" y="2209680"/>
            <a:ext cx="3729960" cy="2517840"/>
            <a:chOff x="5257800" y="2209680"/>
            <a:chExt cx="3729960" cy="251784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967440" y="2971800"/>
              <a:ext cx="164304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85560" y="3902040"/>
              <a:ext cx="230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циональна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ухн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57800" y="2209680"/>
              <a:ext cx="2362320" cy="9144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066680" y="4800600"/>
            <a:ext cx="7772400" cy="1674360"/>
            <a:chOff x="1066680" y="4800600"/>
            <a:chExt cx="7772400" cy="1674360"/>
          </a:xfrm>
        </p:grpSpPr>
        <p:sp>
          <p:nvSpPr>
            <p:cNvPr id="325" name=""/>
            <p:cNvSpPr txBox="1"/>
            <p:nvPr/>
          </p:nvSpPr>
          <p:spPr>
            <a:xfrm>
              <a:off x="1066680" y="5257800"/>
              <a:ext cx="533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Но!</a:t>
              </a:r>
              <a:endParaRPr b="1" lang="en-US" sz="24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43000" y="4800600"/>
              <a:ext cx="769608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744560" y="5486400"/>
              <a:ext cx="26751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манкуртизм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52640" y="4917960"/>
              <a:ext cx="4075920" cy="1557000"/>
            </a:xfrm>
            <a:prstGeom prst="rect">
              <a:avLst/>
            </a:prstGeom>
            <a:solidFill>
              <a:srgbClr val="5f5f5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Times New Roman"/>
                </a:rPr>
                <a:t>Современная форма</a:t>
              </a: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cc"/>
                  </a:solidFill>
                  <a:latin typeface="Times New Roman"/>
                </a:rPr>
                <a:t>ванд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Times New Roman"/>
                </a:rPr>
                <a:t>лизма,разрыв связей с ист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Times New Roman"/>
                </a:rPr>
                <a:t>рическим и культурны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Times New Roman"/>
                </a:rPr>
                <a:t>наследие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Что такое культура?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1371600"/>
            <a:ext cx="203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76720" y="1336680"/>
            <a:ext cx="5482800" cy="459720"/>
            <a:chOff x="3276720" y="1336680"/>
            <a:chExt cx="5482800" cy="459720"/>
          </a:xfrm>
        </p:grpSpPr>
        <p:sp>
          <p:nvSpPr>
            <p:cNvPr id="119" name=""/>
            <p:cNvSpPr/>
            <p:nvPr/>
          </p:nvSpPr>
          <p:spPr>
            <a:xfrm>
              <a:off x="4869360" y="1336680"/>
              <a:ext cx="389016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зделывание почвы,(лат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6720" y="1600200"/>
              <a:ext cx="14475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109880" y="1752480"/>
            <a:ext cx="7703280" cy="1511280"/>
            <a:chOff x="1109880" y="1752480"/>
            <a:chExt cx="7703280" cy="1511280"/>
          </a:xfrm>
        </p:grpSpPr>
        <p:sp>
          <p:nvSpPr>
            <p:cNvPr id="122" name=""/>
            <p:cNvSpPr/>
            <p:nvPr/>
          </p:nvSpPr>
          <p:spPr>
            <a:xfrm>
              <a:off x="1109880" y="2438280"/>
              <a:ext cx="770328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ffcc"/>
                  </a:solidFill>
                  <a:latin typeface="Times New Roman"/>
                </a:rPr>
                <a:t>Все виды преобразовательной деятельности человек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ffcc"/>
                  </a:solidFill>
                  <a:latin typeface="Times New Roman"/>
                </a:rPr>
                <a:t>и общества, а также ее результаты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1752480"/>
              <a:ext cx="0" cy="6098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030680" y="3429000"/>
            <a:ext cx="3097800" cy="2060640"/>
            <a:chOff x="1030680" y="3429000"/>
            <a:chExt cx="3097800" cy="2060640"/>
          </a:xfrm>
        </p:grpSpPr>
        <p:grpSp>
          <p:nvGrpSpPr>
            <p:cNvPr id="125" name=""/>
            <p:cNvGrpSpPr/>
            <p:nvPr/>
          </p:nvGrpSpPr>
          <p:grpSpPr>
            <a:xfrm>
              <a:off x="1066680" y="3429000"/>
              <a:ext cx="3017880" cy="1181160"/>
              <a:chOff x="1066680" y="3429000"/>
              <a:chExt cx="3017880" cy="11811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1066680" y="4038480"/>
                <a:ext cx="3017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66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Материальная</a:t>
                </a:r>
                <a:endParaRPr b="1" lang="en-US" sz="2400" spc="1" strike="noStrike">
                  <a:ln w="9360">
                    <a:solidFill>
                      <a:srgbClr val="0066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09680" y="3429000"/>
                <a:ext cx="0" cy="68580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30680" y="4664160"/>
              <a:ext cx="3097800" cy="82548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ется в процесс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95880" y="3429000"/>
            <a:ext cx="2286000" cy="2044800"/>
            <a:chOff x="6095880" y="3429000"/>
            <a:chExt cx="2286000" cy="2044800"/>
          </a:xfrm>
        </p:grpSpPr>
        <p:sp>
          <p:nvSpPr>
            <p:cNvPr id="130" name=""/>
            <p:cNvSpPr/>
            <p:nvPr/>
          </p:nvSpPr>
          <p:spPr>
            <a:xfrm>
              <a:off x="7391520" y="3429000"/>
              <a:ext cx="0" cy="6858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6095880" y="396252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Духовная</a:t>
              </a:r>
              <a:endPara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87480" y="4648320"/>
              <a:ext cx="17262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уховно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ворче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4678200" y="3429000"/>
            <a:ext cx="1113120" cy="107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4190760" y="4495680"/>
            <a:ext cx="990360" cy="685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495680"/>
            <a:ext cx="1066680" cy="6858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5867280"/>
            <a:ext cx="769644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ультура-мера человеческого в человеке!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Традиции и новаторство в культу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1219320"/>
            <a:ext cx="7391160" cy="1562040"/>
            <a:chOff x="1219320" y="1219320"/>
            <a:chExt cx="7391160" cy="1562040"/>
          </a:xfrm>
        </p:grpSpPr>
        <p:sp>
          <p:nvSpPr>
            <p:cNvPr id="139" name=""/>
            <p:cNvSpPr txBox="1"/>
            <p:nvPr/>
          </p:nvSpPr>
          <p:spPr>
            <a:xfrm>
              <a:off x="3733920" y="2133720"/>
              <a:ext cx="2313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культура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5094360" y="1219320"/>
              <a:ext cx="151128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искус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863880" y="1219320"/>
              <a:ext cx="82548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аук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219320" y="1219320"/>
              <a:ext cx="22413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равственост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7010280" y="1219320"/>
              <a:ext cx="12193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религ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1676520"/>
              <a:ext cx="7391160" cy="380880"/>
            </a:xfrm>
            <a:prstGeom prst="downArrowCallout">
              <a:avLst>
                <a:gd name="adj1" fmla="val 41690"/>
                <a:gd name="adj2" fmla="val 72501"/>
                <a:gd name="adj3" fmla="val 22917"/>
                <a:gd name="adj4" fmla="val 41667"/>
              </a:avLst>
            </a:prstGeom>
            <a:solidFill>
              <a:srgbClr val="ffcc00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143000" y="2819520"/>
            <a:ext cx="762012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81280" y="3083040"/>
            <a:ext cx="2506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копление</a:t>
            </a:r>
            <a:endParaRPr b="1" lang="en-US" sz="2400" spc="1" strike="noStrike">
              <a:ln w="3240">
                <a:solidFill>
                  <a:srgbClr val="221304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нностей</a:t>
            </a:r>
            <a:endParaRPr b="1" lang="en-US" sz="2400" spc="1" strike="noStrike">
              <a:ln w="3240">
                <a:solidFill>
                  <a:srgbClr val="221304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44200" y="3083040"/>
            <a:ext cx="2445120" cy="1371600"/>
            <a:chOff x="844200" y="3083040"/>
            <a:chExt cx="2445120" cy="1371600"/>
          </a:xfrm>
        </p:grpSpPr>
        <p:sp>
          <p:nvSpPr>
            <p:cNvPr id="148" name=""/>
            <p:cNvSpPr/>
            <p:nvPr/>
          </p:nvSpPr>
          <p:spPr>
            <a:xfrm flipV="1">
              <a:off x="3289320" y="3083040"/>
              <a:ext cx="0" cy="1371600"/>
            </a:xfrm>
            <a:prstGeom prst="line">
              <a:avLst/>
            </a:prstGeom>
            <a:ln w="76320">
              <a:solidFill>
                <a:srgbClr val="2213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4200" y="3191040"/>
              <a:ext cx="228672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о вертикали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 поколения 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колен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289320" y="2895480"/>
            <a:ext cx="5643000" cy="1922760"/>
            <a:chOff x="3289320" y="2895480"/>
            <a:chExt cx="5643000" cy="1922760"/>
          </a:xfrm>
        </p:grpSpPr>
        <p:sp>
          <p:nvSpPr>
            <p:cNvPr id="151" name=""/>
            <p:cNvSpPr/>
            <p:nvPr/>
          </p:nvSpPr>
          <p:spPr>
            <a:xfrm>
              <a:off x="3289320" y="4454640"/>
              <a:ext cx="2971800" cy="0"/>
            </a:xfrm>
            <a:prstGeom prst="line">
              <a:avLst/>
            </a:prstGeom>
            <a:ln w="76320">
              <a:solidFill>
                <a:srgbClr val="2213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1520" y="2895480"/>
              <a:ext cx="2530800" cy="192276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о горизонтали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о су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ествуют произ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едения раз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пох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H="1">
            <a:off x="1142640" y="4952880"/>
            <a:ext cx="76201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5181480"/>
            <a:ext cx="200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е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ы</a:t>
            </a:r>
            <a:endParaRPr b="1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76720" y="5438880"/>
            <a:ext cx="2971800" cy="657000"/>
            <a:chOff x="3276720" y="5438880"/>
            <a:chExt cx="2971800" cy="657000"/>
          </a:xfrm>
        </p:grpSpPr>
        <p:sp>
          <p:nvSpPr>
            <p:cNvPr id="156" name=""/>
            <p:cNvSpPr txBox="1"/>
            <p:nvPr/>
          </p:nvSpPr>
          <p:spPr>
            <a:xfrm>
              <a:off x="3962520" y="5438880"/>
              <a:ext cx="228600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оваторство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6720" y="576720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0760" y="5105520"/>
            <a:ext cx="255204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должна быть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ультуры  в культу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74960" y="2743200"/>
            <a:ext cx="4211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тор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эпох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44792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тернациональн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038480" y="121932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циональн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934320" y="1523880"/>
            <a:ext cx="1752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етск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680" y="533412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лигиозн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9880" y="548640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зросл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24480" y="3581280"/>
            <a:ext cx="2438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ежн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19320" y="3581280"/>
            <a:ext cx="2438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падн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477120" y="533412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ультуры  в культу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95280" y="1219320"/>
            <a:ext cx="266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ссовая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562720" y="1219320"/>
            <a:ext cx="2819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/>
                  </a:outerShdw>
                </a:effectLst>
                <a:latin typeface="Impact"/>
              </a:rPr>
              <a:t>элитар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/>
                  </a:outerShdw>
                </a:effectLst>
                <a:latin typeface="Impact"/>
              </a:rPr>
              <a:t>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66680" y="2590920"/>
            <a:ext cx="3124440" cy="1602720"/>
            <a:chOff x="1066680" y="2590920"/>
            <a:chExt cx="3124440" cy="1602720"/>
          </a:xfrm>
        </p:grpSpPr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1066680" y="2590920"/>
              <a:ext cx="146700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2743200" y="2637000"/>
              <a:ext cx="1447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281600" y="3733920"/>
              <a:ext cx="23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 СМ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447920" y="4114800"/>
            <a:ext cx="2340000" cy="974880"/>
            <a:chOff x="1447920" y="4114800"/>
            <a:chExt cx="2340000" cy="974880"/>
          </a:xfrm>
        </p:grpSpPr>
        <p:sp>
          <p:nvSpPr>
            <p:cNvPr id="177" name=""/>
            <p:cNvSpPr txBox="1"/>
            <p:nvPr/>
          </p:nvSpPr>
          <p:spPr>
            <a:xfrm>
              <a:off x="1447920" y="4572000"/>
              <a:ext cx="234000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latin typeface="Times New Roman"/>
                </a:rPr>
                <a:t>коммерция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6880" y="4114800"/>
              <a:ext cx="0" cy="4572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 txBox="1"/>
          <p:nvPr/>
        </p:nvSpPr>
        <p:spPr>
          <a:xfrm>
            <a:off x="1143000" y="5257800"/>
            <a:ext cx="304812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387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раскручивание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69200" y="5562720"/>
            <a:ext cx="1331280" cy="1034280"/>
            <a:chOff x="1069200" y="5562720"/>
            <a:chExt cx="1331280" cy="1034280"/>
          </a:xfrm>
        </p:grpSpPr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>
              <a:off x="1336680" y="5562720"/>
              <a:ext cx="722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069200" y="613728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сихоз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 txBox="1"/>
          <p:nvPr/>
        </p:nvSpPr>
        <p:spPr>
          <a:xfrm>
            <a:off x="2590920" y="5562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</a:rPr>
              <a:t>"халтура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latin typeface="Arial"/>
              <a:ea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847120" y="2438280"/>
            <a:ext cx="2511000" cy="2471400"/>
            <a:chOff x="5847120" y="2438280"/>
            <a:chExt cx="2511000" cy="2471400"/>
          </a:xfrm>
        </p:grpSpPr>
        <p:pic>
          <p:nvPicPr>
            <p:cNvPr id="185" name="" descr=""/>
            <p:cNvPicPr/>
            <p:nvPr/>
          </p:nvPicPr>
          <p:blipFill>
            <a:blip r:embed="rId10"/>
            <a:stretch/>
          </p:blipFill>
          <p:spPr>
            <a:xfrm>
              <a:off x="6429600" y="2438280"/>
              <a:ext cx="137160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847120" y="3352680"/>
              <a:ext cx="2511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жная д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прия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фка,Пикасс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нитке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867280" y="4876920"/>
            <a:ext cx="2590920" cy="838080"/>
            <a:chOff x="5867280" y="4876920"/>
            <a:chExt cx="2590920" cy="838080"/>
          </a:xfrm>
        </p:grpSpPr>
        <p:sp>
          <p:nvSpPr>
            <p:cNvPr id="188" name=""/>
            <p:cNvSpPr txBox="1"/>
            <p:nvPr/>
          </p:nvSpPr>
          <p:spPr>
            <a:xfrm>
              <a:off x="5867280" y="5257800"/>
              <a:ext cx="2590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864"/>
                  </a:solidFill>
                  <a:latin typeface="Arial"/>
                </a:rPr>
                <a:t>не комерческа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latin typeface="Arial"/>
                <a:ea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2920" y="4876920"/>
              <a:ext cx="0" cy="304560"/>
            </a:xfrm>
            <a:prstGeom prst="line">
              <a:avLst/>
            </a:prstGeom>
            <a:ln w="76320">
              <a:solidFill>
                <a:srgbClr val="cc98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486400" y="5808600"/>
            <a:ext cx="3513240" cy="744480"/>
            <a:chOff x="5486400" y="5808600"/>
            <a:chExt cx="3513240" cy="744480"/>
          </a:xfrm>
        </p:grpSpPr>
        <p:sp>
          <p:nvSpPr>
            <p:cNvPr id="191" name=""/>
            <p:cNvSpPr txBox="1"/>
            <p:nvPr/>
          </p:nvSpPr>
          <p:spPr>
            <a:xfrm>
              <a:off x="5486400" y="5914800"/>
              <a:ext cx="746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Но!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6309000" y="5852880"/>
              <a:ext cx="10825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Дали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1"/>
            <a:stretch/>
          </p:blipFill>
          <p:spPr>
            <a:xfrm>
              <a:off x="8213760" y="5808600"/>
              <a:ext cx="7858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527960" y="6029280"/>
              <a:ext cx="60984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000099"/>
            </a:solidFill>
            <a:ln w="93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действие культур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95280" y="1219320"/>
            <a:ext cx="7010640" cy="1110600"/>
            <a:chOff x="1295280" y="1219320"/>
            <a:chExt cx="7010640" cy="1110600"/>
          </a:xfrm>
        </p:grpSpPr>
        <p:sp>
          <p:nvSpPr>
            <p:cNvPr id="197" name=""/>
            <p:cNvSpPr txBox="1"/>
            <p:nvPr/>
          </p:nvSpPr>
          <p:spPr>
            <a:xfrm>
              <a:off x="1295280" y="1219320"/>
              <a:ext cx="25956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8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массовая</a:t>
              </a:r>
              <a:endParaRPr b="1" lang="en-US" sz="2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культура</a:t>
              </a:r>
              <a:endParaRPr b="1" lang="en-US" sz="2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5562720" y="1219320"/>
              <a:ext cx="27432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868686"/>
                    </a:outerShdw>
                  </a:effectLst>
                  <a:latin typeface="Impact"/>
                </a:rPr>
                <a:t>элитарна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868686"/>
                    </a:outerShdw>
                  </a:effectLst>
                  <a:latin typeface="Impact"/>
                </a:rPr>
                <a:t>культур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1371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solidFill>
              <a:srgbClr val="ffcc00"/>
            </a:solidFill>
            <a:ln w="93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60400" y="18702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заимодейств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324080" y="2529000"/>
            <a:ext cx="23335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циональная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410080" y="2514600"/>
            <a:ext cx="3429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нтернациональная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41640" y="3089160"/>
            <a:ext cx="2511000" cy="1557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Истор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 сре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200400"/>
            <a:ext cx="5178600" cy="1359000"/>
            <a:chOff x="3809880" y="3200400"/>
            <a:chExt cx="5178600" cy="1359000"/>
          </a:xfrm>
        </p:grpSpPr>
        <p:grpSp>
          <p:nvGrpSpPr>
            <p:cNvPr id="205" name=""/>
            <p:cNvGrpSpPr/>
            <p:nvPr/>
          </p:nvGrpSpPr>
          <p:grpSpPr>
            <a:xfrm>
              <a:off x="5389560" y="3200400"/>
              <a:ext cx="3598920" cy="1359000"/>
              <a:chOff x="5389560" y="3200400"/>
              <a:chExt cx="3598920" cy="1359000"/>
            </a:xfrm>
          </p:grpSpPr>
          <p:sp>
            <p:nvSpPr>
              <p:cNvPr id="206" name=""/>
              <p:cNvSpPr txBox="1"/>
              <p:nvPr/>
            </p:nvSpPr>
            <p:spPr>
              <a:xfrm>
                <a:off x="6019920" y="3200400"/>
                <a:ext cx="2307960" cy="65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ouble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античность</a:t>
                </a:r>
                <a:endPara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89560" y="3733920"/>
                <a:ext cx="3598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чало  взаимодейств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ульту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809880" y="3886200"/>
              <a:ext cx="1600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158840" y="4800600"/>
            <a:ext cx="2575080" cy="1752480"/>
            <a:chOff x="1158840" y="4800600"/>
            <a:chExt cx="2575080" cy="1752480"/>
          </a:xfrm>
        </p:grpSpPr>
        <p:sp>
          <p:nvSpPr>
            <p:cNvPr id="210" name=""/>
            <p:cNvSpPr txBox="1"/>
            <p:nvPr/>
          </p:nvSpPr>
          <p:spPr>
            <a:xfrm>
              <a:off x="1722600" y="4800600"/>
              <a:ext cx="1554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cc0099"/>
                  </a:solidFill>
                  <a:latin typeface="Arial"/>
                </a:rPr>
                <a:t>сейчас</a:t>
              </a:r>
              <a:endPara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c0099"/>
                </a:solidFill>
                <a:latin typeface="Arial"/>
                <a:ea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158840" y="5486400"/>
              <a:ext cx="25750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c0099"/>
                      </a:gs>
                      <a:gs pos="50000">
                        <a:srgbClr val="5e0046"/>
                      </a:gs>
                      <a:gs pos="100000">
                        <a:srgbClr val="cc0099"/>
                      </a:gs>
                    </a:gsLst>
                    <a:lin ang="13500000"/>
                  </a:gradFill>
                  <a:latin typeface="Arial"/>
                </a:rPr>
                <a:t>НТП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5e0046"/>
                    </a:gs>
                    <a:gs pos="100000">
                      <a:srgbClr val="cc0099"/>
                    </a:gs>
                  </a:gsLst>
                  <a:lin ang="135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c0099"/>
                      </a:gs>
                      <a:gs pos="50000">
                        <a:srgbClr val="5e0046"/>
                      </a:gs>
                      <a:gs pos="100000">
                        <a:srgbClr val="cc0099"/>
                      </a:gs>
                    </a:gsLst>
                    <a:lin ang="13500000"/>
                  </a:gradFill>
                  <a:latin typeface="Arial"/>
                </a:rPr>
                <a:t>интеграц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5e0046"/>
                    </a:gs>
                    <a:gs pos="100000">
                      <a:srgbClr val="cc0099"/>
                    </a:gs>
                  </a:gsLst>
                  <a:lin ang="135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9880" y="4800600"/>
            <a:ext cx="5029200" cy="657360"/>
            <a:chOff x="3809880" y="4800600"/>
            <a:chExt cx="5029200" cy="657360"/>
          </a:xfrm>
        </p:grpSpPr>
        <p:sp>
          <p:nvSpPr>
            <p:cNvPr id="213" name=""/>
            <p:cNvSpPr txBox="1"/>
            <p:nvPr/>
          </p:nvSpPr>
          <p:spPr>
            <a:xfrm>
              <a:off x="5486400" y="4800600"/>
              <a:ext cx="335268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интернационализация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5153040"/>
              <a:ext cx="1600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530680" y="5334120"/>
            <a:ext cx="3443760" cy="1358640"/>
            <a:chOff x="5530680" y="5334120"/>
            <a:chExt cx="3443760" cy="1358640"/>
          </a:xfrm>
        </p:grpSpPr>
        <p:sp>
          <p:nvSpPr>
            <p:cNvPr id="216" name=""/>
            <p:cNvSpPr/>
            <p:nvPr/>
          </p:nvSpPr>
          <p:spPr>
            <a:xfrm>
              <a:off x="5530680" y="5867280"/>
              <a:ext cx="344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блема сохранения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циональных культу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5400000">
              <a:off x="7315200" y="5410080"/>
              <a:ext cx="533160" cy="38088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действие культур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95480" y="1066680"/>
            <a:ext cx="4114800" cy="916920"/>
            <a:chOff x="2895480" y="1066680"/>
            <a:chExt cx="4114800" cy="916920"/>
          </a:xfrm>
        </p:grpSpPr>
        <p:sp>
          <p:nvSpPr>
            <p:cNvPr id="220" name=""/>
            <p:cNvSpPr txBox="1"/>
            <p:nvPr/>
          </p:nvSpPr>
          <p:spPr>
            <a:xfrm>
              <a:off x="2895480" y="1066680"/>
              <a:ext cx="41148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cc0099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иалог культур</a:t>
              </a:r>
              <a:endParaRPr b="1" lang="en-US" sz="24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9440" y="152388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ло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523880" y="2057400"/>
            <a:ext cx="6507000" cy="1143000"/>
            <a:chOff x="1523880" y="2057400"/>
            <a:chExt cx="6507000" cy="1143000"/>
          </a:xfrm>
        </p:grpSpPr>
        <p:sp>
          <p:nvSpPr>
            <p:cNvPr id="223" name=""/>
            <p:cNvSpPr txBox="1"/>
            <p:nvPr/>
          </p:nvSpPr>
          <p:spPr>
            <a:xfrm>
              <a:off x="1523880" y="2057400"/>
              <a:ext cx="25146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"равные и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разные"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257800" y="2057400"/>
              <a:ext cx="76968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7238880" y="2057400"/>
              <a:ext cx="79200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6338880" y="2057400"/>
              <a:ext cx="630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1143000" y="3809880"/>
            <a:ext cx="6963480" cy="1298160"/>
            <a:chOff x="1143000" y="3809880"/>
            <a:chExt cx="6963480" cy="1298160"/>
          </a:xfrm>
        </p:grpSpPr>
        <p:grpSp>
          <p:nvGrpSpPr>
            <p:cNvPr id="228" name=""/>
            <p:cNvGrpSpPr/>
            <p:nvPr/>
          </p:nvGrpSpPr>
          <p:grpSpPr>
            <a:xfrm>
              <a:off x="1143000" y="3809880"/>
              <a:ext cx="6888240" cy="1014480"/>
              <a:chOff x="1143000" y="3809880"/>
              <a:chExt cx="6888240" cy="101448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1143000" y="4191120"/>
                <a:ext cx="3200400" cy="633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ouble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взаимообогащение</a:t>
                </a:r>
                <a:endPara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410080" y="3809880"/>
                <a:ext cx="2621160" cy="990720"/>
                <a:chOff x="5410080" y="3809880"/>
                <a:chExt cx="2621160" cy="990720"/>
              </a:xfrm>
            </p:grpSpPr>
            <p:pic>
              <p:nvPicPr>
                <p:cNvPr id="2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410080" y="3886200"/>
                  <a:ext cx="86040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391520" y="3809880"/>
                  <a:ext cx="639720" cy="99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"/>
                <p:cNvSpPr/>
                <p:nvPr/>
              </p:nvSpPr>
              <p:spPr>
                <a:xfrm>
                  <a:off x="6324480" y="4114800"/>
                  <a:ext cx="990720" cy="380880"/>
                </a:xfrm>
                <a:prstGeom prst="leftRightArrow">
                  <a:avLst>
                    <a:gd name="adj1" fmla="val 50000"/>
                    <a:gd name="adj2" fmla="val 51782"/>
                  </a:avLst>
                </a:prstGeom>
                <a:solidFill>
                  <a:srgbClr val="ffffcc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5261760" y="464832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ультурный обме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90720" y="5267160"/>
            <a:ext cx="7696080" cy="1362240"/>
            <a:chOff x="990720" y="5267160"/>
            <a:chExt cx="7696080" cy="1362240"/>
          </a:xfrm>
        </p:grpSpPr>
        <p:sp>
          <p:nvSpPr>
            <p:cNvPr id="236" name=""/>
            <p:cNvSpPr/>
            <p:nvPr/>
          </p:nvSpPr>
          <p:spPr>
            <a:xfrm>
              <a:off x="990720" y="5267160"/>
              <a:ext cx="7696080" cy="381240"/>
            </a:xfrm>
            <a:prstGeom prst="downArrowCallout">
              <a:avLst>
                <a:gd name="adj1" fmla="val 52528"/>
                <a:gd name="adj2" fmla="val 65795"/>
                <a:gd name="adj3" fmla="val 26667"/>
                <a:gd name="adj4" fmla="val 37083"/>
              </a:avLst>
            </a:prstGeom>
            <a:solidFill>
              <a:srgbClr val="ffffcc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295280" y="5724360"/>
              <a:ext cx="7162920" cy="90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создание общечеловеческих</a:t>
              </a:r>
              <a:endPara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культурных ценностей</a:t>
              </a:r>
              <a:endPara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ая российская культу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21520" y="1082520"/>
            <a:ext cx="63817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Явления общественной жизни многознач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ависят от критериев оце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657600" y="2133720"/>
            <a:ext cx="4866480" cy="1523520"/>
            <a:chOff x="3657600" y="2133720"/>
            <a:chExt cx="4866480" cy="1523520"/>
          </a:xfrm>
        </p:grpSpPr>
        <p:grpSp>
          <p:nvGrpSpPr>
            <p:cNvPr id="241" name=""/>
            <p:cNvGrpSpPr/>
            <p:nvPr/>
          </p:nvGrpSpPr>
          <p:grpSpPr>
            <a:xfrm>
              <a:off x="4419720" y="2133720"/>
              <a:ext cx="4104360" cy="1191240"/>
              <a:chOff x="4419720" y="2133720"/>
              <a:chExt cx="4104360" cy="11912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9720" y="2178000"/>
                <a:ext cx="1981080" cy="11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6577200" y="2133720"/>
                <a:ext cx="1946880" cy="1191240"/>
              </a:xfrm>
              <a:prstGeom prst="rect">
                <a:avLst/>
              </a:prstGeom>
              <a:solidFill>
                <a:srgbClr val="ffffcc"/>
              </a:solidFill>
              <a:ln w="7632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м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оздаваемы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ценносте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 flipV="1">
              <a:off x="3657600" y="2971440"/>
              <a:ext cx="91440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9880" y="4724280"/>
            <a:ext cx="4607640" cy="1195200"/>
            <a:chOff x="3809880" y="4724280"/>
            <a:chExt cx="4607640" cy="1195200"/>
          </a:xfrm>
        </p:grpSpPr>
        <p:grpSp>
          <p:nvGrpSpPr>
            <p:cNvPr id="246" name=""/>
            <p:cNvGrpSpPr/>
            <p:nvPr/>
          </p:nvGrpSpPr>
          <p:grpSpPr>
            <a:xfrm>
              <a:off x="4724280" y="4724280"/>
              <a:ext cx="3693240" cy="1195200"/>
              <a:chOff x="4724280" y="4724280"/>
              <a:chExt cx="3693240" cy="119520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4280" y="4795560"/>
                <a:ext cx="1905120" cy="11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6981120" y="4724280"/>
                <a:ext cx="1436400" cy="1191240"/>
              </a:xfrm>
              <a:prstGeom prst="rect">
                <a:avLst/>
              </a:prstGeom>
              <a:solidFill>
                <a:srgbClr val="ffffcc"/>
              </a:solidFill>
              <a:ln w="7632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Глуби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своен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людьм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809880" y="4876560"/>
              <a:ext cx="914400" cy="609480"/>
            </a:xfrm>
            <a:prstGeom prst="line">
              <a:avLst/>
            </a:prstGeom>
            <a:ln w="76320">
              <a:solidFill>
                <a:srgbClr val="2213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143000" y="3657600"/>
            <a:ext cx="2592360" cy="1663920"/>
            <a:chOff x="1143000" y="3657600"/>
            <a:chExt cx="2592360" cy="1663920"/>
          </a:xfrm>
        </p:grpSpPr>
        <p:sp>
          <p:nvSpPr>
            <p:cNvPr id="251" name=""/>
            <p:cNvSpPr txBox="1"/>
            <p:nvPr/>
          </p:nvSpPr>
          <p:spPr>
            <a:xfrm>
              <a:off x="1143000" y="3657600"/>
              <a:ext cx="259236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уровень развития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культуры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3360" y="4496040"/>
              <a:ext cx="251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личе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арамет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ая российская культу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1520" y="1082520"/>
            <a:ext cx="63817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Явления общественной жизни многознач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ависят от критериев оце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19320" y="3429000"/>
            <a:ext cx="2592360" cy="1663920"/>
            <a:chOff x="1219320" y="3429000"/>
            <a:chExt cx="2592360" cy="1663920"/>
          </a:xfrm>
        </p:grpSpPr>
        <p:sp>
          <p:nvSpPr>
            <p:cNvPr id="256" name=""/>
            <p:cNvSpPr txBox="1"/>
            <p:nvPr/>
          </p:nvSpPr>
          <p:spPr>
            <a:xfrm>
              <a:off x="1219320" y="3429000"/>
              <a:ext cx="259236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уровень развития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культуры</a:t>
              </a:r>
              <a:endPara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95000" y="4267440"/>
              <a:ext cx="217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че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арамет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809880" y="2209680"/>
            <a:ext cx="4800600" cy="2057040"/>
            <a:chOff x="3809880" y="2209680"/>
            <a:chExt cx="4800600" cy="2057040"/>
          </a:xfrm>
        </p:grpSpPr>
        <p:sp>
          <p:nvSpPr>
            <p:cNvPr id="259" name=""/>
            <p:cNvSpPr txBox="1"/>
            <p:nvPr/>
          </p:nvSpPr>
          <p:spPr>
            <a:xfrm>
              <a:off x="5168880" y="2209680"/>
              <a:ext cx="344160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тепень достижения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оциального равенств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09880" y="2819160"/>
              <a:ext cx="1371600" cy="14475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809880" y="3581280"/>
            <a:ext cx="4837680" cy="1191240"/>
            <a:chOff x="3809880" y="3581280"/>
            <a:chExt cx="4837680" cy="1191240"/>
          </a:xfrm>
        </p:grpSpPr>
        <p:grpSp>
          <p:nvGrpSpPr>
            <p:cNvPr id="262" name=""/>
            <p:cNvGrpSpPr/>
            <p:nvPr/>
          </p:nvGrpSpPr>
          <p:grpSpPr>
            <a:xfrm>
              <a:off x="4862520" y="3581280"/>
              <a:ext cx="3785040" cy="1191240"/>
              <a:chOff x="4862520" y="3581280"/>
              <a:chExt cx="3785040" cy="1191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2520" y="3733560"/>
                <a:ext cx="776160" cy="9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755680" y="3581280"/>
                <a:ext cx="2891880" cy="1191240"/>
              </a:xfrm>
              <a:prstGeom prst="rect">
                <a:avLst/>
              </a:prstGeom>
              <a:solidFill>
                <a:srgbClr val="ccff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иобщение люде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 ценностям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ультур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809880" y="4267080"/>
              <a:ext cx="11430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809880" y="4267080"/>
            <a:ext cx="4700880" cy="1918440"/>
            <a:chOff x="3809880" y="4267080"/>
            <a:chExt cx="4700880" cy="1918440"/>
          </a:xfrm>
        </p:grpSpPr>
        <p:grpSp>
          <p:nvGrpSpPr>
            <p:cNvPr id="267" name=""/>
            <p:cNvGrpSpPr/>
            <p:nvPr/>
          </p:nvGrpSpPr>
          <p:grpSpPr>
            <a:xfrm>
              <a:off x="4829040" y="4994280"/>
              <a:ext cx="3681720" cy="1191240"/>
              <a:chOff x="4829040" y="4994280"/>
              <a:chExt cx="3681720" cy="1191240"/>
            </a:xfrm>
          </p:grpSpPr>
          <p:pic>
            <p:nvPicPr>
              <p:cNvPr id="2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29040" y="5181480"/>
                <a:ext cx="96228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5908320" y="4994280"/>
                <a:ext cx="2602440" cy="1191240"/>
              </a:xfrm>
              <a:prstGeom prst="rect">
                <a:avLst/>
              </a:prstGeom>
              <a:solidFill>
                <a:srgbClr val="ccff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личие услови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ля творчеств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809880" y="4267080"/>
              <a:ext cx="114300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25T17:27:58Z</dcterms:modified>
  <cp:revision>83</cp:revision>
  <dc:subject/>
  <dc:title>ОСОБЕННОСТИ ДРЕВНИХ ЦИВИЛИЗАЦИЙ.</dc:title>
</cp:coreProperties>
</file>