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wmf" ContentType="image/x-wmf"/>
  <Override PartName="/ppt/media/image15.jpeg" ContentType="image/jpeg"/>
  <Override PartName="/ppt/media/image14.png" ContentType="image/png"/>
  <Override PartName="/ppt/media/image8.wmf" ContentType="image/x-wmf"/>
  <Override PartName="/ppt/media/image1.png" ContentType="image/png"/>
  <Override PartName="/ppt/media/image2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AC5D-6746-40A6-9CC0-02234FB11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0EC6-C3CD-4800-A7A4-A6FEA575C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67CE-412B-429B-A473-CA8C2AD9C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1B7E-E817-4CE5-89DF-B93A90EE9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1E61B-1320-4566-B2DD-6A9F618A1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15552-4EE7-4C3F-BE84-AFDD90C1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9F13A-9693-4229-A4DD-ED5138E0F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FC9B2-1CFA-45F6-A022-0E8272D24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BE6B1-1951-4CF2-B7CF-676C92011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D094C-D312-477B-99CF-5F0A94B27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9CD6C-AFC3-4EEE-A8F6-0D6339BD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0532-3905-467A-BDF7-91EBE0CA6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DD557-C4B4-4452-9784-5B807533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DB7A0-B7BC-42CB-86CA-3AE34F4F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B11A7-6E94-41D5-A047-5D05A1C65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E5251-68C0-4AD2-9484-8305D334B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B2BAB-0B97-47B6-9E7A-325E4865D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F8F2-269B-4D3C-9052-0F78992EE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2D0A-462F-4E40-AEC5-04215750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72FD-B043-43C9-86B2-B78EA92C9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1677-D51E-4E86-BEE5-5029C0A1B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A79C-EE98-45C4-8CCF-F0A9613B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9352-0751-4ABE-B78C-9389ED08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BC3F-DDBA-42BF-A590-83092FED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BFBBA-0DBC-43C2-A1B3-7144A584B9FD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12581-96F0-4B1B-A621-0C47F9E1EEB9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a50021"/>
                </a:solidFill>
                <a:uFillTx/>
                <a:latin typeface="Times New Roman"/>
              </a:rPr>
              <a:t>СОВРЕМЕННЫЕ</a:t>
            </a:r>
            <a:br>
              <a:rPr sz="4400"/>
            </a:br>
            <a:r>
              <a:rPr b="1" lang="ru-RU" sz="4400" spc="-1" strike="noStrike" u="sng">
                <a:solidFill>
                  <a:srgbClr val="a50021"/>
                </a:solidFill>
                <a:uFillTx/>
                <a:latin typeface="Times New Roman"/>
              </a:rPr>
              <a:t>ЦИВИЛИЗАЦИ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ротиворечия переходного периода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2438280" y="1066680"/>
            <a:ext cx="5058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первые итоги реформ</a:t>
            </a:r>
            <a:endParaRPr b="1" lang="en-US" sz="2400" spc="1" strike="noStrike">
              <a:ln w="9360">
                <a:solidFill>
                  <a:srgbClr val="ffcc00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61120" y="1828800"/>
            <a:ext cx="2701440" cy="1566000"/>
            <a:chOff x="861120" y="1828800"/>
            <a:chExt cx="2701440" cy="1566000"/>
          </a:xfrm>
        </p:grpSpPr>
        <p:sp>
          <p:nvSpPr>
            <p:cNvPr id="252" name=""/>
            <p:cNvSpPr txBox="1"/>
            <p:nvPr/>
          </p:nvSpPr>
          <p:spPr>
            <a:xfrm>
              <a:off x="1071360" y="1828800"/>
              <a:ext cx="2332080" cy="338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6699"/>
                  </a:solidFill>
                  <a:latin typeface="Arial"/>
                </a:rPr>
                <a:t>СССР-СНГ</a:t>
              </a:r>
              <a:endPara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6699"/>
                </a:solidFill>
                <a:latin typeface="Arial"/>
                <a:ea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61120" y="2203560"/>
              <a:ext cx="2701440" cy="1191240"/>
            </a:xfrm>
            <a:prstGeom prst="rect">
              <a:avLst/>
            </a:prstGeom>
            <a:solidFill>
              <a:srgbClr val="ff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верхцентрализа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ция-независимые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осударства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 txBox="1"/>
          <p:nvPr/>
        </p:nvSpPr>
        <p:spPr>
          <a:xfrm>
            <a:off x="3809880" y="1914480"/>
            <a:ext cx="2146320" cy="90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cc"/>
                  </a:solidFill>
                  <a:miter/>
                </a:ln>
                <a:solidFill>
                  <a:srgbClr val="3694b6"/>
                </a:solidFill>
                <a:latin typeface="Arial"/>
              </a:rPr>
              <a:t>гласность,</a:t>
            </a:r>
            <a:endParaRPr b="0" lang="en-US" sz="2400" spc="1" strike="noStrike">
              <a:ln w="9360">
                <a:solidFill>
                  <a:srgbClr val="0000cc"/>
                </a:solidFill>
                <a:miter/>
              </a:ln>
              <a:solidFill>
                <a:srgbClr val="3694b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cc"/>
                  </a:solidFill>
                  <a:miter/>
                </a:ln>
                <a:solidFill>
                  <a:srgbClr val="3694b6"/>
                </a:solidFill>
                <a:latin typeface="Arial"/>
              </a:rPr>
              <a:t>права человека</a:t>
            </a:r>
            <a:endParaRPr b="0" lang="en-US" sz="2400" spc="1" strike="noStrike">
              <a:ln w="9360">
                <a:solidFill>
                  <a:srgbClr val="0000cc"/>
                </a:solidFill>
                <a:miter/>
              </a:ln>
              <a:solidFill>
                <a:srgbClr val="3694b6"/>
              </a:solidFill>
              <a:latin typeface="Arial"/>
              <a:ea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173640" y="1752480"/>
            <a:ext cx="2589480" cy="110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a1bd69"/>
                </a:solidFill>
                <a:latin typeface="Arial"/>
              </a:rPr>
              <a:t>крах</a:t>
            </a:r>
            <a:endParaRPr b="1" lang="en-US" sz="2400" spc="1" strike="noStrike">
              <a:ln w="9360">
                <a:solidFill>
                  <a:srgbClr val="006600"/>
                </a:solidFill>
                <a:miter/>
              </a:ln>
              <a:solidFill>
                <a:srgbClr val="a1bd6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a1bd69"/>
                </a:solidFill>
                <a:latin typeface="Arial"/>
              </a:rPr>
              <a:t>двухполярного</a:t>
            </a:r>
            <a:endParaRPr b="1" lang="en-US" sz="2400" spc="1" strike="noStrike">
              <a:ln w="9360">
                <a:solidFill>
                  <a:srgbClr val="006600"/>
                </a:solidFill>
                <a:miter/>
              </a:ln>
              <a:solidFill>
                <a:srgbClr val="a1bd6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a1bd69"/>
                </a:solidFill>
                <a:latin typeface="Arial"/>
              </a:rPr>
              <a:t>мира</a:t>
            </a:r>
            <a:endParaRPr b="1" lang="en-US" sz="2400" spc="1" strike="noStrike">
              <a:ln w="9360">
                <a:solidFill>
                  <a:srgbClr val="006600"/>
                </a:solidFill>
                <a:miter/>
              </a:ln>
              <a:solidFill>
                <a:srgbClr val="a1bd69"/>
              </a:solidFill>
              <a:latin typeface="Arial"/>
              <a:ea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648320" y="3048120"/>
            <a:ext cx="723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21304"/>
                </a:solidFill>
                <a:latin typeface="Arial"/>
              </a:rPr>
              <a:t>Но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221304"/>
              </a:solidFill>
              <a:latin typeface="Arial"/>
              <a:ea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030320" y="3733920"/>
            <a:ext cx="3647880" cy="2654280"/>
          </a:xfrm>
          <a:prstGeom prst="rect">
            <a:avLst/>
          </a:prstGeom>
          <a:solidFill>
            <a:srgbClr val="ccffff"/>
          </a:solidFill>
          <a:ln w="76320">
            <a:solidFill>
              <a:srgbClr val="2213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обнищание населения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преступность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межнациональн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нфликты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ослабление государств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расслоение в обществ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политическая борьб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000760" y="3733920"/>
            <a:ext cx="3587040" cy="2654280"/>
          </a:xfrm>
          <a:prstGeom prst="rect">
            <a:avLst/>
          </a:prstGeom>
          <a:solidFill>
            <a:srgbClr val="ccffcc"/>
          </a:solidFill>
          <a:ln w="76320">
            <a:solidFill>
              <a:srgbClr val="2213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Выход из кризи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углубление рефор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возврат наза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Борьба в рамках Конс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иту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Гражданский мир 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ражданское соглас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Многообразие современного мира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476360" y="1295280"/>
            <a:ext cx="1419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99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5 млрд</a:t>
            </a:r>
            <a:endParaRPr b="0" lang="en-US" sz="2400" spc="1" strike="noStrike">
              <a:ln w="9360">
                <a:solidFill>
                  <a:srgbClr val="000099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666960" y="1295280"/>
            <a:ext cx="18957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200 гос-в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172200" y="1143000"/>
            <a:ext cx="1828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ffcc"/>
                </a:solidFill>
                <a:latin typeface="Arial"/>
              </a:rPr>
              <a:t>мн-во</a:t>
            </a:r>
            <a:endParaRPr b="1" lang="en-US" sz="2400" spc="1" strike="noStrike">
              <a:ln w="9360">
                <a:solidFill>
                  <a:srgbClr val="000099"/>
                </a:solidFill>
                <a:miter/>
              </a:ln>
              <a:solidFill>
                <a:srgbClr val="ffff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ffcc"/>
                </a:solidFill>
                <a:latin typeface="Arial"/>
              </a:rPr>
              <a:t>культур</a:t>
            </a:r>
            <a:endParaRPr b="1" lang="en-US" sz="2400" spc="1" strike="noStrike">
              <a:ln w="9360">
                <a:solidFill>
                  <a:srgbClr val="000099"/>
                </a:solidFill>
                <a:miter/>
              </a:ln>
              <a:solidFill>
                <a:srgbClr val="ffffcc"/>
              </a:solidFill>
              <a:latin typeface="Arial"/>
              <a:ea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371600" y="2133720"/>
            <a:ext cx="6629400" cy="1181160"/>
            <a:chOff x="1371600" y="2133720"/>
            <a:chExt cx="6629400" cy="1181160"/>
          </a:xfrm>
        </p:grpSpPr>
        <p:sp>
          <p:nvSpPr>
            <p:cNvPr id="121" name=""/>
            <p:cNvSpPr/>
            <p:nvPr/>
          </p:nvSpPr>
          <p:spPr>
            <a:xfrm>
              <a:off x="1371600" y="2133720"/>
              <a:ext cx="6629400" cy="533160"/>
            </a:xfrm>
            <a:prstGeom prst="downArrowCallout">
              <a:avLst>
                <a:gd name="adj1" fmla="val 26252"/>
                <a:gd name="adj2" fmla="val 47031"/>
                <a:gd name="adj3" fmla="val 52977"/>
                <a:gd name="adj4" fmla="val 25597"/>
              </a:avLst>
            </a:prstGeom>
            <a:solidFill>
              <a:srgbClr val="ffffcc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 txBox="1"/>
            <p:nvPr/>
          </p:nvSpPr>
          <p:spPr>
            <a:xfrm>
              <a:off x="3733920" y="2743200"/>
              <a:ext cx="184788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причины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487840" y="3200040"/>
            <a:ext cx="3144960" cy="2823120"/>
            <a:chOff x="5487840" y="3200040"/>
            <a:chExt cx="3144960" cy="2823120"/>
          </a:xfrm>
        </p:grpSpPr>
        <p:grpSp>
          <p:nvGrpSpPr>
            <p:cNvPr id="124" name=""/>
            <p:cNvGrpSpPr/>
            <p:nvPr/>
          </p:nvGrpSpPr>
          <p:grpSpPr>
            <a:xfrm>
              <a:off x="5487840" y="4416480"/>
              <a:ext cx="3144960" cy="1606680"/>
              <a:chOff x="5487840" y="4416480"/>
              <a:chExt cx="3144960" cy="1606680"/>
            </a:xfrm>
          </p:grpSpPr>
          <p:pic>
            <p:nvPicPr>
              <p:cNvPr id="12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092640" y="4419720"/>
                <a:ext cx="914400" cy="799920"/>
              </a:xfrm>
              <a:prstGeom prst="rect">
                <a:avLst/>
              </a:prstGeom>
              <a:ln w="9360">
                <a:solidFill>
                  <a:srgbClr val="000099"/>
                </a:solidFill>
                <a:miter/>
              </a:ln>
            </p:spPr>
          </p:pic>
          <p:pic>
            <p:nvPicPr>
              <p:cNvPr id="12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235640" y="4416480"/>
                <a:ext cx="636480" cy="806400"/>
              </a:xfrm>
              <a:prstGeom prst="rect">
                <a:avLst/>
              </a:prstGeom>
              <a:ln w="9360">
                <a:solidFill>
                  <a:srgbClr val="000099"/>
                </a:solidFill>
                <a:miter/>
              </a:ln>
            </p:spPr>
          </p:pic>
          <p:sp>
            <p:nvSpPr>
              <p:cNvPr id="127" name=""/>
              <p:cNvSpPr/>
              <p:nvPr/>
            </p:nvSpPr>
            <p:spPr>
              <a:xfrm>
                <a:off x="5487840" y="5197680"/>
                <a:ext cx="31449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Особая историческая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среда обитания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 flipV="1">
              <a:off x="6095880" y="3199680"/>
              <a:ext cx="852480" cy="733320"/>
            </a:xfrm>
            <a:custGeom>
              <a:avLst/>
              <a:gdLst>
                <a:gd name="textAreaLeft" fmla="*/ 284040 w 852480"/>
                <a:gd name="textAreaRight" fmla="*/ 730440 w 852480"/>
                <a:gd name="textAreaTop" fmla="*/ 421920 h 733320"/>
                <a:gd name="textAreaBottom" fmla="*/ 627840 h 73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ffcc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1071000" y="3200040"/>
            <a:ext cx="3327840" cy="2719800"/>
            <a:chOff x="1071000" y="3200040"/>
            <a:chExt cx="3327840" cy="2719800"/>
          </a:xfrm>
        </p:grpSpPr>
        <p:grpSp>
          <p:nvGrpSpPr>
            <p:cNvPr id="130" name=""/>
            <p:cNvGrpSpPr/>
            <p:nvPr/>
          </p:nvGrpSpPr>
          <p:grpSpPr>
            <a:xfrm>
              <a:off x="1071000" y="4419720"/>
              <a:ext cx="3327840" cy="1500120"/>
              <a:chOff x="1071000" y="4419720"/>
              <a:chExt cx="3327840" cy="1500120"/>
            </a:xfrm>
          </p:grpSpPr>
          <p:grpSp>
            <p:nvGrpSpPr>
              <p:cNvPr id="131" name=""/>
              <p:cNvGrpSpPr/>
              <p:nvPr/>
            </p:nvGrpSpPr>
            <p:grpSpPr>
              <a:xfrm>
                <a:off x="1463400" y="4419720"/>
                <a:ext cx="2530440" cy="861840"/>
                <a:chOff x="1463400" y="4419720"/>
                <a:chExt cx="2530440" cy="861840"/>
              </a:xfrm>
            </p:grpSpPr>
            <p:pic>
              <p:nvPicPr>
                <p:cNvPr id="132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758680" y="4419720"/>
                  <a:ext cx="1235160" cy="853920"/>
                </a:xfrm>
                <a:prstGeom prst="rect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463400" y="4419720"/>
                  <a:ext cx="1295280" cy="861840"/>
                </a:xfrm>
                <a:prstGeom prst="rect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</p:pic>
          </p:grpSp>
          <p:sp>
            <p:nvSpPr>
              <p:cNvPr id="134" name=""/>
              <p:cNvSpPr/>
              <p:nvPr/>
            </p:nvSpPr>
            <p:spPr>
              <a:xfrm>
                <a:off x="1071000" y="5094360"/>
                <a:ext cx="33278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Различные природные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условия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 flipH="1" flipV="1">
              <a:off x="2514600" y="3199680"/>
              <a:ext cx="852480" cy="733320"/>
            </a:xfrm>
            <a:custGeom>
              <a:avLst/>
              <a:gdLst>
                <a:gd name="textAreaLeft" fmla="*/ 284040 w 852480"/>
                <a:gd name="textAreaRight" fmla="*/ 730440 w 852480"/>
                <a:gd name="textAreaTop" fmla="*/ 421920 h 733320"/>
                <a:gd name="textAreaBottom" fmla="*/ 627840 h 73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ffff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Традиционные общества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600200" y="1600200"/>
            <a:ext cx="1209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ток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352680" y="1143000"/>
            <a:ext cx="5409000" cy="1222920"/>
            <a:chOff x="3352680" y="1143000"/>
            <a:chExt cx="5409000" cy="1222920"/>
          </a:xfrm>
        </p:grpSpPr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>
              <a:off x="4724280" y="1143000"/>
              <a:ext cx="893880" cy="11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3352680" y="172404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66ffff"/>
            </a:solidFill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663880" y="1174680"/>
              <a:ext cx="3097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Древний Восто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емля-собственност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бщин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5334120" y="2286000"/>
            <a:ext cx="3504960" cy="1523880"/>
            <a:chOff x="5334120" y="2286000"/>
            <a:chExt cx="3504960" cy="1523880"/>
          </a:xfrm>
        </p:grpSpPr>
        <p:sp>
          <p:nvSpPr>
            <p:cNvPr id="143" name=""/>
            <p:cNvSpPr txBox="1"/>
            <p:nvPr/>
          </p:nvSpPr>
          <p:spPr>
            <a:xfrm>
              <a:off x="5334120" y="2819520"/>
              <a:ext cx="3504960" cy="99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Impact"/>
                </a:rPr>
                <a:t>Согласование </a:t>
              </a:r>
              <a:endPara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Impact"/>
                </a:rPr>
                <a:t>деятельности с </a:t>
              </a:r>
              <a:endPara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Impact"/>
                </a:rPr>
                <a:t>ритмами природы</a:t>
              </a:r>
              <a:endPara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086600" y="2286000"/>
              <a:ext cx="0" cy="45720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219320" y="2133720"/>
            <a:ext cx="4952880" cy="1523880"/>
            <a:chOff x="1219320" y="2133720"/>
            <a:chExt cx="4952880" cy="1523880"/>
          </a:xfrm>
        </p:grpSpPr>
        <p:sp>
          <p:nvSpPr>
            <p:cNvPr id="146" name=""/>
            <p:cNvSpPr txBox="1"/>
            <p:nvPr/>
          </p:nvSpPr>
          <p:spPr>
            <a:xfrm>
              <a:off x="1219320" y="3048120"/>
              <a:ext cx="312408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экстенсивная </a:t>
              </a:r>
              <a:endPara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технология</a:t>
              </a:r>
              <a:endPara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4038840" y="2133720"/>
              <a:ext cx="2133360" cy="76176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1523880" y="3886200"/>
            <a:ext cx="7162920" cy="990720"/>
            <a:chOff x="1523880" y="3886200"/>
            <a:chExt cx="7162920" cy="990720"/>
          </a:xfrm>
        </p:grpSpPr>
        <p:sp>
          <p:nvSpPr>
            <p:cNvPr id="149" name=""/>
            <p:cNvSpPr/>
            <p:nvPr/>
          </p:nvSpPr>
          <p:spPr>
            <a:xfrm>
              <a:off x="1523880" y="3886200"/>
              <a:ext cx="7162920" cy="457200"/>
            </a:xfrm>
            <a:prstGeom prst="downArrowCallout">
              <a:avLst>
                <a:gd name="adj1" fmla="val 14653"/>
                <a:gd name="adj2" fmla="val 36774"/>
                <a:gd name="adj3" fmla="val 38889"/>
                <a:gd name="adj4" fmla="val 21875"/>
              </a:avLst>
            </a:prstGeom>
            <a:solidFill>
              <a:srgbClr val="66ffff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 txBox="1"/>
            <p:nvPr/>
          </p:nvSpPr>
          <p:spPr>
            <a:xfrm>
              <a:off x="3276720" y="4419720"/>
              <a:ext cx="36576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Страны 3-го мира</a:t>
              </a:r>
              <a:endPara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85040" y="5029200"/>
            <a:ext cx="3198240" cy="1557000"/>
          </a:xfrm>
          <a:prstGeom prst="rect">
            <a:avLst/>
          </a:prstGeom>
          <a:solidFill>
            <a:srgbClr val="66ff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основе духов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енностей-адапта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 природе,сохран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радиц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21160" y="5029200"/>
            <a:ext cx="2465280" cy="1557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уховная сф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оит над эконо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ческой,рели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изация жизн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155640" y="5029200"/>
            <a:ext cx="2814120" cy="155700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кстенсивные тех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логии привели 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ставанию от За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ад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Западная цивилизация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219320" y="990720"/>
            <a:ext cx="7467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7f7f7f"/>
                    </a:gs>
                    <a:gs pos="50000">
                      <a:srgbClr val="ffffff"/>
                    </a:gs>
                    <a:gs pos="100000">
                      <a:srgbClr val="7f7f7f"/>
                    </a:gs>
                  </a:gsLst>
                  <a:lin ang="5400000"/>
                </a:gradFill>
                <a:latin typeface="Times New Roman"/>
              </a:rPr>
              <a:t>индустриальная,техногенная</a:t>
            </a:r>
            <a:endParaRPr b="1" lang="en-US" sz="2400" spc="1" strike="noStrike">
              <a:ln w="936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7f7f7f"/>
                  </a:gs>
                  <a:gs pos="50000">
                    <a:srgbClr val="ffffff"/>
                  </a:gs>
                  <a:gs pos="100000">
                    <a:srgbClr val="7f7f7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143000" y="2666880"/>
            <a:ext cx="2324160" cy="48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античность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657600" y="2514600"/>
            <a:ext cx="26607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Европейское</a:t>
            </a:r>
            <a:endParaRPr b="1" lang="en-US" sz="2400" spc="1" strike="noStrike">
              <a:ln w="936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средневековье</a:t>
            </a:r>
            <a:endParaRPr b="1" lang="en-US" sz="2400" spc="1" strike="noStrike">
              <a:ln w="936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553080" y="2590920"/>
            <a:ext cx="2133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latin typeface="Times New Roman"/>
              </a:rPr>
              <a:t>Возрождение</a:t>
            </a:r>
            <a:endParaRPr b="0" lang="en-US" sz="2400" spc="1" strike="noStrike">
              <a:ln w="936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066680" y="1447920"/>
            <a:ext cx="7696440" cy="914400"/>
            <a:chOff x="1066680" y="1447920"/>
            <a:chExt cx="7696440" cy="914400"/>
          </a:xfrm>
        </p:grpSpPr>
        <p:sp>
          <p:nvSpPr>
            <p:cNvPr id="160" name=""/>
            <p:cNvSpPr txBox="1"/>
            <p:nvPr/>
          </p:nvSpPr>
          <p:spPr>
            <a:xfrm>
              <a:off x="4206960" y="1447920"/>
              <a:ext cx="1431720" cy="285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истоки</a:t>
              </a:r>
              <a:endPara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066680" y="1981080"/>
              <a:ext cx="7696440" cy="381240"/>
            </a:xfrm>
            <a:prstGeom prst="upArrowCallout">
              <a:avLst>
                <a:gd name="adj1" fmla="val 32528"/>
                <a:gd name="adj2" fmla="val 59162"/>
                <a:gd name="adj3" fmla="val 47083"/>
                <a:gd name="adj4" fmla="val 134173"/>
              </a:avLst>
            </a:prstGeom>
            <a:solidFill>
              <a:srgbClr val="66ffff"/>
            </a:solidFill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 txBox="1"/>
          <p:nvPr/>
        </p:nvSpPr>
        <p:spPr>
          <a:xfrm>
            <a:off x="1219320" y="3733920"/>
            <a:ext cx="32288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интенсивно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производство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724280" y="3733920"/>
            <a:ext cx="3276720" cy="1066680"/>
            <a:chOff x="4724280" y="3733920"/>
            <a:chExt cx="3276720" cy="1066680"/>
          </a:xfrm>
        </p:grpSpPr>
        <p:sp>
          <p:nvSpPr>
            <p:cNvPr id="164" name=""/>
            <p:cNvSpPr txBox="1"/>
            <p:nvPr/>
          </p:nvSpPr>
          <p:spPr>
            <a:xfrm>
              <a:off x="6049800" y="3733920"/>
              <a:ext cx="19512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221304"/>
                    </a:solidFill>
                    <a:miter/>
                  </a:ln>
                  <a:gradFill rotWithShape="0">
                    <a:gsLst>
                      <a:gs pos="0">
                        <a:srgbClr val="520402"/>
                      </a:gs>
                      <a:gs pos="100000">
                        <a:srgbClr val="ffcc00"/>
                      </a:gs>
                    </a:gsLst>
                    <a:lin ang="5400000"/>
                  </a:gradFill>
                  <a:latin typeface="Arial"/>
                </a:rPr>
                <a:t>природные</a:t>
              </a:r>
              <a:endParaRPr b="1" lang="en-US" sz="2400" spc="1" strike="noStrike">
                <a:ln w="12600">
                  <a:solidFill>
                    <a:srgbClr val="221304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221304"/>
                    </a:solidFill>
                    <a:miter/>
                  </a:ln>
                  <a:gradFill rotWithShape="0">
                    <a:gsLst>
                      <a:gs pos="0">
                        <a:srgbClr val="520402"/>
                      </a:gs>
                      <a:gs pos="100000">
                        <a:srgbClr val="ffcc00"/>
                      </a:gs>
                    </a:gsLst>
                    <a:lin ang="5400000"/>
                  </a:gradFill>
                  <a:latin typeface="Arial"/>
                </a:rPr>
                <a:t> </a:t>
              </a:r>
              <a:r>
                <a:rPr b="1" lang="en-US" sz="2400" spc="1" strike="noStrike">
                  <a:ln w="12600">
                    <a:solidFill>
                      <a:srgbClr val="221304"/>
                    </a:solidFill>
                    <a:miter/>
                  </a:ln>
                  <a:gradFill rotWithShape="0">
                    <a:gsLst>
                      <a:gs pos="0">
                        <a:srgbClr val="520402"/>
                      </a:gs>
                      <a:gs pos="100000">
                        <a:srgbClr val="ffcc00"/>
                      </a:gs>
                    </a:gsLst>
                    <a:lin ang="5400000"/>
                  </a:gradFill>
                  <a:latin typeface="Arial"/>
                </a:rPr>
                <a:t>условия</a:t>
              </a:r>
              <a:endParaRPr b="1" lang="en-US" sz="2400" spc="1" strike="noStrike">
                <a:ln w="12600">
                  <a:solidFill>
                    <a:srgbClr val="221304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724280" y="3962520"/>
              <a:ext cx="976320" cy="485640"/>
            </a:xfrm>
            <a:prstGeom prst="leftArrow">
              <a:avLst>
                <a:gd name="adj1" fmla="val 50000"/>
                <a:gd name="adj2" fmla="val 50259"/>
              </a:avLst>
            </a:prstGeom>
            <a:solidFill>
              <a:srgbClr val="ffcc00"/>
            </a:solidFill>
            <a:ln w="57240">
              <a:solidFill>
                <a:srgbClr val="2213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157320" y="5137200"/>
            <a:ext cx="388260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2213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основе ценностей-актив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я преобразующая дея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льность челове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222080" y="5137200"/>
            <a:ext cx="4804560" cy="1191240"/>
          </a:xfrm>
          <a:prstGeom prst="rect">
            <a:avLst/>
          </a:prstGeom>
          <a:solidFill>
            <a:srgbClr val="ccffcc"/>
          </a:solidFill>
          <a:ln w="76320">
            <a:solidFill>
              <a:srgbClr val="2213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осподство идеи о неотъемлем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авах человека и гражданско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ществ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ределы роста современных цивилизаций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1219320"/>
            <a:ext cx="2305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сновная 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нденция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657600" y="1174680"/>
            <a:ext cx="4987800" cy="1191240"/>
            <a:chOff x="3657600" y="1174680"/>
            <a:chExt cx="4987800" cy="1191240"/>
          </a:xfrm>
        </p:grpSpPr>
        <p:sp>
          <p:nvSpPr>
            <p:cNvPr id="171" name=""/>
            <p:cNvSpPr/>
            <p:nvPr/>
          </p:nvSpPr>
          <p:spPr>
            <a:xfrm>
              <a:off x="4802400" y="1174680"/>
              <a:ext cx="3843000" cy="1191240"/>
            </a:xfrm>
            <a:prstGeom prst="rect">
              <a:avLst/>
            </a:prstGeom>
            <a:solidFill>
              <a:srgbClr val="ccffcc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евращение в обществ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массового производства  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отребления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657600" y="1523880"/>
              <a:ext cx="976320" cy="486000"/>
            </a:xfrm>
            <a:prstGeom prst="rightArrow">
              <a:avLst>
                <a:gd name="adj1" fmla="val 50000"/>
                <a:gd name="adj2" fmla="val 50222"/>
              </a:avLst>
            </a:prstGeom>
            <a:solidFill>
              <a:srgbClr val="ccffcc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1066680" y="2590920"/>
            <a:ext cx="7772400" cy="990360"/>
            <a:chOff x="1066680" y="2590920"/>
            <a:chExt cx="7772400" cy="990360"/>
          </a:xfrm>
        </p:grpSpPr>
        <p:sp>
          <p:nvSpPr>
            <p:cNvPr id="174" name=""/>
            <p:cNvSpPr txBox="1"/>
            <p:nvPr/>
          </p:nvSpPr>
          <p:spPr>
            <a:xfrm>
              <a:off x="2895480" y="2590920"/>
              <a:ext cx="415620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221304"/>
                  </a:solidFill>
                  <a:latin typeface="Arial"/>
                </a:rPr>
                <a:t>препятствия для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21304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221304"/>
                  </a:solidFill>
                  <a:latin typeface="Arial"/>
                </a:rPr>
                <a:t>дальнейшего роста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21304"/>
                </a:solidFill>
                <a:latin typeface="Arial"/>
                <a:ea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3200400"/>
              <a:ext cx="7772400" cy="380880"/>
            </a:xfrm>
            <a:prstGeom prst="upArrowCallout">
              <a:avLst>
                <a:gd name="adj1" fmla="val -53655"/>
                <a:gd name="adj2" fmla="val 74162"/>
                <a:gd name="adj3" fmla="val 52917"/>
                <a:gd name="adj4" fmla="val 144175"/>
              </a:avLst>
            </a:prstGeom>
            <a:solidFill>
              <a:srgbClr val="ccffcc"/>
            </a:solidFill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1014120" y="3657600"/>
            <a:ext cx="2414880" cy="2685600"/>
            <a:chOff x="1014120" y="3657600"/>
            <a:chExt cx="2414880" cy="2685600"/>
          </a:xfrm>
        </p:grpSpPr>
        <p:sp>
          <p:nvSpPr>
            <p:cNvPr id="177" name=""/>
            <p:cNvSpPr txBox="1"/>
            <p:nvPr/>
          </p:nvSpPr>
          <p:spPr>
            <a:xfrm>
              <a:off x="1073160" y="3657600"/>
              <a:ext cx="2355840" cy="95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50000">
                        <a:srgbClr val="ffbf00"/>
                      </a:gs>
                      <a:gs pos="100000">
                        <a:srgbClr val="000000"/>
                      </a:gs>
                    </a:gsLst>
                    <a:lin ang="13500000"/>
                  </a:gradFill>
                  <a:latin typeface="Arial"/>
                </a:rPr>
                <a:t>Энергетический 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bf00"/>
                    </a:gs>
                    <a:gs pos="100000">
                      <a:srgbClr val="000000"/>
                    </a:gs>
                  </a:gsLst>
                  <a:lin ang="1350000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50000">
                        <a:srgbClr val="ffbf00"/>
                      </a:gs>
                      <a:gs pos="100000">
                        <a:srgbClr val="000000"/>
                      </a:gs>
                    </a:gsLst>
                    <a:lin ang="13500000"/>
                  </a:gradFill>
                  <a:latin typeface="Arial"/>
                </a:rPr>
                <a:t>кризис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bf00"/>
                    </a:gs>
                    <a:gs pos="100000">
                      <a:srgbClr val="000000"/>
                    </a:gs>
                  </a:gsLst>
                  <a:lin ang="13500000"/>
                </a:gradFill>
                <a:latin typeface="Arial"/>
                <a:ea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014120" y="4786200"/>
              <a:ext cx="2296080" cy="1557000"/>
            </a:xfrm>
            <a:prstGeom prst="rect">
              <a:avLst/>
            </a:prstGeom>
            <a:solidFill>
              <a:srgbClr val="ffffcc"/>
            </a:solidFill>
            <a:ln w="76320">
              <a:solidFill>
                <a:srgbClr val="2213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стощение ми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овых запасо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энергоносите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лей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491640" y="3695760"/>
            <a:ext cx="2604240" cy="2647440"/>
            <a:chOff x="3491640" y="3695760"/>
            <a:chExt cx="2604240" cy="2647440"/>
          </a:xfrm>
        </p:grpSpPr>
        <p:sp>
          <p:nvSpPr>
            <p:cNvPr id="180" name=""/>
            <p:cNvSpPr txBox="1"/>
            <p:nvPr/>
          </p:nvSpPr>
          <p:spPr>
            <a:xfrm>
              <a:off x="3581280" y="3695760"/>
              <a:ext cx="251460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50000">
                        <a:srgbClr val="ffbf00"/>
                      </a:gs>
                      <a:gs pos="100000">
                        <a:srgbClr val="000000"/>
                      </a:gs>
                    </a:gsLst>
                    <a:lin ang="13500000"/>
                  </a:gradFill>
                  <a:latin typeface="Arial"/>
                </a:rPr>
                <a:t>Экологические 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bf00"/>
                    </a:gs>
                    <a:gs pos="100000">
                      <a:srgbClr val="000000"/>
                    </a:gs>
                  </a:gsLst>
                  <a:lin ang="1350000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50000">
                        <a:srgbClr val="ffbf00"/>
                      </a:gs>
                      <a:gs pos="100000">
                        <a:srgbClr val="000000"/>
                      </a:gs>
                    </a:gsLst>
                    <a:lin ang="13500000"/>
                  </a:gradFill>
                  <a:latin typeface="Arial"/>
                </a:rPr>
                <a:t>ограничения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bf00"/>
                    </a:gs>
                    <a:gs pos="100000">
                      <a:srgbClr val="000000"/>
                    </a:gs>
                  </a:gsLst>
                  <a:lin ang="13500000"/>
                </a:gradFill>
                <a:latin typeface="Arial"/>
                <a:ea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491640" y="4786200"/>
              <a:ext cx="2392200" cy="1557000"/>
            </a:xfrm>
            <a:prstGeom prst="rect">
              <a:avLst/>
            </a:prstGeom>
            <a:solidFill>
              <a:srgbClr val="ffffcc"/>
            </a:solidFill>
            <a:ln w="76320">
              <a:solidFill>
                <a:srgbClr val="2213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агрязнение ок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ужающей сре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 рез-те деятел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ости людей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070320" y="3695760"/>
            <a:ext cx="2954520" cy="2647440"/>
            <a:chOff x="6070320" y="3695760"/>
            <a:chExt cx="2954520" cy="2647440"/>
          </a:xfrm>
        </p:grpSpPr>
        <p:sp>
          <p:nvSpPr>
            <p:cNvPr id="183" name=""/>
            <p:cNvSpPr txBox="1"/>
            <p:nvPr/>
          </p:nvSpPr>
          <p:spPr>
            <a:xfrm>
              <a:off x="6324480" y="3695760"/>
              <a:ext cx="251460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50000">
                        <a:srgbClr val="ffbf00"/>
                      </a:gs>
                      <a:gs pos="100000">
                        <a:srgbClr val="000000"/>
                      </a:gs>
                    </a:gsLst>
                    <a:lin ang="13500000"/>
                  </a:gradFill>
                  <a:latin typeface="Arial"/>
                </a:rPr>
                <a:t>Кризис духовных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bf00"/>
                    </a:gs>
                    <a:gs pos="100000">
                      <a:srgbClr val="000000"/>
                    </a:gs>
                  </a:gsLst>
                  <a:lin ang="1350000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50000">
                        <a:srgbClr val="ffbf00"/>
                      </a:gs>
                      <a:gs pos="100000">
                        <a:srgbClr val="000000"/>
                      </a:gs>
                    </a:gsLst>
                    <a:lin ang="13500000"/>
                  </a:gradFill>
                  <a:latin typeface="Arial"/>
                </a:rPr>
                <a:t>ценностей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bf00"/>
                    </a:gs>
                    <a:gs pos="100000">
                      <a:srgbClr val="000000"/>
                    </a:gs>
                  </a:gsLst>
                  <a:lin ang="13500000"/>
                </a:gradFill>
                <a:latin typeface="Arial"/>
                <a:ea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70320" y="4786200"/>
              <a:ext cx="2954520" cy="1557000"/>
            </a:xfrm>
            <a:prstGeom prst="rect">
              <a:avLst/>
            </a:prstGeom>
            <a:solidFill>
              <a:srgbClr val="ffffcc"/>
            </a:solidFill>
            <a:ln w="76320">
              <a:solidFill>
                <a:srgbClr val="2213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одход к обществу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ак к производству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овал социально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нженерии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остиндустриальная цивилизация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2971800" y="1143000"/>
            <a:ext cx="37339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50000">
                      <a:srgbClr val="f8b049"/>
                    </a:gs>
                    <a:gs pos="100000">
                      <a:srgbClr val="fc9fcb"/>
                    </a:gs>
                  </a:gsLst>
                  <a:lin ang="8100000"/>
                </a:gradFill>
                <a:latin typeface="Arial"/>
              </a:rPr>
              <a:t>Выход из кризиса</a:t>
            </a:r>
            <a:endParaRPr b="0" lang="en-US" sz="2400" spc="1" strike="noStrike">
              <a:ln w="936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50000">
                    <a:srgbClr val="f8b049"/>
                  </a:gs>
                  <a:gs pos="100000">
                    <a:srgbClr val="fc9fcb"/>
                  </a:gs>
                </a:gsLst>
                <a:lin ang="81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50000">
                      <a:srgbClr val="f8b049"/>
                    </a:gs>
                    <a:gs pos="100000">
                      <a:srgbClr val="fc9fcb"/>
                    </a:gs>
                  </a:gsLst>
                  <a:lin ang="8100000"/>
                </a:gradFill>
                <a:latin typeface="Arial"/>
              </a:rPr>
              <a:t>индустриальной</a:t>
            </a:r>
            <a:endParaRPr b="0" lang="en-US" sz="2400" spc="1" strike="noStrike">
              <a:ln w="936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50000">
                    <a:srgbClr val="f8b049"/>
                  </a:gs>
                  <a:gs pos="100000">
                    <a:srgbClr val="fc9fcb"/>
                  </a:gs>
                </a:gsLst>
                <a:lin ang="81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50000">
                      <a:srgbClr val="f8b049"/>
                    </a:gs>
                    <a:gs pos="100000">
                      <a:srgbClr val="fc9fcb"/>
                    </a:gs>
                  </a:gsLst>
                  <a:lin ang="8100000"/>
                </a:gradFill>
                <a:latin typeface="Arial"/>
              </a:rPr>
              <a:t>цивилизации</a:t>
            </a:r>
            <a:endParaRPr b="0" lang="en-US" sz="2400" spc="1" strike="noStrike">
              <a:ln w="936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50000">
                    <a:srgbClr val="f8b049"/>
                  </a:gs>
                  <a:gs pos="100000">
                    <a:srgbClr val="fc9fcb"/>
                  </a:gs>
                </a:gsLst>
                <a:lin ang="8100000"/>
              </a:gradFill>
              <a:latin typeface="Arial"/>
              <a:ea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80720" y="2362320"/>
            <a:ext cx="2602440" cy="1857240"/>
            <a:chOff x="180720" y="2362320"/>
            <a:chExt cx="2602440" cy="1857240"/>
          </a:xfrm>
        </p:grpSpPr>
        <p:pic>
          <p:nvPicPr>
            <p:cNvPr id="188" name="" descr=""/>
            <p:cNvPicPr/>
            <p:nvPr/>
          </p:nvPicPr>
          <p:blipFill>
            <a:blip r:embed="rId1"/>
            <a:stretch/>
          </p:blipFill>
          <p:spPr>
            <a:xfrm>
              <a:off x="982800" y="2362320"/>
              <a:ext cx="106668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180720" y="3394080"/>
              <a:ext cx="2602440" cy="82548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есурсосберегаю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щие технологи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3081240" y="2286000"/>
            <a:ext cx="2945160" cy="1927080"/>
            <a:chOff x="3081240" y="2286000"/>
            <a:chExt cx="2945160" cy="1927080"/>
          </a:xfrm>
        </p:grpSpPr>
        <p:pic>
          <p:nvPicPr>
            <p:cNvPr id="191" name="" descr=""/>
            <p:cNvPicPr/>
            <p:nvPr/>
          </p:nvPicPr>
          <p:blipFill>
            <a:blip r:embed="rId2"/>
            <a:stretch/>
          </p:blipFill>
          <p:spPr>
            <a:xfrm>
              <a:off x="3962160" y="2286000"/>
              <a:ext cx="1158480" cy="111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3081240" y="3387600"/>
              <a:ext cx="2945160" cy="82548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еволюция управ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ления производств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6357240" y="2244600"/>
            <a:ext cx="2626920" cy="1968480"/>
            <a:chOff x="6357240" y="2244600"/>
            <a:chExt cx="2626920" cy="1968480"/>
          </a:xfrm>
        </p:grpSpPr>
        <p:pic>
          <p:nvPicPr>
            <p:cNvPr id="194" name="" descr=""/>
            <p:cNvPicPr/>
            <p:nvPr/>
          </p:nvPicPr>
          <p:blipFill>
            <a:blip r:embed="rId3"/>
            <a:stretch/>
          </p:blipFill>
          <p:spPr>
            <a:xfrm>
              <a:off x="7692840" y="2300040"/>
              <a:ext cx="839880" cy="85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4"/>
            <a:stretch/>
          </p:blipFill>
          <p:spPr>
            <a:xfrm>
              <a:off x="6397560" y="2244600"/>
              <a:ext cx="1143000" cy="103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6357240" y="3387600"/>
              <a:ext cx="2626920" cy="82548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нформационно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бществ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228600" y="4419720"/>
            <a:ext cx="8686800" cy="1809720"/>
            <a:chOff x="228600" y="4419720"/>
            <a:chExt cx="8686800" cy="1809720"/>
          </a:xfrm>
        </p:grpSpPr>
        <p:sp>
          <p:nvSpPr>
            <p:cNvPr id="198" name=""/>
            <p:cNvSpPr/>
            <p:nvPr/>
          </p:nvSpPr>
          <p:spPr>
            <a:xfrm>
              <a:off x="228600" y="4419720"/>
              <a:ext cx="8686800" cy="457200"/>
            </a:xfrm>
            <a:prstGeom prst="downArrowCallout">
              <a:avLst>
                <a:gd name="adj1" fmla="val -19486"/>
                <a:gd name="adj2" fmla="val 58319"/>
                <a:gd name="adj3" fmla="val 50347"/>
                <a:gd name="adj4" fmla="val 16319"/>
              </a:avLst>
            </a:prstGeom>
            <a:solidFill>
              <a:srgbClr val="ffcc00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 txBox="1"/>
            <p:nvPr/>
          </p:nvSpPr>
          <p:spPr>
            <a:xfrm>
              <a:off x="1019160" y="5181480"/>
              <a:ext cx="7134120" cy="1047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99"/>
                    </a:solidFill>
                    <a:miter/>
                  </a:ln>
                  <a:gradFill rotWithShape="0">
                    <a:gsLst>
                      <a:gs pos="0">
                        <a:srgbClr val="005cbf"/>
                      </a:gs>
                      <a:gs pos="50000">
                        <a:srgbClr val="03d4a8"/>
                      </a:gs>
                      <a:gs pos="100000">
                        <a:srgbClr val="005cbf"/>
                      </a:gs>
                    </a:gsLst>
                    <a:lin ang="5400000"/>
                  </a:gradFill>
                  <a:latin typeface="Arial"/>
                </a:rPr>
                <a:t>Стирание культурных,этнических</a:t>
              </a:r>
              <a:endParaRPr b="0" lang="en-US" sz="2400" spc="1" strike="noStrike">
                <a:ln w="936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5000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99"/>
                    </a:solidFill>
                    <a:miter/>
                  </a:ln>
                  <a:gradFill rotWithShape="0">
                    <a:gsLst>
                      <a:gs pos="0">
                        <a:srgbClr val="005cbf"/>
                      </a:gs>
                      <a:gs pos="50000">
                        <a:srgbClr val="03d4a8"/>
                      </a:gs>
                      <a:gs pos="100000">
                        <a:srgbClr val="005cbf"/>
                      </a:gs>
                    </a:gsLst>
                    <a:lin ang="5400000"/>
                  </a:gradFill>
                  <a:latin typeface="Arial"/>
                </a:rPr>
                <a:t>и др. различий</a:t>
              </a:r>
              <a:endParaRPr b="0" lang="en-US" sz="2400" spc="1" strike="noStrike">
                <a:ln w="936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5000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Россия в полосе перемен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92520" y="1108080"/>
            <a:ext cx="386280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ереходное состояни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седство старых и нов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лемент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371600" y="1371600"/>
            <a:ext cx="2476440" cy="838080"/>
            <a:chOff x="1371600" y="1371600"/>
            <a:chExt cx="2476440" cy="838080"/>
          </a:xfrm>
        </p:grpSpPr>
        <p:sp>
          <p:nvSpPr>
            <p:cNvPr id="203" name=""/>
            <p:cNvSpPr txBox="1"/>
            <p:nvPr/>
          </p:nvSpPr>
          <p:spPr>
            <a:xfrm>
              <a:off x="1828800" y="1371600"/>
              <a:ext cx="164772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99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</a:rPr>
                <a:t>Россия</a:t>
              </a:r>
              <a:endParaRPr b="1" lang="en-US" sz="2400" spc="1" strike="noStrike">
                <a:ln w="936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204" name=""/>
            <p:cNvSpPr txBox="1"/>
            <p:nvPr/>
          </p:nvSpPr>
          <p:spPr>
            <a:xfrm>
              <a:off x="1371600" y="1981080"/>
              <a:ext cx="247644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ccccff"/>
                      </a:gs>
                      <a:gs pos="50000">
                        <a:srgbClr val="ccccff"/>
                      </a:gs>
                      <a:gs pos="100000">
                        <a:srgbClr val="ccccff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"/>
                </a:rPr>
                <a:t>От чего к чему движемся?</a:t>
              </a:r>
              <a:endPara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5000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205" name=""/>
          <p:cNvSpPr txBox="1"/>
          <p:nvPr/>
        </p:nvSpPr>
        <p:spPr>
          <a:xfrm>
            <a:off x="4152960" y="2286000"/>
            <a:ext cx="14097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Impact"/>
              </a:rPr>
              <a:t>Откуд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Impact"/>
              <a:ea typeface="Impact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219320" y="2909880"/>
            <a:ext cx="7696080" cy="1008720"/>
            <a:chOff x="1219320" y="2909880"/>
            <a:chExt cx="7696080" cy="1008720"/>
          </a:xfrm>
        </p:grpSpPr>
        <p:sp>
          <p:nvSpPr>
            <p:cNvPr id="207" name=""/>
            <p:cNvSpPr txBox="1"/>
            <p:nvPr/>
          </p:nvSpPr>
          <p:spPr>
            <a:xfrm>
              <a:off x="1219320" y="3124080"/>
              <a:ext cx="1355760" cy="490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1917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032280" y="2909880"/>
              <a:ext cx="5883120" cy="10087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«построение цивилизации начинается с создания революционным путем соответствующих пред-посылок.»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1311120" y="3936960"/>
            <a:ext cx="7604280" cy="1008720"/>
            <a:chOff x="1311120" y="3936960"/>
            <a:chExt cx="7604280" cy="1008720"/>
          </a:xfrm>
        </p:grpSpPr>
        <p:sp>
          <p:nvSpPr>
            <p:cNvPr id="210" name=""/>
            <p:cNvSpPr txBox="1"/>
            <p:nvPr/>
          </p:nvSpPr>
          <p:spPr>
            <a:xfrm>
              <a:off x="1311120" y="4157640"/>
              <a:ext cx="1355760" cy="490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1930-е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032280" y="3936960"/>
              <a:ext cx="5883120" cy="10087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Желание ускорить развитие-создание админис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тративно-командной системы.Диктатура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Человек-средство развития общества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219320" y="4952880"/>
            <a:ext cx="7696080" cy="1008720"/>
            <a:chOff x="1219320" y="4952880"/>
            <a:chExt cx="7696080" cy="1008720"/>
          </a:xfrm>
        </p:grpSpPr>
        <p:sp>
          <p:nvSpPr>
            <p:cNvPr id="213" name=""/>
            <p:cNvSpPr txBox="1"/>
            <p:nvPr/>
          </p:nvSpPr>
          <p:spPr>
            <a:xfrm>
              <a:off x="1219320" y="5224320"/>
              <a:ext cx="1355760" cy="490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1956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32280" y="4952880"/>
              <a:ext cx="5883120" cy="10087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Осуждение культа личности.Половинчатост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проводимых реформ.Начало в 60-е г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затяжного структурного кризиса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1235160" y="5943600"/>
            <a:ext cx="7680240" cy="703800"/>
            <a:chOff x="1235160" y="5943600"/>
            <a:chExt cx="7680240" cy="703800"/>
          </a:xfrm>
        </p:grpSpPr>
        <p:sp>
          <p:nvSpPr>
            <p:cNvPr id="216" name=""/>
            <p:cNvSpPr txBox="1"/>
            <p:nvPr/>
          </p:nvSpPr>
          <p:spPr>
            <a:xfrm>
              <a:off x="1235160" y="6138720"/>
              <a:ext cx="1355760" cy="490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к.80-х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032280" y="5943600"/>
              <a:ext cx="5883120" cy="7038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Перестройка-поиски путей реформирования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метания из одной стороны в другую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Куда ведут реформы?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523880" y="1219320"/>
            <a:ext cx="1028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3694b6"/>
                </a:solidFill>
                <a:latin typeface="Arial"/>
              </a:rPr>
              <a:t>1991</a:t>
            </a:r>
            <a:endParaRPr b="0" lang="en-US" sz="2400" spc="1" strike="noStrike">
              <a:ln w="9360">
                <a:solidFill>
                  <a:srgbClr val="000099"/>
                </a:solidFill>
                <a:miter/>
              </a:ln>
              <a:solidFill>
                <a:srgbClr val="3694b6"/>
              </a:solidFill>
              <a:latin typeface="Arial"/>
              <a:ea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581280" y="1143000"/>
            <a:ext cx="5029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переход к радикальным 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реформам.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038480" y="1828800"/>
            <a:ext cx="1209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99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Куда?</a:t>
            </a:r>
            <a:endParaRPr b="0" lang="en-US" sz="2400" spc="1" strike="noStrike">
              <a:ln w="9360">
                <a:solidFill>
                  <a:srgbClr val="000099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457200" y="2173320"/>
            <a:ext cx="3505320" cy="874800"/>
            <a:chOff x="457200" y="2173320"/>
            <a:chExt cx="3505320" cy="874800"/>
          </a:xfrm>
        </p:grpSpPr>
        <p:sp>
          <p:nvSpPr>
            <p:cNvPr id="223" name=""/>
            <p:cNvSpPr txBox="1"/>
            <p:nvPr/>
          </p:nvSpPr>
          <p:spPr>
            <a:xfrm>
              <a:off x="457200" y="2173320"/>
              <a:ext cx="2846520" cy="874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1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99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Демократический</a:t>
              </a:r>
              <a:endParaRPr b="0" lang="en-US" sz="2400" spc="1" strike="noStrike">
                <a:ln w="936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99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социализм</a:t>
              </a:r>
              <a:endParaRPr b="0" lang="en-US" sz="2400" spc="1" strike="noStrike">
                <a:ln w="936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3429000" y="2286000"/>
              <a:ext cx="53352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2971800" y="2438280"/>
            <a:ext cx="3124080" cy="1524240"/>
            <a:chOff x="2971800" y="2438280"/>
            <a:chExt cx="3124080" cy="1524240"/>
          </a:xfrm>
        </p:grpSpPr>
        <p:sp>
          <p:nvSpPr>
            <p:cNvPr id="226" name=""/>
            <p:cNvSpPr txBox="1"/>
            <p:nvPr/>
          </p:nvSpPr>
          <p:spPr>
            <a:xfrm>
              <a:off x="2971800" y="3124080"/>
              <a:ext cx="3124080" cy="838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Капиталистический</a:t>
              </a:r>
              <a:endPara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путь развития</a:t>
              </a:r>
              <a:endPara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648320" y="2438280"/>
              <a:ext cx="0" cy="68580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181480" y="2057400"/>
            <a:ext cx="3962520" cy="828720"/>
            <a:chOff x="5181480" y="2057400"/>
            <a:chExt cx="3962520" cy="828720"/>
          </a:xfrm>
        </p:grpSpPr>
        <p:sp>
          <p:nvSpPr>
            <p:cNvPr id="229" name=""/>
            <p:cNvSpPr txBox="1"/>
            <p:nvPr/>
          </p:nvSpPr>
          <p:spPr>
            <a:xfrm>
              <a:off x="5715000" y="2057400"/>
              <a:ext cx="3429000" cy="82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cc33"/>
                  </a:solidFill>
                  <a:latin typeface="Arial"/>
                </a:rPr>
                <a:t>решение проблем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cc33"/>
                  </a:solidFill>
                  <a:latin typeface="Arial"/>
                </a:rPr>
                <a:t>развития общества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  <a:ea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181480" y="2286000"/>
              <a:ext cx="457200" cy="22860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447920" y="4200480"/>
            <a:ext cx="6933960" cy="1593720"/>
            <a:chOff x="1447920" y="4200480"/>
            <a:chExt cx="6933960" cy="1593720"/>
          </a:xfrm>
        </p:grpSpPr>
        <p:sp>
          <p:nvSpPr>
            <p:cNvPr id="232" name=""/>
            <p:cNvSpPr txBox="1"/>
            <p:nvPr/>
          </p:nvSpPr>
          <p:spPr>
            <a:xfrm>
              <a:off x="1447920" y="4200480"/>
              <a:ext cx="693396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99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50000">
                        <a:srgbClr val="a603ab"/>
                      </a:gs>
                      <a:gs pos="100000">
                        <a:srgbClr val="a603ab"/>
                      </a:gs>
                    </a:gsLst>
                    <a:lin ang="5400000"/>
                  </a:gradFill>
                  <a:latin typeface="Arial"/>
                </a:rPr>
                <a:t>Главная задача:</a:t>
              </a:r>
              <a:endParaRPr b="0" lang="en-US" sz="2400" spc="1" strike="noStrike">
                <a:ln w="936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5000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569240" y="4968720"/>
              <a:ext cx="6619680" cy="825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Times New Roman"/>
                </a:rPr>
                <a:t>Создание для человека условий жизни и труд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Times New Roman"/>
                </a:rPr>
                <a:t>достойных современной цивилизации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Куда ведут реформы?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048200" y="1104840"/>
            <a:ext cx="1209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99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Куда?</a:t>
            </a:r>
            <a:endParaRPr b="0" lang="en-US" sz="2400" spc="1" strike="noStrike">
              <a:ln w="9360">
                <a:solidFill>
                  <a:srgbClr val="000099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082520" y="1752480"/>
            <a:ext cx="7644960" cy="838080"/>
            <a:chOff x="1082520" y="1752480"/>
            <a:chExt cx="7644960" cy="838080"/>
          </a:xfrm>
        </p:grpSpPr>
        <p:sp>
          <p:nvSpPr>
            <p:cNvPr id="237" name=""/>
            <p:cNvSpPr txBox="1"/>
            <p:nvPr/>
          </p:nvSpPr>
          <p:spPr>
            <a:xfrm>
              <a:off x="1082520" y="1904760"/>
              <a:ext cx="236232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cc33"/>
                  </a:solidFill>
                  <a:latin typeface="Arial"/>
                </a:rPr>
                <a:t>экономическая 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cc33"/>
                  </a:solidFill>
                  <a:latin typeface="Arial"/>
                </a:rPr>
                <a:t>сфера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  <a:ea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692880" y="1752480"/>
              <a:ext cx="5034600" cy="8254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ыночная экономика с равноправ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ыми формами собственности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990720" y="2666880"/>
            <a:ext cx="7725960" cy="825480"/>
            <a:chOff x="990720" y="2666880"/>
            <a:chExt cx="7725960" cy="825480"/>
          </a:xfrm>
        </p:grpSpPr>
        <p:sp>
          <p:nvSpPr>
            <p:cNvPr id="240" name=""/>
            <p:cNvSpPr txBox="1"/>
            <p:nvPr/>
          </p:nvSpPr>
          <p:spPr>
            <a:xfrm>
              <a:off x="990720" y="2879640"/>
              <a:ext cx="228564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Социальная 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сфера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00440" y="2666880"/>
              <a:ext cx="5016240" cy="825480"/>
            </a:xfrm>
            <a:prstGeom prst="rect">
              <a:avLst/>
            </a:prstGeom>
            <a:solidFill>
              <a:srgbClr val="ffffcc"/>
            </a:solid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авные социальные возможности 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ащита социальных групп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1066680" y="3597120"/>
            <a:ext cx="7658640" cy="825480"/>
            <a:chOff x="1066680" y="3597120"/>
            <a:chExt cx="7658640" cy="825480"/>
          </a:xfrm>
        </p:grpSpPr>
        <p:sp>
          <p:nvSpPr>
            <p:cNvPr id="243" name=""/>
            <p:cNvSpPr txBox="1"/>
            <p:nvPr/>
          </p:nvSpPr>
          <p:spPr>
            <a:xfrm>
              <a:off x="1066680" y="3673440"/>
              <a:ext cx="22860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9191e1"/>
                  </a:solidFill>
                  <a:latin typeface="Arial"/>
                </a:rPr>
                <a:t>политическая 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191e1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9191e1"/>
                  </a:solidFill>
                  <a:latin typeface="Arial"/>
                </a:rPr>
                <a:t>сфера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191e1"/>
                </a:solidFill>
                <a:latin typeface="Arial"/>
                <a:ea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699720" y="3597120"/>
              <a:ext cx="5025600" cy="825480"/>
            </a:xfrm>
            <a:prstGeom prst="rect">
              <a:avLst/>
            </a:prstGeom>
            <a:solidFill>
              <a:srgbClr val="ccffff"/>
            </a:solidFill>
            <a:ln w="7632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оздание правового государства  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ражданского общества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1066680" y="4511520"/>
            <a:ext cx="7626240" cy="825480"/>
            <a:chOff x="1066680" y="4511520"/>
            <a:chExt cx="7626240" cy="825480"/>
          </a:xfrm>
        </p:grpSpPr>
        <p:sp>
          <p:nvSpPr>
            <p:cNvPr id="246" name=""/>
            <p:cNvSpPr txBox="1"/>
            <p:nvPr/>
          </p:nvSpPr>
          <p:spPr>
            <a:xfrm>
              <a:off x="1066680" y="4663800"/>
              <a:ext cx="236232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6699"/>
                  </a:solidFill>
                  <a:latin typeface="Arial"/>
                </a:rPr>
                <a:t>культурная 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99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6699"/>
                  </a:solidFill>
                  <a:latin typeface="Arial"/>
                </a:rPr>
                <a:t>сфера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99"/>
                </a:solidFill>
                <a:latin typeface="Arial"/>
                <a:ea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711600" y="4511520"/>
              <a:ext cx="4981320" cy="825480"/>
            </a:xfrm>
            <a:prstGeom prst="rect">
              <a:avLst/>
            </a:prstGeom>
            <a:solidFill>
              <a:srgbClr val="ffccff"/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оздание условий для гармоничн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о развития человека и обществ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726480" y="5645160"/>
            <a:ext cx="8122320" cy="825480"/>
          </a:xfrm>
          <a:prstGeom prst="rect">
            <a:avLst/>
          </a:prstGeom>
          <a:solidFill>
            <a:srgbClr val="006600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Россия должна стать продуктом исторического творчест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ва ее народов и мировой цивилиза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3T09:16:50Z</dcterms:created>
  <dc:creator>elior</dc:creator>
  <dc:description/>
  <dc:language>en-US</dc:language>
  <cp:lastModifiedBy>Чернов Алексей</cp:lastModifiedBy>
  <dcterms:modified xsi:type="dcterms:W3CDTF">2002-04-18T12:35:56Z</dcterms:modified>
  <cp:revision>65</cp:revision>
  <dc:subject/>
  <dc:title>ОСОБЕННОСТИ ДРЕВНИХ ЦИВИЛИЗАЦИЙ.</dc:title>
</cp:coreProperties>
</file>