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12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FF0-E382-4DB2-951A-DB3C1797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76C-927C-455C-A694-0D85BBA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DD8-642E-4E3D-BF63-E0872290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F4C-2FE0-4908-AB55-F8541B8E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9F1C-31A1-411B-8C4E-B2212DA7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3532-F889-43A0-AC13-7F304311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AA8C-C82C-4DE8-9E6E-DE0DC576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9DFE-BF9B-44DD-B326-ADA56116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00C5-FA8D-4FF5-9FA1-DB0944ED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A235-8711-448C-9108-887CC257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8F18-F550-4282-A4FA-AA916572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5E3-EE3C-4AF7-8C1C-CF76F21F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07D0-E61A-40EC-A939-0E64A9C6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4C98-4B85-4051-93C1-9A51A0CE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CB9C-CF98-4B24-ABD3-1531BD83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0043-EFC8-4E5A-BF17-047709C8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0CF9-0240-49DD-8088-867CEA9E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A4C-DFC5-4010-8408-28DC13A0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D38-F075-4276-91C2-47AD177D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FD8-D9F3-40D3-B294-C686E1EF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6BB-782F-48EE-9E63-4F982EE6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FE8-5FAB-4FC4-A6A0-AE4E4594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ADF-C689-47B1-8B4E-E6EAA21C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DA8-CA0F-4EC8-BCF3-035A86ED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EE9F-CFBB-4E36-9A8B-770D4A0633C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1649-1110-46CD-8124-7A7DB906333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ЦИВИЛИЗАЦИЯ 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РОСС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усь христианска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523880" y="1447920"/>
            <a:ext cx="1648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осс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48520" y="1371600"/>
            <a:ext cx="1447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вроп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352680" y="1251000"/>
            <a:ext cx="2819520" cy="1191240"/>
            <a:chOff x="3352680" y="1251000"/>
            <a:chExt cx="2819520" cy="1191240"/>
          </a:xfrm>
        </p:grpSpPr>
        <p:sp>
          <p:nvSpPr>
            <p:cNvPr id="217" name=""/>
            <p:cNvSpPr/>
            <p:nvPr/>
          </p:nvSpPr>
          <p:spPr>
            <a:xfrm>
              <a:off x="3352680" y="1708200"/>
              <a:ext cx="28195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4680" y="1251000"/>
              <a:ext cx="251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огла ли пой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 европейском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ути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590920" y="2133720"/>
            <a:ext cx="4038480" cy="1133280"/>
            <a:chOff x="2590920" y="2133720"/>
            <a:chExt cx="4038480" cy="1133280"/>
          </a:xfrm>
        </p:grpSpPr>
        <p:sp>
          <p:nvSpPr>
            <p:cNvPr id="220" name=""/>
            <p:cNvSpPr txBox="1"/>
            <p:nvPr/>
          </p:nvSpPr>
          <p:spPr>
            <a:xfrm>
              <a:off x="3657600" y="2743200"/>
              <a:ext cx="1981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Times New Roman"/>
                </a:rPr>
                <a:t>Новгород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0920" y="2133720"/>
              <a:ext cx="91440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715000" y="2133720"/>
              <a:ext cx="914400" cy="838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200480" y="3429000"/>
            <a:ext cx="75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Но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90720" y="4479840"/>
            <a:ext cx="7337160" cy="966240"/>
            <a:chOff x="990720" y="4479840"/>
            <a:chExt cx="7337160" cy="966240"/>
          </a:xfrm>
        </p:grpSpPr>
        <p:grpSp>
          <p:nvGrpSpPr>
            <p:cNvPr id="225" name=""/>
            <p:cNvGrpSpPr/>
            <p:nvPr/>
          </p:nvGrpSpPr>
          <p:grpSpPr>
            <a:xfrm>
              <a:off x="990720" y="4479840"/>
              <a:ext cx="7337160" cy="571680"/>
              <a:chOff x="990720" y="4479840"/>
              <a:chExt cx="7337160" cy="571680"/>
            </a:xfrm>
          </p:grpSpPr>
          <p:sp>
            <p:nvSpPr>
              <p:cNvPr id="226" name=""/>
              <p:cNvSpPr txBox="1"/>
              <p:nvPr/>
            </p:nvSpPr>
            <p:spPr>
              <a:xfrm>
                <a:off x="990720" y="4479840"/>
                <a:ext cx="27622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Православие</a:t>
                </a:r>
                <a:endPara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62520" y="4522680"/>
                <a:ext cx="1214280" cy="486000"/>
              </a:xfrm>
              <a:prstGeom prst="leftRightArrow">
                <a:avLst>
                  <a:gd name="adj1" fmla="val 50000"/>
                  <a:gd name="adj2" fmla="val 49739"/>
                </a:avLst>
              </a:prstGeom>
              <a:gradFill rotWithShape="0">
                <a:gsLst>
                  <a:gs pos="0">
                    <a:srgbClr val="000099"/>
                  </a:gs>
                  <a:gs pos="50000">
                    <a:srgbClr val="3399ff"/>
                  </a:gs>
                  <a:gs pos="100000">
                    <a:srgbClr val="000099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5334120" y="4481640"/>
                <a:ext cx="2993760" cy="566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Impact"/>
                  </a:rPr>
                  <a:t>Католичество</a:t>
                </a:r>
                <a:endParaRPr b="1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339720" y="4803840"/>
              <a:ext cx="25959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тивостояние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080" y="5715000"/>
            <a:ext cx="7763040" cy="835200"/>
            <a:chOff x="838080" y="5715000"/>
            <a:chExt cx="7763040" cy="835200"/>
          </a:xfrm>
        </p:grpSpPr>
        <p:sp>
          <p:nvSpPr>
            <p:cNvPr id="231" name=""/>
            <p:cNvSpPr txBox="1"/>
            <p:nvPr/>
          </p:nvSpPr>
          <p:spPr>
            <a:xfrm>
              <a:off x="838080" y="5715000"/>
              <a:ext cx="7763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9933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Arial"/>
                </a:rPr>
                <a:t>"Очередной" порядок наследования</a:t>
              </a:r>
              <a:endParaRPr b="0" lang="en-US" sz="2400" spc="1" strike="noStrike">
                <a:ln w="2844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71920" y="6114960"/>
              <a:ext cx="43077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тсутствие стабильно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усь Московска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42920" y="1295280"/>
            <a:ext cx="3908520" cy="82548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ад Киевской Руси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чинение Золотой Ор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195880" y="1333440"/>
            <a:ext cx="3643200" cy="800280"/>
            <a:chOff x="5195880" y="1333440"/>
            <a:chExt cx="3643200" cy="800280"/>
          </a:xfrm>
        </p:grpSpPr>
        <p:sp>
          <p:nvSpPr>
            <p:cNvPr id="236" name=""/>
            <p:cNvSpPr txBox="1"/>
            <p:nvPr/>
          </p:nvSpPr>
          <p:spPr>
            <a:xfrm>
              <a:off x="6383160" y="1333440"/>
              <a:ext cx="2455920" cy="80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221304"/>
                    </a:solidFill>
                    <a:miter/>
                  </a:ln>
                  <a:solidFill>
                    <a:srgbClr val="0066cc"/>
                  </a:solidFill>
                  <a:latin typeface="Impact"/>
                </a:rPr>
                <a:t>Суздальское </a:t>
              </a:r>
              <a:endPara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221304"/>
                    </a:solidFill>
                    <a:miter/>
                  </a:ln>
                  <a:solidFill>
                    <a:srgbClr val="0066cc"/>
                  </a:solidFill>
                  <a:latin typeface="Impact"/>
                </a:rPr>
                <a:t>княжество(сер.13 в.)</a:t>
              </a:r>
              <a:endPara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  <a:ea typeface="Impact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95880" y="14479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ffcc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990720" y="2209680"/>
            <a:ext cx="5172120" cy="1562400"/>
            <a:chOff x="990720" y="2209680"/>
            <a:chExt cx="5172120" cy="1562400"/>
          </a:xfrm>
        </p:grpSpPr>
        <p:sp>
          <p:nvSpPr>
            <p:cNvPr id="239" name=""/>
            <p:cNvSpPr txBox="1"/>
            <p:nvPr/>
          </p:nvSpPr>
          <p:spPr>
            <a:xfrm>
              <a:off x="990720" y="2743200"/>
              <a:ext cx="303840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Courier New"/>
                </a:rPr>
                <a:t>Центр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urier New"/>
                <a:ea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500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Courier New"/>
                </a:rPr>
                <a:t>объединен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urier New"/>
                <a:ea typeface="Courier New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343320" y="2209680"/>
              <a:ext cx="2819520" cy="91440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962520" y="2590920"/>
            <a:ext cx="4734000" cy="1191240"/>
            <a:chOff x="3962520" y="2590920"/>
            <a:chExt cx="4734000" cy="1191240"/>
          </a:xfrm>
        </p:grpSpPr>
        <p:sp>
          <p:nvSpPr>
            <p:cNvPr id="242" name=""/>
            <p:cNvSpPr/>
            <p:nvPr/>
          </p:nvSpPr>
          <p:spPr>
            <a:xfrm>
              <a:off x="3962520" y="29718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00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90920" y="2590920"/>
              <a:ext cx="3405600" cy="119124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зменение психолог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ласти-князья-влад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ы подвластной земл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523880" y="3809880"/>
            <a:ext cx="1447920" cy="1143000"/>
            <a:chOff x="1523880" y="3809880"/>
            <a:chExt cx="1447920" cy="1143000"/>
          </a:xfrm>
        </p:grpSpPr>
        <p:sp>
          <p:nvSpPr>
            <p:cNvPr id="245" name=""/>
            <p:cNvSpPr txBox="1"/>
            <p:nvPr/>
          </p:nvSpPr>
          <p:spPr>
            <a:xfrm>
              <a:off x="1523880" y="4343400"/>
              <a:ext cx="1447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09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Ярлык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3809880"/>
              <a:ext cx="0" cy="60984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76720" y="3962520"/>
            <a:ext cx="5181480" cy="1527120"/>
            <a:chOff x="3276720" y="3962520"/>
            <a:chExt cx="5181480" cy="1527120"/>
          </a:xfrm>
        </p:grpSpPr>
        <p:sp>
          <p:nvSpPr>
            <p:cNvPr id="248" name=""/>
            <p:cNvSpPr/>
            <p:nvPr/>
          </p:nvSpPr>
          <p:spPr>
            <a:xfrm>
              <a:off x="3276720" y="4390920"/>
              <a:ext cx="976320" cy="48600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6000"/>
                <a:gd name="textAreaBottom" fmla="*/ 36468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cc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60840" y="4664160"/>
              <a:ext cx="379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торая форма российск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ивилиз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4495680" y="3962520"/>
              <a:ext cx="3962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Московская Рус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168920" y="5451480"/>
            <a:ext cx="276084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лич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территори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этн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4080" y="5442120"/>
            <a:ext cx="26298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ходства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язы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рели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усь Московска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19320" y="1295280"/>
            <a:ext cx="3962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Московская Рус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57800" y="1108080"/>
            <a:ext cx="3525480" cy="1191240"/>
            <a:chOff x="5257800" y="1108080"/>
            <a:chExt cx="3525480" cy="1191240"/>
          </a:xfrm>
        </p:grpSpPr>
        <p:sp>
          <p:nvSpPr>
            <p:cNvPr id="256" name=""/>
            <p:cNvSpPr/>
            <p:nvPr/>
          </p:nvSpPr>
          <p:spPr>
            <a:xfrm>
              <a:off x="5854680" y="1108080"/>
              <a:ext cx="2928600" cy="119124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бирание зем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 населения(из з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исимых княжеств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800" y="1752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643400" y="2133360"/>
            <a:ext cx="6526800" cy="1221840"/>
            <a:chOff x="1643400" y="2133360"/>
            <a:chExt cx="6526800" cy="1221840"/>
          </a:xfrm>
        </p:grpSpPr>
        <p:sp>
          <p:nvSpPr>
            <p:cNvPr id="259" name=""/>
            <p:cNvSpPr/>
            <p:nvPr/>
          </p:nvSpPr>
          <p:spPr>
            <a:xfrm>
              <a:off x="1643400" y="2895480"/>
              <a:ext cx="6526800" cy="45972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вращение в религиозный центр всей Рус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3718080" y="2133360"/>
              <a:ext cx="121896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 txBox="1"/>
          <p:nvPr/>
        </p:nvSpPr>
        <p:spPr>
          <a:xfrm>
            <a:off x="2952720" y="3581280"/>
            <a:ext cx="3676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ревращение 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цивилизацию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994680" y="4876920"/>
            <a:ext cx="2809800" cy="1491480"/>
            <a:chOff x="994680" y="4876920"/>
            <a:chExt cx="2809800" cy="1491480"/>
          </a:xfrm>
        </p:grpSpPr>
        <p:sp>
          <p:nvSpPr>
            <p:cNvPr id="263" name=""/>
            <p:cNvSpPr txBox="1"/>
            <p:nvPr/>
          </p:nvSpPr>
          <p:spPr>
            <a:xfrm>
              <a:off x="1752480" y="4876920"/>
              <a:ext cx="129564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453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94680" y="5908680"/>
              <a:ext cx="28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хКонстантинопол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944680" y="4876920"/>
            <a:ext cx="2666520" cy="1491480"/>
            <a:chOff x="5944680" y="4876920"/>
            <a:chExt cx="2666520" cy="1491480"/>
          </a:xfrm>
        </p:grpSpPr>
        <p:sp>
          <p:nvSpPr>
            <p:cNvPr id="266" name=""/>
            <p:cNvSpPr txBox="1"/>
            <p:nvPr/>
          </p:nvSpPr>
          <p:spPr>
            <a:xfrm>
              <a:off x="6477120" y="4876920"/>
              <a:ext cx="15238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99ff"/>
                  </a:solidFill>
                  <a:latin typeface="Arial"/>
                </a:rPr>
                <a:t>1480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Arial"/>
                <a:ea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44680" y="5908680"/>
              <a:ext cx="26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хОрдынского Иг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усь Московска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895480" y="1143000"/>
            <a:ext cx="3962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Московская Рус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666800" y="1295280"/>
            <a:ext cx="6181920" cy="24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Идеологическое обоснование:</a:t>
            </a:r>
            <a:endParaRPr b="1" lang="en-US" sz="2400" spc="1" strike="noStrike">
              <a:ln w="28440">
                <a:solidFill>
                  <a:srgbClr val="000099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"Москва - Третий Рим"</a:t>
            </a:r>
            <a:endParaRPr b="1" lang="en-US" sz="2400" spc="1" strike="noStrike">
              <a:ln w="28440">
                <a:solidFill>
                  <a:srgbClr val="000099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19320" y="3809880"/>
            <a:ext cx="2361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ничтож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дельн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юриковиче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876920" y="3809880"/>
            <a:ext cx="37432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рикрепление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сел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4040" y="4343400"/>
            <a:ext cx="5001480" cy="2212920"/>
            <a:chOff x="104040" y="4343400"/>
            <a:chExt cx="5001480" cy="2212920"/>
          </a:xfrm>
        </p:grpSpPr>
        <p:sp>
          <p:nvSpPr>
            <p:cNvPr id="274" name=""/>
            <p:cNvSpPr/>
            <p:nvPr/>
          </p:nvSpPr>
          <p:spPr>
            <a:xfrm>
              <a:off x="104040" y="5730840"/>
              <a:ext cx="34099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Крестьяне и помещ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земл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828800" y="4343400"/>
              <a:ext cx="3276720" cy="1295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683520" y="4419720"/>
            <a:ext cx="3407040" cy="2136600"/>
            <a:chOff x="3683520" y="4419720"/>
            <a:chExt cx="3407040" cy="2136600"/>
          </a:xfrm>
        </p:grpSpPr>
        <p:sp>
          <p:nvSpPr>
            <p:cNvPr id="277" name=""/>
            <p:cNvSpPr/>
            <p:nvPr/>
          </p:nvSpPr>
          <p:spPr>
            <a:xfrm>
              <a:off x="3683520" y="5730840"/>
              <a:ext cx="340704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Ремесленники и купц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 «тягло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4419720"/>
              <a:ext cx="0" cy="12189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629400" y="4952880"/>
            <a:ext cx="2399400" cy="1603440"/>
            <a:chOff x="6629400" y="4952880"/>
            <a:chExt cx="2399400" cy="1603440"/>
          </a:xfrm>
        </p:grpSpPr>
        <p:sp>
          <p:nvSpPr>
            <p:cNvPr id="280" name=""/>
            <p:cNvSpPr/>
            <p:nvPr/>
          </p:nvSpPr>
          <p:spPr>
            <a:xfrm>
              <a:off x="7258680" y="5730840"/>
              <a:ext cx="17701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ья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гос.служб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29400" y="4952880"/>
              <a:ext cx="1447920" cy="6858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усь Московска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895480" y="1143000"/>
            <a:ext cx="3962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Московская Рус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85120" y="2311560"/>
            <a:ext cx="3181320" cy="125208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изис н.17 ве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пытка вый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-под опеки Моск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952880" y="2476440"/>
            <a:ext cx="2819520" cy="1028880"/>
            <a:chOff x="4952880" y="2476440"/>
            <a:chExt cx="2819520" cy="1028880"/>
          </a:xfrm>
        </p:grpSpPr>
        <p:sp>
          <p:nvSpPr>
            <p:cNvPr id="286" name=""/>
            <p:cNvSpPr txBox="1"/>
            <p:nvPr/>
          </p:nvSpPr>
          <p:spPr>
            <a:xfrm>
              <a:off x="6391440" y="2476440"/>
              <a:ext cx="138096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Courier New"/>
                </a:rPr>
                <a:t>Смут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urier New"/>
                <a:ea typeface="Courier Ne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2743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 txBox="1"/>
          <p:nvPr/>
        </p:nvSpPr>
        <p:spPr>
          <a:xfrm>
            <a:off x="4343400" y="3809880"/>
            <a:ext cx="75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Но!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90720" y="4952880"/>
            <a:ext cx="1904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слаб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центральн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власт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971800" y="5105520"/>
            <a:ext cx="2819520" cy="1066680"/>
            <a:chOff x="2971800" y="5105520"/>
            <a:chExt cx="2819520" cy="1066680"/>
          </a:xfrm>
        </p:grpSpPr>
        <p:sp>
          <p:nvSpPr>
            <p:cNvPr id="291" name=""/>
            <p:cNvSpPr txBox="1"/>
            <p:nvPr/>
          </p:nvSpPr>
          <p:spPr>
            <a:xfrm>
              <a:off x="3666960" y="5105520"/>
              <a:ext cx="21243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221304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внешняя </a:t>
              </a:r>
              <a:endParaRPr b="1" lang="en-US" sz="2400" spc="1" strike="noStrike">
                <a:ln w="28440">
                  <a:solidFill>
                    <a:srgbClr val="221304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221304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угроза</a:t>
              </a:r>
              <a:endParaRPr b="1" lang="en-US" sz="2400" spc="1" strike="noStrike">
                <a:ln w="28440">
                  <a:solidFill>
                    <a:srgbClr val="221304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800" y="5562720"/>
              <a:ext cx="6094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715000" y="4952880"/>
            <a:ext cx="3124080" cy="1143000"/>
            <a:chOff x="5715000" y="4952880"/>
            <a:chExt cx="3124080" cy="1143000"/>
          </a:xfrm>
        </p:grpSpPr>
        <p:sp>
          <p:nvSpPr>
            <p:cNvPr id="294" name=""/>
            <p:cNvSpPr txBox="1"/>
            <p:nvPr/>
          </p:nvSpPr>
          <p:spPr>
            <a:xfrm>
              <a:off x="6448320" y="4952880"/>
              <a:ext cx="239076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Династия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Романовых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15000" y="5562720"/>
              <a:ext cx="685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ближение с Западной Европо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200480" y="1143000"/>
            <a:ext cx="128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7 век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866960" y="1828800"/>
            <a:ext cx="1485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267600" y="1295280"/>
            <a:ext cx="211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адная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ропа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185280" y="1752480"/>
            <a:ext cx="3484800" cy="1526760"/>
            <a:chOff x="3185280" y="1752480"/>
            <a:chExt cx="3484800" cy="1526760"/>
          </a:xfrm>
        </p:grpSpPr>
        <p:sp>
          <p:nvSpPr>
            <p:cNvPr id="301" name=""/>
            <p:cNvSpPr/>
            <p:nvPr/>
          </p:nvSpPr>
          <p:spPr>
            <a:xfrm>
              <a:off x="3185280" y="2819520"/>
              <a:ext cx="3484800" cy="45972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сходятся стадиально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738680" y="1752480"/>
              <a:ext cx="14256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atin typeface="Arial"/>
                </a:rPr>
                <a:t>!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334880" y="4114800"/>
            <a:ext cx="3071880" cy="155700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649 год-крепост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раздача городов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ормление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29880" y="3629160"/>
            <a:ext cx="3367440" cy="265428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ликвидация остат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в крепостничест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ревращение город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центры самореализ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и активного насел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ближение с Западной Европо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200480" y="1143000"/>
            <a:ext cx="128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7 век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866960" y="1828800"/>
            <a:ext cx="1485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267600" y="1295280"/>
            <a:ext cx="211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адная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ропа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19920" y="2895480"/>
            <a:ext cx="259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еформация</a:t>
            </a:r>
            <a:endParaRPr b="0" lang="en-US" sz="2400" spc="1" strike="noStrike">
              <a:ln w="9360">
                <a:solidFill>
                  <a:srgbClr val="221304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"/>
          <p:cNvSpPr/>
          <p:nvPr/>
        </p:nvSpPr>
        <p:spPr>
          <a:xfrm>
            <a:off x="5675040" y="4114800"/>
            <a:ext cx="3048840" cy="1922760"/>
          </a:xfrm>
          <a:prstGeom prst="rect">
            <a:avLst/>
          </a:prstGeom>
          <a:solidFill>
            <a:srgbClr val="ff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свобождение разу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 от схоласти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оздание услов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промышлен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волю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95280" y="2895480"/>
            <a:ext cx="2962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"Домострой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63240" y="4114800"/>
            <a:ext cx="3471120" cy="2288520"/>
          </a:xfrm>
          <a:prstGeom prst="rect">
            <a:avLst/>
          </a:prstGeom>
          <a:solidFill>
            <a:srgbClr val="ff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внутренняя наполнен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сть христианск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ысл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церковный раскол п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л к цивилизацион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й катастроф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ближение с Западной Европо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066680" y="1371600"/>
            <a:ext cx="1590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эпох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етра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743200" y="1143000"/>
            <a:ext cx="6016320" cy="1450800"/>
            <a:chOff x="2743200" y="1143000"/>
            <a:chExt cx="6016320" cy="1450800"/>
          </a:xfrm>
        </p:grpSpPr>
        <p:grpSp>
          <p:nvGrpSpPr>
            <p:cNvPr id="316" name=""/>
            <p:cNvGrpSpPr/>
            <p:nvPr/>
          </p:nvGrpSpPr>
          <p:grpSpPr>
            <a:xfrm>
              <a:off x="3587760" y="1143000"/>
              <a:ext cx="5171760" cy="1450800"/>
              <a:chOff x="3587760" y="1143000"/>
              <a:chExt cx="5171760" cy="1450800"/>
            </a:xfrm>
          </p:grpSpPr>
          <p:sp>
            <p:nvSpPr>
              <p:cNvPr id="317" name=""/>
              <p:cNvSpPr txBox="1"/>
              <p:nvPr/>
            </p:nvSpPr>
            <p:spPr>
              <a:xfrm>
                <a:off x="5257800" y="1143000"/>
                <a:ext cx="150480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221304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задача</a:t>
                </a:r>
                <a:endPara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87760" y="1768320"/>
                <a:ext cx="5171760" cy="825480"/>
              </a:xfrm>
              <a:prstGeom prst="rect">
                <a:avLst/>
              </a:prstGeom>
              <a:solidFill>
                <a:srgbClr val="ccecff"/>
              </a:solidFill>
              <a:ln w="7632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Сбор элементов старой цивили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зации на новой, европейской основ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743200" y="1905120"/>
              <a:ext cx="685800" cy="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143000" y="2514600"/>
            <a:ext cx="2008080" cy="2362320"/>
            <a:chOff x="1143000" y="2514600"/>
            <a:chExt cx="2008080" cy="2362320"/>
          </a:xfrm>
        </p:grpSpPr>
        <p:grpSp>
          <p:nvGrpSpPr>
            <p:cNvPr id="321" name=""/>
            <p:cNvGrpSpPr/>
            <p:nvPr/>
          </p:nvGrpSpPr>
          <p:grpSpPr>
            <a:xfrm>
              <a:off x="1143000" y="3200400"/>
              <a:ext cx="2008080" cy="1676520"/>
              <a:chOff x="1143000" y="3200400"/>
              <a:chExt cx="2008080" cy="1676520"/>
            </a:xfrm>
          </p:grpSpPr>
          <p:pic>
            <p:nvPicPr>
              <p:cNvPr id="3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3276720"/>
                <a:ext cx="2008080" cy="143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3200400"/>
                <a:ext cx="903240" cy="167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4" name=""/>
            <p:cNvSpPr/>
            <p:nvPr/>
          </p:nvSpPr>
          <p:spPr>
            <a:xfrm>
              <a:off x="1752480" y="2514600"/>
              <a:ext cx="381240" cy="60948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200400" y="2819520"/>
            <a:ext cx="5562720" cy="990000"/>
            <a:chOff x="3200400" y="2819520"/>
            <a:chExt cx="5562720" cy="990000"/>
          </a:xfrm>
        </p:grpSpPr>
        <p:sp>
          <p:nvSpPr>
            <p:cNvPr id="326" name=""/>
            <p:cNvSpPr txBox="1"/>
            <p:nvPr/>
          </p:nvSpPr>
          <p:spPr>
            <a:xfrm>
              <a:off x="4048200" y="2819520"/>
              <a:ext cx="47149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a50021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Чисто внешние изменения</a:t>
              </a:r>
              <a:endParaRPr b="1" lang="en-US" sz="2400" spc="1" strike="noStrike">
                <a:ln w="2844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200400" y="3200040"/>
              <a:ext cx="762120" cy="60948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114800" y="3276720"/>
            <a:ext cx="4572000" cy="1657080"/>
            <a:chOff x="4114800" y="3276720"/>
            <a:chExt cx="4572000" cy="1657080"/>
          </a:xfrm>
        </p:grpSpPr>
        <p:sp>
          <p:nvSpPr>
            <p:cNvPr id="329" name=""/>
            <p:cNvSpPr txBox="1"/>
            <p:nvPr/>
          </p:nvSpPr>
          <p:spPr>
            <a:xfrm>
              <a:off x="4114800" y="3809880"/>
              <a:ext cx="4572000" cy="112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разрушение внешнего благочестия</a:t>
              </a:r>
              <a:endPara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cc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Московской Руси</a:t>
              </a:r>
              <a:endParaRPr b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00800" y="3276720"/>
              <a:ext cx="0" cy="60948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242720" y="4952880"/>
            <a:ext cx="7549200" cy="1527120"/>
            <a:chOff x="1242720" y="4952880"/>
            <a:chExt cx="7549200" cy="1527120"/>
          </a:xfrm>
        </p:grpSpPr>
        <p:sp>
          <p:nvSpPr>
            <p:cNvPr id="332" name=""/>
            <p:cNvSpPr/>
            <p:nvPr/>
          </p:nvSpPr>
          <p:spPr>
            <a:xfrm>
              <a:off x="1242720" y="5654520"/>
              <a:ext cx="7549200" cy="825480"/>
            </a:xfrm>
            <a:prstGeom prst="rect">
              <a:avLst/>
            </a:prstGeom>
            <a:gradFill rotWithShape="0">
              <a:gsLst>
                <a:gs pos="0">
                  <a:srgbClr val="8c3d91"/>
                </a:gs>
                <a:gs pos="5000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Реальный разрыв с прежней цивилизацией-убий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царевича Алексея-олицетворявшего старин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029200" y="4952880"/>
              <a:ext cx="13716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ближение с Западной Европо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895480" y="1143000"/>
            <a:ext cx="3737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Русская револю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к.17-н.18 вв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143000" y="2286000"/>
            <a:ext cx="7696080" cy="609480"/>
            <a:chOff x="1143000" y="2286000"/>
            <a:chExt cx="7696080" cy="609480"/>
          </a:xfrm>
        </p:grpSpPr>
        <p:sp>
          <p:nvSpPr>
            <p:cNvPr id="337" name=""/>
            <p:cNvSpPr txBox="1"/>
            <p:nvPr/>
          </p:nvSpPr>
          <p:spPr>
            <a:xfrm>
              <a:off x="1143000" y="2362320"/>
              <a:ext cx="2419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5000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уникальн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5257800" y="2286000"/>
              <a:ext cx="35812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ccecff"/>
                  </a:solidFill>
                  <a:latin typeface="Arial"/>
                </a:rPr>
                <a:t>схожа с Европой</a:t>
              </a:r>
              <a:endParaRPr b="0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ccec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39" name=""/>
          <p:cNvSpPr txBox="1"/>
          <p:nvPr/>
        </p:nvSpPr>
        <p:spPr>
          <a:xfrm>
            <a:off x="4419720" y="3200400"/>
            <a:ext cx="685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?</a:t>
            </a:r>
            <a:endParaRPr b="1" lang="en-US" sz="2400" spc="1" strike="noStrike">
              <a:ln w="381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753160" y="2895480"/>
            <a:ext cx="29336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6c75"/>
                    </a:gs>
                    <a:gs pos="50000">
                      <a:srgbClr val="ccecff"/>
                    </a:gs>
                    <a:gs pos="100000">
                      <a:srgbClr val="5e6c75"/>
                    </a:gs>
                  </a:gsLst>
                  <a:lin ang="5400000"/>
                </a:gradFill>
                <a:latin typeface="Arial"/>
              </a:rPr>
              <a:t>Ренессан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6c75"/>
                  </a:gs>
                  <a:gs pos="50000">
                    <a:srgbClr val="ccecff"/>
                  </a:gs>
                  <a:gs pos="100000">
                    <a:srgbClr val="5e6c75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6c75"/>
                    </a:gs>
                    <a:gs pos="50000">
                      <a:srgbClr val="ccecff"/>
                    </a:gs>
                    <a:gs pos="100000">
                      <a:srgbClr val="5e6c75"/>
                    </a:gs>
                  </a:gsLst>
                  <a:lin ang="5400000"/>
                </a:gradFill>
                <a:latin typeface="Arial"/>
              </a:rPr>
              <a:t>Реформ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6c75"/>
                  </a:gs>
                  <a:gs pos="50000">
                    <a:srgbClr val="ccecff"/>
                  </a:gs>
                  <a:gs pos="100000">
                    <a:srgbClr val="5e6c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791320" y="4267080"/>
            <a:ext cx="277956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"/>
              </a:rPr>
              <a:t>Рожд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"/>
              </a:rPr>
              <a:t>национальн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"/>
              </a:rPr>
              <a:t>государст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143000" y="4419720"/>
            <a:ext cx="308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5000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latin typeface="Arial"/>
              </a:rPr>
              <a:t>Много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50000">
                    <a:srgbClr val="825600"/>
                  </a:gs>
                  <a:gs pos="100000">
                    <a:srgbClr val="ffa800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5000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latin typeface="Arial"/>
              </a:rPr>
              <a:t>национальн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50000">
                    <a:srgbClr val="825600"/>
                  </a:gs>
                  <a:gs pos="100000">
                    <a:srgbClr val="ffa800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5000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latin typeface="Arial"/>
              </a:rPr>
              <a:t>импер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50000">
                    <a:srgbClr val="825600"/>
                  </a:gs>
                  <a:gs pos="100000">
                    <a:srgbClr val="ffa8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59080" y="2971800"/>
            <a:ext cx="227484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</a:rPr>
              <a:t>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</a:rPr>
              <a:t>отставани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</a:rPr>
              <a:t>на 2 ве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5867280"/>
            <a:ext cx="75992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Православие,Самодержавие,Народность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ближение с Западной Европо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219320" y="1143000"/>
            <a:ext cx="75992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Православие,Самодержавие,Народность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3560" y="2098800"/>
            <a:ext cx="8338680" cy="45972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одность-противоречит Православному Самодержав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9320" y="3166920"/>
            <a:ext cx="2724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скольн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4120" y="3200400"/>
            <a:ext cx="288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циалист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752480" y="2986200"/>
            <a:ext cx="6220080" cy="2271600"/>
            <a:chOff x="1752480" y="2986200"/>
            <a:chExt cx="6220080" cy="2271600"/>
          </a:xfrm>
        </p:grpSpPr>
        <p:sp>
          <p:nvSpPr>
            <p:cNvPr id="351" name=""/>
            <p:cNvSpPr txBox="1"/>
            <p:nvPr/>
          </p:nvSpPr>
          <p:spPr>
            <a:xfrm>
              <a:off x="1752480" y="4191120"/>
              <a:ext cx="62200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устойчивое равновесие,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Висение над пропастью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95680" y="2986200"/>
              <a:ext cx="486000" cy="976320"/>
            </a:xfrm>
            <a:prstGeom prst="down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019240" y="5257800"/>
            <a:ext cx="5753160" cy="1209600"/>
            <a:chOff x="2019240" y="5257800"/>
            <a:chExt cx="5753160" cy="1209600"/>
          </a:xfrm>
        </p:grpSpPr>
        <p:sp>
          <p:nvSpPr>
            <p:cNvPr id="354" name=""/>
            <p:cNvSpPr txBox="1"/>
            <p:nvPr/>
          </p:nvSpPr>
          <p:spPr>
            <a:xfrm>
              <a:off x="2019240" y="5943600"/>
              <a:ext cx="57531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Россия-узел противоречий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72000" y="5257800"/>
              <a:ext cx="304920" cy="762120"/>
            </a:xfrm>
            <a:prstGeom prst="downArrow">
              <a:avLst>
                <a:gd name="adj1" fmla="val 50000"/>
                <a:gd name="adj2" fmla="val 62485"/>
              </a:avLst>
            </a:prstGeom>
            <a:gradFill rotWithShape="0">
              <a:gsLst>
                <a:gs pos="0">
                  <a:srgbClr val="ff8200"/>
                </a:gs>
                <a:gs pos="5000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сто России в системе цивилизаци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05320" y="2286000"/>
            <a:ext cx="23335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DSMotterHo"/>
              </a:rPr>
              <a:t>РОСС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0000"/>
                  </a:gs>
                </a:gsLst>
                <a:lin ang="5400000"/>
              </a:gradFill>
              <a:latin typeface="DSMotterHo"/>
              <a:ea typeface="DSMotterHo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943600" y="2590560"/>
            <a:ext cx="2819520" cy="3122640"/>
            <a:chOff x="5943600" y="2590560"/>
            <a:chExt cx="2819520" cy="3122640"/>
          </a:xfrm>
        </p:grpSpPr>
        <p:grpSp>
          <p:nvGrpSpPr>
            <p:cNvPr id="119" name=""/>
            <p:cNvGrpSpPr/>
            <p:nvPr/>
          </p:nvGrpSpPr>
          <p:grpSpPr>
            <a:xfrm>
              <a:off x="5943600" y="2590560"/>
              <a:ext cx="2819520" cy="1447920"/>
              <a:chOff x="5943600" y="2590560"/>
              <a:chExt cx="2819520" cy="1447920"/>
            </a:xfrm>
          </p:grpSpPr>
          <p:sp>
            <p:nvSpPr>
              <p:cNvPr id="120" name=""/>
              <p:cNvSpPr txBox="1"/>
              <p:nvPr/>
            </p:nvSpPr>
            <p:spPr>
              <a:xfrm>
                <a:off x="6248520" y="3409920"/>
                <a:ext cx="2514600" cy="628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28440">
                      <a:solidFill>
                        <a:srgbClr val="006600"/>
                      </a:solidFill>
                      <a:miter/>
                    </a:ln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  <a:latin typeface="Courier New"/>
                  </a:rPr>
                  <a:t>Восток</a:t>
                </a:r>
                <a:endParaRPr b="1" lang="en-US" sz="2400" spc="1" strike="noStrike">
                  <a:ln w="28440">
                    <a:solidFill>
                      <a:srgbClr val="006600"/>
                    </a:solidFill>
                    <a:miter/>
                  </a:ln>
                  <a:gradFill rotWithShape="0">
                    <a:gsLst>
                      <a:gs pos="0">
                        <a:srgbClr val="ffcc00"/>
                      </a:gs>
                      <a:gs pos="100000">
                        <a:srgbClr val="006600"/>
                      </a:gs>
                    </a:gsLst>
                    <a:lin ang="5400000"/>
                  </a:gradFill>
                  <a:latin typeface="Courier New"/>
                  <a:ea typeface="Courier Ne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943600" y="2590200"/>
                <a:ext cx="852480" cy="733320"/>
              </a:xfrm>
              <a:custGeom>
                <a:avLst/>
                <a:gdLst>
                  <a:gd name="textAreaLeft" fmla="*/ 284040 w 852480"/>
                  <a:gd name="textAreaRight" fmla="*/ 730440 w 852480"/>
                  <a:gd name="textAreaTop" fmla="*/ 421920 h 733320"/>
                  <a:gd name="textAreaBottom" fmla="*/ 627840 h 73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6345000" y="4156200"/>
              <a:ext cx="2261160" cy="155700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Традицио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цивилиз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хранени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радиц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75840" y="2590560"/>
            <a:ext cx="2091240" cy="3173040"/>
            <a:chOff x="1275840" y="2590560"/>
            <a:chExt cx="2091240" cy="3173040"/>
          </a:xfrm>
        </p:grpSpPr>
        <p:grpSp>
          <p:nvGrpSpPr>
            <p:cNvPr id="124" name=""/>
            <p:cNvGrpSpPr/>
            <p:nvPr/>
          </p:nvGrpSpPr>
          <p:grpSpPr>
            <a:xfrm>
              <a:off x="1295280" y="2590560"/>
              <a:ext cx="2071800" cy="1447560"/>
              <a:chOff x="1295280" y="2590560"/>
              <a:chExt cx="2071800" cy="1447560"/>
            </a:xfrm>
          </p:grpSpPr>
          <p:sp>
            <p:nvSpPr>
              <p:cNvPr id="125" name=""/>
              <p:cNvSpPr txBox="1"/>
              <p:nvPr/>
            </p:nvSpPr>
            <p:spPr>
              <a:xfrm>
                <a:off x="1295280" y="3276360"/>
                <a:ext cx="1905120" cy="761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38160">
                      <a:solidFill>
                        <a:srgbClr val="000099"/>
                      </a:solidFill>
                      <a:miter/>
                    </a:ln>
                    <a:gradFill rotWithShape="0">
                      <a:gsLst>
                        <a:gs pos="0">
                          <a:srgbClr val="000099"/>
                        </a:gs>
                        <a:gs pos="50000">
                          <a:srgbClr val="ffffff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  <a:latin typeface="Bookman Old Style"/>
                  </a:rPr>
                  <a:t>Запад</a:t>
                </a:r>
                <a:endParaRPr b="1" lang="en-US" sz="2400" spc="1" strike="noStrike">
                  <a:ln w="3816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000099"/>
                      </a:gs>
                      <a:gs pos="50000">
                        <a:srgbClr val="ffffff"/>
                      </a:gs>
                      <a:gs pos="100000">
                        <a:srgbClr val="000099"/>
                      </a:gs>
                    </a:gsLst>
                    <a:lin ang="5400000"/>
                  </a:gradFill>
                  <a:latin typeface="Bookman Old Style"/>
                  <a:ea typeface="Bookman Old Style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2514600" y="2590200"/>
                <a:ext cx="852480" cy="733320"/>
              </a:xfrm>
              <a:custGeom>
                <a:avLst/>
                <a:gdLst>
                  <a:gd name="textAreaLeft" fmla="*/ 284040 w 852480"/>
                  <a:gd name="textAreaRight" fmla="*/ 730440 w 852480"/>
                  <a:gd name="textAreaTop" fmla="*/ 421920 h 733320"/>
                  <a:gd name="textAreaBottom" fmla="*/ 627840 h 73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275840" y="4206600"/>
              <a:ext cx="2021760" cy="15570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Европейск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циви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тремление 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гресс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9880" y="2895480"/>
            <a:ext cx="1903680" cy="2895480"/>
            <a:chOff x="3809880" y="2895480"/>
            <a:chExt cx="1903680" cy="2895480"/>
          </a:xfrm>
        </p:grpSpPr>
        <p:sp>
          <p:nvSpPr>
            <p:cNvPr id="129" name=""/>
            <p:cNvSpPr txBox="1"/>
            <p:nvPr/>
          </p:nvSpPr>
          <p:spPr>
            <a:xfrm>
              <a:off x="4462560" y="2895480"/>
              <a:ext cx="598320" cy="80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?</a:t>
              </a:r>
              <a:endParaRPr b="1" lang="en-US" sz="24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19800" y="380988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99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809880" y="4800600"/>
              <a:ext cx="190368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99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Arial"/>
                </a:rPr>
                <a:t>Особый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99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Arial"/>
                </a:rPr>
                <a:t>тип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132" name=""/>
          <p:cNvSpPr txBox="1"/>
          <p:nvPr/>
        </p:nvSpPr>
        <p:spPr>
          <a:xfrm>
            <a:off x="3105000" y="1066680"/>
            <a:ext cx="3219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П.Я.ЧААДАЕВ</a:t>
            </a:r>
            <a:endParaRPr b="1" lang="en-US" sz="2400" spc="1" strike="noStrike">
              <a:ln w="2844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(30-е г. 19 в.)</a:t>
            </a:r>
            <a:endParaRPr b="1" lang="en-US" sz="2400" spc="1" strike="noStrike">
              <a:ln w="2844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680" y="5883120"/>
            <a:ext cx="7733520" cy="82548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«надо еще доказать,что человечество помимо... Зап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 Востока обладает еще третьей стороно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сто России в системе цивилизаци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05320" y="1219320"/>
            <a:ext cx="23335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DSMotterHo"/>
              </a:rPr>
              <a:t>РОСС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0000"/>
                  </a:gs>
                </a:gsLst>
                <a:lin ang="5400000"/>
              </a:gradFill>
              <a:latin typeface="DSMotterHo"/>
              <a:ea typeface="DSMotterHo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32600" y="2057400"/>
            <a:ext cx="3644640" cy="1587600"/>
            <a:chOff x="732600" y="2057400"/>
            <a:chExt cx="3644640" cy="1587600"/>
          </a:xfrm>
        </p:grpSpPr>
        <p:sp>
          <p:nvSpPr>
            <p:cNvPr id="137" name=""/>
            <p:cNvSpPr txBox="1"/>
            <p:nvPr/>
          </p:nvSpPr>
          <p:spPr>
            <a:xfrm>
              <a:off x="1338120" y="2057400"/>
              <a:ext cx="2428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28440">
                    <a:solidFill>
                      <a:srgbClr val="ffcc00"/>
                    </a:solidFill>
                    <a:miter/>
                  </a:ln>
                  <a:solidFill>
                    <a:srgbClr val="000099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Западники</a:t>
              </a:r>
              <a:endParaRPr b="1" i="1" lang="en-US" sz="2400" spc="1" strike="noStrike">
                <a:ln w="28440">
                  <a:solidFill>
                    <a:srgbClr val="ffcc00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2600" y="2819520"/>
              <a:ext cx="364464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рановский, Кавели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ичерин,Чернышевск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257800" y="2133720"/>
            <a:ext cx="3352680" cy="1511280"/>
            <a:chOff x="5257800" y="2133720"/>
            <a:chExt cx="3352680" cy="1511280"/>
          </a:xfrm>
        </p:grpSpPr>
        <p:sp>
          <p:nvSpPr>
            <p:cNvPr id="140" name=""/>
            <p:cNvSpPr txBox="1"/>
            <p:nvPr/>
          </p:nvSpPr>
          <p:spPr>
            <a:xfrm>
              <a:off x="5257800" y="2133720"/>
              <a:ext cx="33526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38160">
                    <a:solidFill>
                      <a:srgbClr val="9933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Славянофилы</a:t>
              </a:r>
              <a:endParaRPr b="1" lang="en-US" sz="2400" spc="1" strike="noStrike">
                <a:ln w="38160">
                  <a:solidFill>
                    <a:srgbClr val="9933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0360" y="2819520"/>
              <a:ext cx="3155400" cy="82548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иреевский,Хомяк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ксак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 txBox="1"/>
          <p:nvPr/>
        </p:nvSpPr>
        <p:spPr>
          <a:xfrm>
            <a:off x="609480" y="4038480"/>
            <a:ext cx="3915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зиатская страна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лжна пойти п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ропейскому пут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105520" y="4049640"/>
            <a:ext cx="3657600" cy="17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ой, отличный от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вропейского и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зиатского путь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626040" y="5832360"/>
            <a:ext cx="8245800" cy="82548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 Западе Россия рассматривается как один из вариа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сточного пути развития общ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сто России в системе цивилизаци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05320" y="1219320"/>
            <a:ext cx="23335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DSMotterHo"/>
              </a:rPr>
              <a:t>РОСС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0000"/>
                  </a:gs>
                </a:gsLst>
                <a:lin ang="5400000"/>
              </a:gradFill>
              <a:latin typeface="DSMotterHo"/>
              <a:ea typeface="DSMotterHo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33640" y="1752480"/>
            <a:ext cx="2295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.Тредголд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648720" y="2438280"/>
            <a:ext cx="3437640" cy="41173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осредоточение в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дном центр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рава и 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еделяются цент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льной власть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лабо выражен прин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п собств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властвует человек,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зак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личность не явл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бсолютной ц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290480" y="1828800"/>
            <a:ext cx="3939120" cy="1019520"/>
            <a:chOff x="4290480" y="1828800"/>
            <a:chExt cx="3939120" cy="1019520"/>
          </a:xfrm>
        </p:grpSpPr>
        <p:sp>
          <p:nvSpPr>
            <p:cNvPr id="150" name=""/>
            <p:cNvSpPr/>
            <p:nvPr/>
          </p:nvSpPr>
          <p:spPr>
            <a:xfrm rot="19593600">
              <a:off x="4343400" y="2133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cc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410080" y="1828800"/>
              <a:ext cx="2819520" cy="993240"/>
              <a:chOff x="5410080" y="1828800"/>
              <a:chExt cx="2819520" cy="993240"/>
            </a:xfrm>
          </p:grpSpPr>
          <p:sp>
            <p:nvSpPr>
              <p:cNvPr id="152" name=""/>
              <p:cNvSpPr txBox="1"/>
              <p:nvPr/>
            </p:nvSpPr>
            <p:spPr>
              <a:xfrm>
                <a:off x="5410080" y="1828800"/>
                <a:ext cx="281952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Московское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государство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16400" y="2362320"/>
                <a:ext cx="150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450-17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4419720" y="5562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cc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34120" y="2743200"/>
            <a:ext cx="3124080" cy="1905120"/>
            <a:chOff x="5334120" y="2743200"/>
            <a:chExt cx="3124080" cy="1905120"/>
          </a:xfrm>
        </p:grpSpPr>
        <p:grpSp>
          <p:nvGrpSpPr>
            <p:cNvPr id="156" name=""/>
            <p:cNvGrpSpPr/>
            <p:nvPr/>
          </p:nvGrpSpPr>
          <p:grpSpPr>
            <a:xfrm>
              <a:off x="5334120" y="3591000"/>
              <a:ext cx="3124080" cy="1057320"/>
              <a:chOff x="5334120" y="3591000"/>
              <a:chExt cx="3124080" cy="1057320"/>
            </a:xfrm>
          </p:grpSpPr>
          <p:sp>
            <p:nvSpPr>
              <p:cNvPr id="157" name=""/>
              <p:cNvSpPr txBox="1"/>
              <p:nvPr/>
            </p:nvSpPr>
            <p:spPr>
              <a:xfrm>
                <a:off x="5334120" y="3591000"/>
                <a:ext cx="3124080" cy="53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Реформы Петр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5907240" y="4124520"/>
                <a:ext cx="194148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cc33"/>
                    </a:solidFill>
                    <a:latin typeface="Arial"/>
                  </a:rPr>
                  <a:t>поворот 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33cc33"/>
                    </a:solidFill>
                    <a:latin typeface="Arial"/>
                  </a:rPr>
                  <a:t>к Европе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858000" y="2743200"/>
              <a:ext cx="0" cy="8380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21400" y="4724280"/>
            <a:ext cx="2760480" cy="1371600"/>
            <a:chOff x="5621400" y="4724280"/>
            <a:chExt cx="2760480" cy="1371600"/>
          </a:xfrm>
        </p:grpSpPr>
        <p:sp>
          <p:nvSpPr>
            <p:cNvPr id="161" name=""/>
            <p:cNvSpPr txBox="1"/>
            <p:nvPr/>
          </p:nvSpPr>
          <p:spPr>
            <a:xfrm>
              <a:off x="5621400" y="5410080"/>
              <a:ext cx="27604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Революци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1917 г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0" y="4724280"/>
              <a:ext cx="0" cy="76212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сто России в системе цивилизаци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81280" y="2666880"/>
            <a:ext cx="23338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DSMotterHo"/>
              </a:rPr>
              <a:t>РОСС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0000"/>
                  </a:gs>
                </a:gsLst>
                <a:lin ang="5400000"/>
              </a:gradFill>
              <a:latin typeface="DSMotterHo"/>
              <a:ea typeface="DSMotterHo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1371600"/>
            <a:ext cx="202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1 эшелон</a:t>
            </a:r>
            <a:endParaRPr b="0" lang="en-US" sz="2400" spc="1" strike="noStrike">
              <a:ln w="28440">
                <a:solidFill>
                  <a:srgbClr val="993300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86040" y="1914480"/>
            <a:ext cx="202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2 эшелон</a:t>
            </a:r>
            <a:endParaRPr b="0" lang="en-US" sz="2400" spc="1" strike="noStrike">
              <a:ln w="28440">
                <a:solidFill>
                  <a:srgbClr val="993300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00800" y="2523960"/>
            <a:ext cx="202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3300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3 эшелон</a:t>
            </a:r>
            <a:endParaRPr b="0" lang="en-US" sz="2400" spc="1" strike="noStrike">
              <a:ln w="28440">
                <a:solidFill>
                  <a:srgbClr val="993300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16600" y="2327400"/>
            <a:ext cx="1531080" cy="155700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ранц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7-18 в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67840" y="3324240"/>
            <a:ext cx="1809720" cy="155700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ма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по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2 пол.19 в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75600" y="3705120"/>
            <a:ext cx="2096280" cy="155700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.Амери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20 ве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30440" y="5043600"/>
            <a:ext cx="8038440" cy="1538280"/>
            <a:chOff x="730440" y="5043600"/>
            <a:chExt cx="8038440" cy="1538280"/>
          </a:xfrm>
        </p:grpSpPr>
        <p:sp>
          <p:nvSpPr>
            <p:cNvPr id="172" name=""/>
            <p:cNvSpPr/>
            <p:nvPr/>
          </p:nvSpPr>
          <p:spPr>
            <a:xfrm>
              <a:off x="730440" y="5756400"/>
              <a:ext cx="803844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Революции «Сверху», необходимость догонять развит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страны, проводя модернизацию в сжатые срок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48320" y="5043600"/>
              <a:ext cx="304560" cy="595080"/>
            </a:xfrm>
            <a:prstGeom prst="downArrow">
              <a:avLst>
                <a:gd name="adj1" fmla="val 50000"/>
                <a:gd name="adj2" fmla="val 48848"/>
              </a:avLst>
            </a:prstGeom>
            <a:solidFill>
              <a:srgbClr val="ffffcc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сто России в системе цивилизаци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95280" y="1219320"/>
            <a:ext cx="73915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Истоки российской самобытности 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истории создания русского государств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247760" y="2286000"/>
            <a:ext cx="23335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DSMotterHo"/>
              </a:rPr>
              <a:t>РОСС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0000"/>
                  </a:gs>
                </a:gsLst>
                <a:lin ang="5400000"/>
              </a:gradFill>
              <a:latin typeface="DSMotterHo"/>
              <a:ea typeface="DSMotterHo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5000" y="228600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вроп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3048120"/>
            <a:ext cx="3809880" cy="358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аличие феодальной лестниц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община,объединявшая самостоятельных собс-твенников земл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вертикальное наслед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ие(к сыну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3048120"/>
            <a:ext cx="3810240" cy="3581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ет многочисленных ра-бов,-нет иерархически организованного клас-са феодал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основа жизни общества-община,общинная соб ственность на земл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горизонтальное насле-дование(к брат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сто России в системе цивилизаци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95280" y="1219320"/>
            <a:ext cx="73915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Истоки российской самобытности 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истории создания русского государств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429000" y="2286000"/>
            <a:ext cx="23335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DSMotterHo"/>
              </a:rPr>
              <a:t>РОСС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0000"/>
                  </a:gs>
                </a:gsLst>
                <a:lin ang="5400000"/>
              </a:gradFill>
              <a:latin typeface="DSMotterHo"/>
              <a:ea typeface="DSMotterHo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3048120"/>
            <a:ext cx="2860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Горизонтальн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принцип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95280" y="4191120"/>
            <a:ext cx="287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еремещение</a:t>
            </a:r>
            <a:endParaRPr b="0" lang="en-US" sz="2400" spc="1" strike="noStrike">
              <a:ln w="2844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ласти</a:t>
            </a:r>
            <a:endParaRPr b="0" lang="en-US" sz="2400" spc="1" strike="noStrike">
              <a:ln w="2844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5000" y="3048120"/>
            <a:ext cx="255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Набег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кочевник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486400" y="4191120"/>
            <a:ext cx="2971800" cy="11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ремещение</a:t>
            </a:r>
            <a:endParaRPr b="1" lang="en-US" sz="2400" spc="1" strike="noStrike">
              <a:ln w="284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селения</a:t>
            </a:r>
            <a:endParaRPr b="1" lang="en-US" sz="2400" spc="1" strike="noStrike">
              <a:ln w="284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7" name=""/>
          <p:cNvSpPr/>
          <p:nvPr/>
        </p:nvSpPr>
        <p:spPr>
          <a:xfrm>
            <a:off x="924480" y="5645160"/>
            <a:ext cx="7758000" cy="82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оссийская цивилизация отличалась подвижность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тробежностью.Её развитие шло вширь, а не вглуб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усь христианска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8000" y="5645160"/>
            <a:ext cx="83433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 Руси церковь выступала на как самостоятельная пол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тическая сила, а как сила примиряющая князей и смягч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ющая междоусобиц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057400" y="1228680"/>
            <a:ext cx="22366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Владимир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988 г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815000" y="1143000"/>
            <a:ext cx="2805120" cy="1103400"/>
            <a:chOff x="4815000" y="1143000"/>
            <a:chExt cx="2805120" cy="110340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6594480" y="1143000"/>
              <a:ext cx="10256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815000" y="164772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295280" y="2362320"/>
            <a:ext cx="5105160" cy="1143000"/>
            <a:chOff x="1295280" y="2362320"/>
            <a:chExt cx="5105160" cy="1143000"/>
          </a:xfrm>
        </p:grpSpPr>
        <p:sp>
          <p:nvSpPr>
            <p:cNvPr id="195" name=""/>
            <p:cNvSpPr txBox="1"/>
            <p:nvPr/>
          </p:nvSpPr>
          <p:spPr>
            <a:xfrm>
              <a:off x="1295280" y="2971800"/>
              <a:ext cx="2514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Язычество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590560" y="2362320"/>
              <a:ext cx="380988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114800" y="3048120"/>
            <a:ext cx="4267080" cy="533160"/>
            <a:chOff x="4114800" y="3048120"/>
            <a:chExt cx="4267080" cy="533160"/>
          </a:xfrm>
        </p:grpSpPr>
        <p:sp>
          <p:nvSpPr>
            <p:cNvPr id="198" name=""/>
            <p:cNvSpPr txBox="1"/>
            <p:nvPr/>
          </p:nvSpPr>
          <p:spPr>
            <a:xfrm>
              <a:off x="5181480" y="3048120"/>
              <a:ext cx="3200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Христиан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14800" y="30481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 txBox="1"/>
          <p:nvPr/>
        </p:nvSpPr>
        <p:spPr>
          <a:xfrm>
            <a:off x="3819600" y="3990960"/>
            <a:ext cx="45622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Объединение Древней Руси,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как христианского мир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165400" y="3581280"/>
            <a:ext cx="3015720" cy="1981440"/>
            <a:chOff x="2165400" y="3581280"/>
            <a:chExt cx="3015720" cy="1981440"/>
          </a:xfrm>
        </p:grpSpPr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2165400" y="3886200"/>
              <a:ext cx="1263600" cy="1676520"/>
            </a:xfrm>
            <a:prstGeom prst="rect">
              <a:avLst/>
            </a:prstGeom>
            <a:ln w="76320">
              <a:solidFill>
                <a:srgbClr val="800000"/>
              </a:solidFill>
              <a:miter/>
            </a:ln>
          </p:spPr>
        </p:pic>
        <p:sp>
          <p:nvSpPr>
            <p:cNvPr id="203" name=""/>
            <p:cNvSpPr/>
            <p:nvPr/>
          </p:nvSpPr>
          <p:spPr>
            <a:xfrm flipH="1">
              <a:off x="3580920" y="3581280"/>
              <a:ext cx="160020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усь христианска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29280" y="1066680"/>
            <a:ext cx="1257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5755680" y="2057400"/>
            <a:ext cx="2245680" cy="1557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рков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Византий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нониче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24640" y="124704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1920 h 733320"/>
              <a:gd name="textAreaBottom" fmla="*/ 6278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183320" y="1247400"/>
            <a:ext cx="2936160" cy="2720160"/>
            <a:chOff x="1183320" y="1247400"/>
            <a:chExt cx="2936160" cy="2720160"/>
          </a:xfrm>
        </p:grpSpPr>
        <p:sp>
          <p:nvSpPr>
            <p:cNvPr id="209" name=""/>
            <p:cNvSpPr/>
            <p:nvPr/>
          </p:nvSpPr>
          <p:spPr>
            <a:xfrm flipH="1">
              <a:off x="1183320" y="2044800"/>
              <a:ext cx="2936160" cy="192276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Древняя Рус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Система денежн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штрафов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разрешение спор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«полем»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262320" y="1247040"/>
              <a:ext cx="852480" cy="73332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1920 h 733320"/>
                <a:gd name="textAreaBottom" fmla="*/ 62784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143000" y="4267080"/>
            <a:ext cx="7620120" cy="533520"/>
          </a:xfrm>
          <a:prstGeom prst="downArrowCallout">
            <a:avLst>
              <a:gd name="adj1" fmla="val 48143"/>
              <a:gd name="adj2" fmla="val 62751"/>
              <a:gd name="adj3" fmla="val 37759"/>
              <a:gd name="adj4" fmla="val 40477"/>
            </a:avLst>
          </a:prstGeom>
          <a:solidFill>
            <a:srgbClr val="ffcc00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26720" y="5045040"/>
            <a:ext cx="60649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ь древнерусской цивилиза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юридического закона - мораль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Чернов Алексей</cp:lastModifiedBy>
  <dcterms:modified xsi:type="dcterms:W3CDTF">2002-04-18T12:32:52Z</dcterms:modified>
  <cp:revision>79</cp:revision>
  <dc:subject/>
  <dc:title>ОСОБЕННОСТИ ДРЕВНИХ ЦИВИЛИЗАЦИЙ.</dc:title>
</cp:coreProperties>
</file>