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19.png" ContentType="image/png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23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4.wmf" ContentType="image/x-wmf"/>
  <Override PartName="/ppt/media/image16.png" ContentType="image/png"/>
  <Override PartName="/ppt/media/image17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031-C271-4250-8E06-62A2B429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AA3-3C81-4FD7-ADBE-47162F83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315-4805-4529-BB7C-DEBC44A3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6DB-F5CE-437C-91F7-9A62997E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DCDD-B9A6-4B19-8E4F-981B6ED2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14A-DDEB-4C9C-A7F1-D31F8C5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2897-7C23-4B25-8880-D07C1B9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70EA-75EF-4992-8AA2-2CB63EE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69D-6225-4A06-8AD4-4270F37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06D1-617B-4479-B021-EA7756F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4DF-2FCB-4C31-9762-2EFD3C96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CCC-1D4C-405F-B4FF-A51F613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FE1-9504-4803-B3B6-6F2F390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EB91-1FEC-4298-8796-1308531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42B-BD5B-4F6F-8DB9-9C04A3EC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BA08-E7C2-44B1-BFF4-F93FB10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0759-A5C1-41D6-8DA9-AA69EBBF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A7A-11C8-4A1E-91CE-376D2F3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180-17BC-4080-8958-9376BB64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C8A-87C8-489E-9F52-5E5AC94B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186-F3F9-48BF-BBDE-F4A795A5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86A-54E7-45EE-82BA-BADFBC8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C98-F196-453C-84BD-DBDB4DD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6F7-8FE8-4DF3-BC4D-228B371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7E4-4D29-4887-98C7-209A03783F4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782-1034-4877-BB47-BC0A5A8E50D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ПЕРЕХОД  К ИНДУСТРИАЛЬНОЙ ЦИВИЛ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парламентаризм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43000" y="2428920"/>
            <a:ext cx="191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ff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Bookman Old Style"/>
              </a:rPr>
              <a:t>Англ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ffff"/>
                  </a:gs>
                  <a:gs pos="100000">
                    <a:srgbClr val="a50021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ff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Bookman Old Style"/>
              </a:rPr>
              <a:t>XIII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ffff"/>
                  </a:gs>
                  <a:gs pos="100000">
                    <a:srgbClr val="a50021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467320" y="1295280"/>
            <a:ext cx="2685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ховенств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638680" y="3124080"/>
            <a:ext cx="20941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ыцари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орожан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8120" y="981000"/>
            <a:ext cx="1788120" cy="1981080"/>
            <a:chOff x="3048120" y="981000"/>
            <a:chExt cx="1788120" cy="1981080"/>
          </a:xfrm>
        </p:grpSpPr>
        <p:grpSp>
          <p:nvGrpSpPr>
            <p:cNvPr id="308" name=""/>
            <p:cNvGrpSpPr/>
            <p:nvPr/>
          </p:nvGrpSpPr>
          <p:grpSpPr>
            <a:xfrm>
              <a:off x="3619440" y="981000"/>
              <a:ext cx="1216800" cy="1892160"/>
              <a:chOff x="3619440" y="981000"/>
              <a:chExt cx="1216800" cy="18921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19440" y="981000"/>
                <a:ext cx="1197000" cy="119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3636000" y="2047680"/>
                <a:ext cx="1200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алат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Лордо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V="1">
              <a:off x="3048120" y="2276280"/>
              <a:ext cx="609480" cy="6858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048120" y="2886120"/>
            <a:ext cx="1778040" cy="2241720"/>
            <a:chOff x="3048120" y="2886120"/>
            <a:chExt cx="1778040" cy="2241720"/>
          </a:xfrm>
        </p:grpSpPr>
        <p:grpSp>
          <p:nvGrpSpPr>
            <p:cNvPr id="313" name=""/>
            <p:cNvGrpSpPr/>
            <p:nvPr/>
          </p:nvGrpSpPr>
          <p:grpSpPr>
            <a:xfrm>
              <a:off x="3630600" y="2886120"/>
              <a:ext cx="1195560" cy="2241720"/>
              <a:chOff x="3630600" y="2886120"/>
              <a:chExt cx="1195560" cy="224172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7280" y="2886120"/>
                <a:ext cx="790200" cy="15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3630600" y="4302360"/>
                <a:ext cx="1195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алат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щ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048120" y="2962440"/>
              <a:ext cx="533160" cy="6094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1143000" y="5495760"/>
            <a:ext cx="232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арламент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05320" y="5038560"/>
            <a:ext cx="3429000" cy="685800"/>
            <a:chOff x="3505320" y="5038560"/>
            <a:chExt cx="3429000" cy="685800"/>
          </a:xfrm>
        </p:grpSpPr>
        <p:sp>
          <p:nvSpPr>
            <p:cNvPr id="319" name=""/>
            <p:cNvSpPr txBox="1"/>
            <p:nvPr/>
          </p:nvSpPr>
          <p:spPr>
            <a:xfrm>
              <a:off x="3886200" y="5038560"/>
              <a:ext cx="3048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99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Законодательная</a:t>
              </a:r>
              <a:endParaRPr b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99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инициатива(13 в.)</a:t>
              </a:r>
              <a:endParaRPr b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505320" y="53434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505320" y="5648400"/>
            <a:ext cx="3733560" cy="600120"/>
            <a:chOff x="3505320" y="5648400"/>
            <a:chExt cx="3733560" cy="600120"/>
          </a:xfrm>
        </p:grpSpPr>
        <p:sp>
          <p:nvSpPr>
            <p:cNvPr id="322" name=""/>
            <p:cNvSpPr txBox="1"/>
            <p:nvPr/>
          </p:nvSpPr>
          <p:spPr>
            <a:xfrm>
              <a:off x="3782880" y="5648400"/>
              <a:ext cx="3456000" cy="60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99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"Билль о правах"(1689 г.)</a:t>
              </a:r>
              <a:endParaRPr b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99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конституционная монархия</a:t>
              </a:r>
              <a:endParaRPr b="1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05320" y="5791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05320" y="5943600"/>
            <a:ext cx="3733560" cy="719280"/>
            <a:chOff x="3505320" y="5943600"/>
            <a:chExt cx="3733560" cy="719280"/>
          </a:xfrm>
        </p:grpSpPr>
        <p:sp>
          <p:nvSpPr>
            <p:cNvPr id="325" name=""/>
            <p:cNvSpPr txBox="1"/>
            <p:nvPr/>
          </p:nvSpPr>
          <p:spPr>
            <a:xfrm>
              <a:off x="3809880" y="6324480"/>
              <a:ext cx="3429000" cy="33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Двухпартийная система(19 в.)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05320" y="5943600"/>
              <a:ext cx="3045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тверждение нового общест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47920" y="1628640"/>
            <a:ext cx="6914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18 век-"век безумный и мудрый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06640" y="2610000"/>
            <a:ext cx="270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Великие революции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США и Франция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89920" y="3600360"/>
            <a:ext cx="2172600" cy="2081160"/>
            <a:chOff x="889920" y="3600360"/>
            <a:chExt cx="2172600" cy="2081160"/>
          </a:xfrm>
        </p:grpSpPr>
        <p:sp>
          <p:nvSpPr>
            <p:cNvPr id="331" name=""/>
            <p:cNvSpPr/>
            <p:nvPr/>
          </p:nvSpPr>
          <p:spPr>
            <a:xfrm>
              <a:off x="889920" y="4124520"/>
              <a:ext cx="2172600" cy="15570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вобо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-ва из-п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л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-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2480" y="3600360"/>
              <a:ext cx="228600" cy="457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52960" y="3600360"/>
            <a:ext cx="1746000" cy="2081160"/>
            <a:chOff x="3252960" y="3600360"/>
            <a:chExt cx="1746000" cy="2081160"/>
          </a:xfrm>
        </p:grpSpPr>
        <p:sp>
          <p:nvSpPr>
            <p:cNvPr id="334" name=""/>
            <p:cNvSpPr/>
            <p:nvPr/>
          </p:nvSpPr>
          <p:spPr>
            <a:xfrm>
              <a:off x="3252960" y="4124520"/>
              <a:ext cx="1746000" cy="15570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-ва на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сны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еств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3600360"/>
              <a:ext cx="304560" cy="4572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 txBox="1"/>
          <p:nvPr/>
        </p:nvSpPr>
        <p:spPr>
          <a:xfrm>
            <a:off x="5486400" y="2610000"/>
            <a:ext cx="3344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300"/>
                    </a:gs>
                    <a:gs pos="50000">
                      <a:srgbClr val="006600"/>
                    </a:gs>
                    <a:gs pos="100000">
                      <a:srgbClr val="004300"/>
                    </a:gs>
                  </a:gsLst>
                  <a:lin ang="5400000"/>
                </a:gradFill>
                <a:latin typeface="Arial"/>
              </a:rPr>
              <a:t>Изменен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300"/>
                  </a:gs>
                  <a:gs pos="50000">
                    <a:srgbClr val="006600"/>
                  </a:gs>
                  <a:gs pos="100000">
                    <a:srgbClr val="004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300"/>
                    </a:gs>
                    <a:gs pos="50000">
                      <a:srgbClr val="006600"/>
                    </a:gs>
                    <a:gs pos="100000">
                      <a:srgbClr val="004300"/>
                    </a:gs>
                  </a:gsLst>
                  <a:lin ang="5400000"/>
                </a:gradFill>
                <a:latin typeface="Arial"/>
              </a:rPr>
              <a:t>взаимодейств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300"/>
                  </a:gs>
                  <a:gs pos="50000">
                    <a:srgbClr val="006600"/>
                  </a:gs>
                  <a:gs pos="100000">
                    <a:srgbClr val="004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300"/>
                    </a:gs>
                    <a:gs pos="50000">
                      <a:srgbClr val="006600"/>
                    </a:gs>
                    <a:gs pos="100000">
                      <a:srgbClr val="004300"/>
                    </a:gs>
                  </a:gsLst>
                  <a:lin ang="5400000"/>
                </a:gradFill>
                <a:latin typeface="Arial"/>
              </a:rPr>
              <a:t>человека и приро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300"/>
                  </a:gs>
                  <a:gs pos="50000">
                    <a:srgbClr val="006600"/>
                  </a:gs>
                  <a:gs pos="100000">
                    <a:srgbClr val="004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98840" y="3676680"/>
            <a:ext cx="3669120" cy="1985760"/>
            <a:chOff x="5298840" y="3676680"/>
            <a:chExt cx="3669120" cy="1985760"/>
          </a:xfrm>
        </p:grpSpPr>
        <p:sp>
          <p:nvSpPr>
            <p:cNvPr id="338" name=""/>
            <p:cNvSpPr/>
            <p:nvPr/>
          </p:nvSpPr>
          <p:spPr>
            <a:xfrm>
              <a:off x="5298840" y="4105440"/>
              <a:ext cx="3669120" cy="155700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расширение хозяйствен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сферы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рост числа городски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ителей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62920" y="3676680"/>
              <a:ext cx="0" cy="30492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тверждение нового общест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47920" y="1066680"/>
            <a:ext cx="6914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18 век-"век безумный и мудрый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5480" y="2743200"/>
            <a:ext cx="1965240" cy="2319120"/>
            <a:chOff x="105480" y="2743200"/>
            <a:chExt cx="1965240" cy="2319120"/>
          </a:xfrm>
        </p:grpSpPr>
        <p:sp>
          <p:nvSpPr>
            <p:cNvPr id="343" name=""/>
            <p:cNvSpPr/>
            <p:nvPr/>
          </p:nvSpPr>
          <p:spPr>
            <a:xfrm>
              <a:off x="105480" y="3505320"/>
              <a:ext cx="1965240" cy="15570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чужде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ка о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зульта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ру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087200" y="2743200"/>
              <a:ext cx="207720" cy="7621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186000" y="2743200"/>
            <a:ext cx="1889280" cy="2309400"/>
            <a:chOff x="3186000" y="2743200"/>
            <a:chExt cx="1889280" cy="2309400"/>
          </a:xfrm>
        </p:grpSpPr>
        <p:sp>
          <p:nvSpPr>
            <p:cNvPr id="346" name=""/>
            <p:cNvSpPr/>
            <p:nvPr/>
          </p:nvSpPr>
          <p:spPr>
            <a:xfrm>
              <a:off x="3186000" y="3495600"/>
              <a:ext cx="1889280" cy="15570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рожде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ви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летар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52680" y="2743200"/>
              <a:ext cx="457200" cy="685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300280" y="3200400"/>
            <a:ext cx="3701160" cy="2351520"/>
            <a:chOff x="5300280" y="3200400"/>
            <a:chExt cx="3701160" cy="2351520"/>
          </a:xfrm>
        </p:grpSpPr>
        <p:sp>
          <p:nvSpPr>
            <p:cNvPr id="349" name=""/>
            <p:cNvSpPr/>
            <p:nvPr/>
          </p:nvSpPr>
          <p:spPr>
            <a:xfrm>
              <a:off x="5300280" y="3629160"/>
              <a:ext cx="3701160" cy="192276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распространение инфор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ции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идеал-накоплени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многообразие направле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ий в искусстве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200400"/>
              <a:ext cx="0" cy="3049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 txBox="1"/>
          <p:nvPr/>
        </p:nvSpPr>
        <p:spPr>
          <a:xfrm>
            <a:off x="1066680" y="190512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5e"/>
                    </a:gs>
                    <a:gs pos="50000">
                      <a:srgbClr val="0000cc"/>
                    </a:gs>
                    <a:gs pos="100000">
                      <a:srgbClr val="00005e"/>
                    </a:gs>
                  </a:gsLst>
                  <a:lin ang="5400000"/>
                </a:gradFill>
                <a:latin typeface="Arial"/>
              </a:rPr>
              <a:t>Быстрый прогре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5e"/>
                  </a:gs>
                  <a:gs pos="50000">
                    <a:srgbClr val="0000cc"/>
                  </a:gs>
                  <a:gs pos="100000">
                    <a:srgbClr val="00005e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5e"/>
                    </a:gs>
                    <a:gs pos="50000">
                      <a:srgbClr val="0000cc"/>
                    </a:gs>
                    <a:gs pos="100000">
                      <a:srgbClr val="00005e"/>
                    </a:gs>
                  </a:gsLst>
                  <a:lin ang="5400000"/>
                </a:gradFill>
                <a:latin typeface="Arial"/>
              </a:rPr>
              <a:t>технической сфер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5e"/>
                  </a:gs>
                  <a:gs pos="50000">
                    <a:srgbClr val="0000cc"/>
                  </a:gs>
                  <a:gs pos="100000">
                    <a:srgbClr val="0000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86240" y="1828800"/>
            <a:ext cx="3552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зменение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уховной сферы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07240" y="2819520"/>
            <a:ext cx="2347920" cy="3985920"/>
            <a:chOff x="1407240" y="2819520"/>
            <a:chExt cx="2347920" cy="3985920"/>
          </a:xfrm>
        </p:grpSpPr>
        <p:sp>
          <p:nvSpPr>
            <p:cNvPr id="354" name=""/>
            <p:cNvSpPr/>
            <p:nvPr/>
          </p:nvSpPr>
          <p:spPr>
            <a:xfrm>
              <a:off x="1407240" y="5248440"/>
              <a:ext cx="2347920" cy="155700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ирова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упног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шинног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6880" y="2819520"/>
              <a:ext cx="0" cy="23619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Технические предпосыл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94640" y="1219320"/>
            <a:ext cx="3187440" cy="2120760"/>
            <a:chOff x="1394640" y="1219320"/>
            <a:chExt cx="3187440" cy="21207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3124080" y="1676520"/>
              <a:ext cx="109224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600200" y="1219320"/>
              <a:ext cx="123804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394640" y="2514600"/>
              <a:ext cx="3187440" cy="825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ика развиваетс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равномер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5181480" y="1380960"/>
            <a:ext cx="313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онец средневековь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03120" y="2378160"/>
            <a:ext cx="982440" cy="1069200"/>
            <a:chOff x="4803120" y="2378160"/>
            <a:chExt cx="982440" cy="106920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4876920" y="2378160"/>
              <a:ext cx="788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803120" y="2987640"/>
              <a:ext cx="9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о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673240" y="2378160"/>
            <a:ext cx="878760" cy="1069200"/>
            <a:chOff x="5673240" y="2378160"/>
            <a:chExt cx="878760" cy="1069200"/>
          </a:xfrm>
        </p:grpSpPr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5791320" y="2378160"/>
              <a:ext cx="668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673240" y="298764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ас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609320" y="2301840"/>
            <a:ext cx="1456200" cy="1282320"/>
            <a:chOff x="7609320" y="2301840"/>
            <a:chExt cx="1456200" cy="1282320"/>
          </a:xfrm>
        </p:grpSpPr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8022960" y="2301840"/>
              <a:ext cx="628560" cy="64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609320" y="2758680"/>
              <a:ext cx="145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нигопе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ат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39760" y="2454120"/>
            <a:ext cx="1179000" cy="993240"/>
            <a:chOff x="6539760" y="2454120"/>
            <a:chExt cx="1179000" cy="993240"/>
          </a:xfrm>
        </p:grpSpPr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>
              <a:off x="6807240" y="2454120"/>
              <a:ext cx="6444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539760" y="298764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мпа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23640" y="3124080"/>
            <a:ext cx="3652920" cy="1400400"/>
            <a:chOff x="1223640" y="3124080"/>
            <a:chExt cx="3652920" cy="1400400"/>
          </a:xfrm>
        </p:grpSpPr>
        <p:sp>
          <p:nvSpPr>
            <p:cNvPr id="135" name=""/>
            <p:cNvSpPr/>
            <p:nvPr/>
          </p:nvSpPr>
          <p:spPr>
            <a:xfrm>
              <a:off x="1223640" y="3699000"/>
              <a:ext cx="11088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в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рм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285640" y="3124080"/>
              <a:ext cx="259092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636640" y="3124080"/>
            <a:ext cx="3306960" cy="1413000"/>
            <a:chOff x="2636640" y="3124080"/>
            <a:chExt cx="3306960" cy="1413000"/>
          </a:xfrm>
        </p:grpSpPr>
        <p:sp>
          <p:nvSpPr>
            <p:cNvPr id="138" name=""/>
            <p:cNvSpPr/>
            <p:nvPr/>
          </p:nvSpPr>
          <p:spPr>
            <a:xfrm>
              <a:off x="2636640" y="3711600"/>
              <a:ext cx="157968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нность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реме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191120" y="3124080"/>
              <a:ext cx="175248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25200" y="3200400"/>
            <a:ext cx="2561040" cy="1336680"/>
            <a:chOff x="4525200" y="3200400"/>
            <a:chExt cx="2561040" cy="1336680"/>
          </a:xfrm>
        </p:grpSpPr>
        <p:sp>
          <p:nvSpPr>
            <p:cNvPr id="141" name=""/>
            <p:cNvSpPr/>
            <p:nvPr/>
          </p:nvSpPr>
          <p:spPr>
            <a:xfrm>
              <a:off x="4525200" y="3711600"/>
              <a:ext cx="151128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алек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в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66920" y="3200400"/>
              <a:ext cx="121932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46080" y="3200400"/>
            <a:ext cx="2555280" cy="1336680"/>
            <a:chOff x="6346080" y="3200400"/>
            <a:chExt cx="2555280" cy="1336680"/>
          </a:xfrm>
        </p:grpSpPr>
        <p:sp>
          <p:nvSpPr>
            <p:cNvPr id="144" name=""/>
            <p:cNvSpPr/>
            <p:nvPr/>
          </p:nvSpPr>
          <p:spPr>
            <a:xfrm>
              <a:off x="6346080" y="3711600"/>
              <a:ext cx="255528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спростран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05920" y="32004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19320" y="4571640"/>
            <a:ext cx="7619760" cy="686160"/>
            <a:chOff x="1219320" y="4571640"/>
            <a:chExt cx="7619760" cy="686160"/>
          </a:xfrm>
        </p:grpSpPr>
        <p:sp>
          <p:nvSpPr>
            <p:cNvPr id="147" name=""/>
            <p:cNvSpPr/>
            <p:nvPr/>
          </p:nvSpPr>
          <p:spPr>
            <a:xfrm flipV="1">
              <a:off x="1219320" y="4570920"/>
              <a:ext cx="7619760" cy="304920"/>
            </a:xfrm>
            <a:prstGeom prst="upArrowCallout">
              <a:avLst>
                <a:gd name="adj1" fmla="val 35636"/>
                <a:gd name="adj2" fmla="val 80753"/>
                <a:gd name="adj3" fmla="val 50519"/>
                <a:gd name="adj4" fmla="val 160428"/>
              </a:avLst>
            </a:prstGeom>
            <a:solidFill>
              <a:srgbClr val="ffff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752480" y="4953240"/>
              <a:ext cx="647712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ервичное накопление капитала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828800" y="5334120"/>
            <a:ext cx="1980720" cy="457200"/>
            <a:chOff x="1828800" y="5334120"/>
            <a:chExt cx="1980720" cy="457200"/>
          </a:xfrm>
        </p:grpSpPr>
        <p:sp>
          <p:nvSpPr>
            <p:cNvPr id="150" name=""/>
            <p:cNvSpPr txBox="1"/>
            <p:nvPr/>
          </p:nvSpPr>
          <p:spPr>
            <a:xfrm>
              <a:off x="1828800" y="5486400"/>
              <a:ext cx="16765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50000">
                        <a:srgbClr val="ff0000"/>
                      </a:gs>
                      <a:gs pos="100000">
                        <a:srgbClr val="750000"/>
                      </a:gs>
                    </a:gsLst>
                    <a:lin ang="5400000"/>
                  </a:gradFill>
                  <a:latin typeface="Arial"/>
                </a:rPr>
                <a:t>колони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5334120"/>
              <a:ext cx="228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066680" y="5410080"/>
            <a:ext cx="3581640" cy="1209960"/>
            <a:chOff x="1066680" y="5410080"/>
            <a:chExt cx="3581640" cy="1209960"/>
          </a:xfrm>
        </p:grpSpPr>
        <p:sp>
          <p:nvSpPr>
            <p:cNvPr id="153" name=""/>
            <p:cNvSpPr txBox="1"/>
            <p:nvPr/>
          </p:nvSpPr>
          <p:spPr>
            <a:xfrm>
              <a:off x="1066680" y="6095880"/>
              <a:ext cx="29908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latin typeface="Times New Roman"/>
                </a:rPr>
                <a:t>огораживания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191120" y="54100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800600" y="5334120"/>
            <a:ext cx="533520" cy="1218960"/>
          </a:xfrm>
          <a:prstGeom prst="rightArrowCallout">
            <a:avLst>
              <a:gd name="adj1" fmla="val 61884"/>
              <a:gd name="adj2" fmla="val 54442"/>
              <a:gd name="adj3" fmla="val 66028"/>
              <a:gd name="adj4" fmla="val 21704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562720" y="5257800"/>
            <a:ext cx="300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Капита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562720" y="5952960"/>
            <a:ext cx="30477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 труд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ервичное накопление капита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1433520" cy="13701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595680" y="1184400"/>
            <a:ext cx="4714920" cy="1191240"/>
            <a:chOff x="3595680" y="1184400"/>
            <a:chExt cx="4714920" cy="1191240"/>
          </a:xfrm>
        </p:grpSpPr>
        <p:sp>
          <p:nvSpPr>
            <p:cNvPr id="161" name=""/>
            <p:cNvSpPr/>
            <p:nvPr/>
          </p:nvSpPr>
          <p:spPr>
            <a:xfrm>
              <a:off x="5514480" y="1184400"/>
              <a:ext cx="2796120" cy="11912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нят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 13 века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нности, товары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и дающ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95680" y="1600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66680" y="3048120"/>
            <a:ext cx="1498680" cy="1526400"/>
            <a:chOff x="1066680" y="3048120"/>
            <a:chExt cx="1498680" cy="152640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1066680" y="3048120"/>
              <a:ext cx="14986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449720" y="41148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ох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590920" y="2666880"/>
            <a:ext cx="5829120" cy="1040040"/>
            <a:chOff x="2590920" y="2666880"/>
            <a:chExt cx="5829120" cy="1040040"/>
          </a:xfrm>
        </p:grpSpPr>
        <p:grpSp>
          <p:nvGrpSpPr>
            <p:cNvPr id="167" name=""/>
            <p:cNvGrpSpPr/>
            <p:nvPr/>
          </p:nvGrpSpPr>
          <p:grpSpPr>
            <a:xfrm>
              <a:off x="4191120" y="2666880"/>
              <a:ext cx="4228920" cy="1040040"/>
              <a:chOff x="4191120" y="2666880"/>
              <a:chExt cx="4228920" cy="10400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2666880"/>
                <a:ext cx="696960" cy="10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 txBox="1"/>
              <p:nvPr/>
            </p:nvSpPr>
            <p:spPr>
              <a:xfrm>
                <a:off x="5029200" y="2971800"/>
                <a:ext cx="339084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4"/>
                      <a:srcRect/>
                      <a:tile tx="0" ty="0" sx="100000" sy="100000" algn="ctr"/>
                    </a:blipFill>
                    <a:latin typeface="Times New Roman"/>
                  </a:rPr>
                  <a:t>ростовщичество</a:t>
                </a:r>
                <a:endPara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2590920" y="3200400"/>
              <a:ext cx="1447560" cy="4572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66880" y="3733920"/>
            <a:ext cx="5438880" cy="1003320"/>
            <a:chOff x="2666880" y="3733920"/>
            <a:chExt cx="5438880" cy="1003320"/>
          </a:xfrm>
        </p:grpSpPr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4191120" y="3886200"/>
              <a:ext cx="68400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105520" y="4038480"/>
              <a:ext cx="3000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изводство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880" y="3733920"/>
              <a:ext cx="1295640" cy="3808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219320" y="4800600"/>
            <a:ext cx="7391160" cy="1752480"/>
            <a:chOff x="1219320" y="4800600"/>
            <a:chExt cx="7391160" cy="1752480"/>
          </a:xfrm>
        </p:grpSpPr>
        <p:sp>
          <p:nvSpPr>
            <p:cNvPr id="176" name=""/>
            <p:cNvSpPr txBox="1"/>
            <p:nvPr/>
          </p:nvSpPr>
          <p:spPr>
            <a:xfrm>
              <a:off x="1219320" y="5505480"/>
              <a:ext cx="739116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потребность в новых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производственных отношения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480060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ервичное накопление капита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990720"/>
            <a:ext cx="4876920" cy="1357200"/>
            <a:chOff x="3657600" y="990720"/>
            <a:chExt cx="4876920" cy="1357200"/>
          </a:xfrm>
        </p:grpSpPr>
        <p:sp>
          <p:nvSpPr>
            <p:cNvPr id="180" name=""/>
            <p:cNvSpPr txBox="1"/>
            <p:nvPr/>
          </p:nvSpPr>
          <p:spPr>
            <a:xfrm>
              <a:off x="3657600" y="1154160"/>
              <a:ext cx="565200" cy="102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696080" y="1155600"/>
              <a:ext cx="838440" cy="102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`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5268960" y="990720"/>
              <a:ext cx="13795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343400" y="167616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1680" y="1676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1447920" y="1447920"/>
            <a:ext cx="155232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ньш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22520" y="2685960"/>
            <a:ext cx="4869000" cy="971280"/>
            <a:chOff x="2522520" y="2685960"/>
            <a:chExt cx="4869000" cy="971280"/>
          </a:xfrm>
        </p:grpSpPr>
        <p:sp>
          <p:nvSpPr>
            <p:cNvPr id="187" name=""/>
            <p:cNvSpPr txBox="1"/>
            <p:nvPr/>
          </p:nvSpPr>
          <p:spPr>
            <a:xfrm>
              <a:off x="2522520" y="2685960"/>
              <a:ext cx="609480" cy="97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4427640" y="2828520"/>
              <a:ext cx="6858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Т</a:t>
              </a:r>
              <a:endPara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408720" y="2685960"/>
              <a:ext cx="982800" cy="97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`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4640" y="318096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9400" y="318096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430880" y="2781360"/>
            <a:ext cx="5983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?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657600"/>
            <a:ext cx="333360" cy="685800"/>
          </a:xfrm>
          <a:prstGeom prst="downArrow">
            <a:avLst>
              <a:gd name="adj1" fmla="val 50000"/>
              <a:gd name="adj2" fmla="val 51431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57600" y="4441680"/>
            <a:ext cx="2209680" cy="2022480"/>
            <a:chOff x="3657600" y="4441680"/>
            <a:chExt cx="2209680" cy="2022480"/>
          </a:xfrm>
        </p:grpSpPr>
        <p:graphicFrame>
          <p:nvGraphicFramePr>
            <p:cNvPr id="195" name=""/>
            <p:cNvGraphicFramePr/>
            <p:nvPr/>
          </p:nvGraphicFramePr>
          <p:xfrm>
            <a:off x="3657600" y="4441680"/>
            <a:ext cx="2209680" cy="1349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57600" y="4441680"/>
                      <a:ext cx="2209680" cy="13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3749760" y="5638680"/>
              <a:ext cx="203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бодны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бочие ру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62120" y="1981080"/>
            <a:ext cx="2836800" cy="5105520"/>
            <a:chOff x="762120" y="1981080"/>
            <a:chExt cx="2836800" cy="5105520"/>
          </a:xfrm>
        </p:grpSpPr>
        <p:sp>
          <p:nvSpPr>
            <p:cNvPr id="199" name=""/>
            <p:cNvSpPr/>
            <p:nvPr/>
          </p:nvSpPr>
          <p:spPr>
            <a:xfrm>
              <a:off x="1952640" y="1981080"/>
              <a:ext cx="485640" cy="3581640"/>
            </a:xfrm>
            <a:prstGeom prst="downArrow">
              <a:avLst>
                <a:gd name="adj1" fmla="val 28759"/>
                <a:gd name="adj2" fmla="val 184377"/>
              </a:avLst>
            </a:prstGeom>
            <a:solidFill>
              <a:srgbClr val="ffff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62120" y="6019920"/>
              <a:ext cx="2836800" cy="1066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неэкономическ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инужд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791320" y="4572000"/>
            <a:ext cx="3047760" cy="1219320"/>
            <a:chOff x="5791320" y="4572000"/>
            <a:chExt cx="3047760" cy="1219320"/>
          </a:xfrm>
        </p:grpSpPr>
        <p:sp>
          <p:nvSpPr>
            <p:cNvPr id="202" name=""/>
            <p:cNvSpPr/>
            <p:nvPr/>
          </p:nvSpPr>
          <p:spPr>
            <a:xfrm>
              <a:off x="5791320" y="4952880"/>
              <a:ext cx="838080" cy="409680"/>
            </a:xfrm>
            <a:prstGeom prst="rightArrow">
              <a:avLst>
                <a:gd name="adj1" fmla="val 50000"/>
                <a:gd name="adj2" fmla="val 51142"/>
              </a:avLst>
            </a:prstGeom>
            <a:solidFill>
              <a:srgbClr val="ffff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6629400" y="4572000"/>
              <a:ext cx="22096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экономичек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принужд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Ценности индустриальной цивилизации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1295280"/>
            <a:ext cx="3038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возрождение</a:t>
            </a:r>
            <a:endParaRPr b="1" lang="en-US" sz="2400" spc="1" strike="noStrike">
              <a:ln w="1260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95680" y="1120680"/>
            <a:ext cx="3679920" cy="860400"/>
            <a:chOff x="4495680" y="1120680"/>
            <a:chExt cx="3679920" cy="860400"/>
          </a:xfrm>
        </p:grpSpPr>
        <p:sp>
          <p:nvSpPr>
            <p:cNvPr id="207" name=""/>
            <p:cNvSpPr txBox="1"/>
            <p:nvPr/>
          </p:nvSpPr>
          <p:spPr>
            <a:xfrm>
              <a:off x="5715000" y="1120680"/>
              <a:ext cx="246060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atin typeface="Times New Roman"/>
                </a:rPr>
                <a:t>переход к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atin typeface="Times New Roman"/>
                </a:rPr>
                <a:t>новой эпохе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01120" y="1828800"/>
            <a:ext cx="4237200" cy="2502000"/>
            <a:chOff x="1401120" y="1828800"/>
            <a:chExt cx="4237200" cy="2502000"/>
          </a:xfrm>
        </p:grpSpPr>
        <p:grpSp>
          <p:nvGrpSpPr>
            <p:cNvPr id="210" name=""/>
            <p:cNvGrpSpPr/>
            <p:nvPr/>
          </p:nvGrpSpPr>
          <p:grpSpPr>
            <a:xfrm>
              <a:off x="1401120" y="2209680"/>
              <a:ext cx="1492920" cy="2121120"/>
              <a:chOff x="1401120" y="2209680"/>
              <a:chExt cx="1492920" cy="21211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2209680"/>
                <a:ext cx="1036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401120" y="3505320"/>
                <a:ext cx="1492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иболе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ыстро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2819160" y="1828800"/>
              <a:ext cx="2819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505320" y="2133720"/>
            <a:ext cx="3638520" cy="657000"/>
            <a:chOff x="3505320" y="2133720"/>
            <a:chExt cx="3638520" cy="657000"/>
          </a:xfrm>
        </p:grpSpPr>
        <p:sp>
          <p:nvSpPr>
            <p:cNvPr id="215" name=""/>
            <p:cNvSpPr txBox="1"/>
            <p:nvPr/>
          </p:nvSpPr>
          <p:spPr>
            <a:xfrm>
              <a:off x="4800600" y="2133720"/>
              <a:ext cx="23432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3 сословие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5320" y="2133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200640" y="2895480"/>
            <a:ext cx="2530800" cy="978120"/>
            <a:chOff x="6200640" y="2895480"/>
            <a:chExt cx="2530800" cy="978120"/>
          </a:xfrm>
        </p:grpSpPr>
        <p:sp>
          <p:nvSpPr>
            <p:cNvPr id="218" name=""/>
            <p:cNvSpPr/>
            <p:nvPr/>
          </p:nvSpPr>
          <p:spPr>
            <a:xfrm>
              <a:off x="7013160" y="3048120"/>
              <a:ext cx="171828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Нов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отно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6141240" y="2954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890520" y="2895480"/>
            <a:ext cx="1871280" cy="978120"/>
            <a:chOff x="3890520" y="2895480"/>
            <a:chExt cx="1871280" cy="978120"/>
          </a:xfrm>
        </p:grpSpPr>
        <p:sp>
          <p:nvSpPr>
            <p:cNvPr id="221" name=""/>
            <p:cNvSpPr/>
            <p:nvPr/>
          </p:nvSpPr>
          <p:spPr>
            <a:xfrm>
              <a:off x="3890520" y="3048120"/>
              <a:ext cx="110880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Нов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иде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6200000">
              <a:off x="4968360" y="295488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280 h 733320"/>
                <a:gd name="textAreaBottom" fmla="*/ 62820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66800" y="4038480"/>
            <a:ext cx="2966760" cy="2695680"/>
            <a:chOff x="766800" y="4038480"/>
            <a:chExt cx="2966760" cy="2695680"/>
          </a:xfrm>
        </p:grpSpPr>
        <p:grpSp>
          <p:nvGrpSpPr>
            <p:cNvPr id="224" name=""/>
            <p:cNvGrpSpPr/>
            <p:nvPr/>
          </p:nvGrpSpPr>
          <p:grpSpPr>
            <a:xfrm>
              <a:off x="1371600" y="4038480"/>
              <a:ext cx="2361960" cy="1981440"/>
              <a:chOff x="1371600" y="4038480"/>
              <a:chExt cx="2361960" cy="1981440"/>
            </a:xfrm>
          </p:grpSpPr>
          <p:pic>
            <p:nvPicPr>
              <p:cNvPr id="2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4724280"/>
                <a:ext cx="4618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 flipH="1">
                <a:off x="1980720" y="4038480"/>
                <a:ext cx="1752840" cy="609840"/>
              </a:xfrm>
              <a:prstGeom prst="line">
                <a:avLst/>
              </a:prstGeom>
              <a:ln w="5724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6800" y="5908680"/>
              <a:ext cx="174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обод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438280" y="4495680"/>
            <a:ext cx="4496040" cy="685800"/>
            <a:chOff x="2438280" y="4495680"/>
            <a:chExt cx="4496040" cy="685800"/>
          </a:xfrm>
        </p:grpSpPr>
        <p:sp>
          <p:nvSpPr>
            <p:cNvPr id="229" name=""/>
            <p:cNvSpPr/>
            <p:nvPr/>
          </p:nvSpPr>
          <p:spPr>
            <a:xfrm>
              <a:off x="2438280" y="45720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3809880" y="4495680"/>
              <a:ext cx="3124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cc"/>
                    </a:solidFill>
                    <a:miter/>
                  </a:ln>
                  <a:solidFill>
                    <a:srgbClr val="ffcc00"/>
                  </a:solidFill>
                  <a:latin typeface="Impact"/>
                </a:rPr>
                <a:t>развитие науки </a:t>
              </a:r>
              <a:endPara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cc00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cc"/>
                    </a:solidFill>
                    <a:miter/>
                  </a:ln>
                  <a:solidFill>
                    <a:srgbClr val="ffcc00"/>
                  </a:solidFill>
                  <a:latin typeface="Impact"/>
                </a:rPr>
                <a:t>и культуры</a:t>
              </a:r>
              <a:endPara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cc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38280" y="5410080"/>
            <a:ext cx="5029200" cy="1047960"/>
            <a:chOff x="2438280" y="5410080"/>
            <a:chExt cx="5029200" cy="1047960"/>
          </a:xfrm>
        </p:grpSpPr>
        <p:sp>
          <p:nvSpPr>
            <p:cNvPr id="232" name=""/>
            <p:cNvSpPr/>
            <p:nvPr/>
          </p:nvSpPr>
          <p:spPr>
            <a:xfrm>
              <a:off x="2438280" y="56865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3581280" y="5410080"/>
              <a:ext cx="3886200" cy="104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cc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авантюризм,</a:t>
              </a:r>
              <a:endParaRPr b="1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00cc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трасть к приключениям</a:t>
              </a:r>
              <a:endParaRPr b="1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Ценности индустриальной цивилизации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743200" y="1066680"/>
            <a:ext cx="4343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ротиворечия эпохи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ОЗРОЖДЕН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2098800"/>
            <a:ext cx="7121520" cy="825480"/>
            <a:chOff x="1447920" y="2098800"/>
            <a:chExt cx="7121520" cy="825480"/>
          </a:xfrm>
        </p:grpSpPr>
        <p:sp>
          <p:nvSpPr>
            <p:cNvPr id="237" name=""/>
            <p:cNvSpPr txBox="1"/>
            <p:nvPr/>
          </p:nvSpPr>
          <p:spPr>
            <a:xfrm>
              <a:off x="1447920" y="2286000"/>
              <a:ext cx="3524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latin typeface="Impact"/>
                </a:rPr>
                <a:t>Лоренцо Медичи</a:t>
              </a:r>
              <a:endPara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  <a:ea typeface="Impact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44840" y="2098800"/>
              <a:ext cx="332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кровитель искусст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интриган,убийц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47920" y="2971800"/>
            <a:ext cx="7539480" cy="1191240"/>
            <a:chOff x="1447920" y="2971800"/>
            <a:chExt cx="7539480" cy="1191240"/>
          </a:xfrm>
        </p:grpSpPr>
        <p:sp>
          <p:nvSpPr>
            <p:cNvPr id="240" name=""/>
            <p:cNvSpPr txBox="1"/>
            <p:nvPr/>
          </p:nvSpPr>
          <p:spPr>
            <a:xfrm>
              <a:off x="1447920" y="3352680"/>
              <a:ext cx="3524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latin typeface="Impact"/>
                </a:rPr>
                <a:t>Цезарь Борджиа</a:t>
              </a:r>
              <a:endPara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  <a:ea typeface="Impact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0" y="2971800"/>
              <a:ext cx="376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Покровитель Л.да Винчи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Идеал для Макиавелли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Times New Roman"/>
                </a:rPr>
                <a:t>-интриган,убийц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447920" y="4232160"/>
            <a:ext cx="6475680" cy="825480"/>
            <a:chOff x="1447920" y="4232160"/>
            <a:chExt cx="6475680" cy="825480"/>
          </a:xfrm>
        </p:grpSpPr>
        <p:sp>
          <p:nvSpPr>
            <p:cNvPr id="243" name=""/>
            <p:cNvSpPr txBox="1"/>
            <p:nvPr/>
          </p:nvSpPr>
          <p:spPr>
            <a:xfrm>
              <a:off x="1447920" y="4419720"/>
              <a:ext cx="3524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latin typeface="Impact"/>
                </a:rPr>
                <a:t>Инквизиция</a:t>
              </a:r>
              <a:endPara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  <a:ea typeface="Impact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1160" y="4232160"/>
              <a:ext cx="251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300 лет-50 тыся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убит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295280" y="4952880"/>
            <a:ext cx="3962520" cy="304920"/>
          </a:xfrm>
          <a:prstGeom prst="downArrowCallout">
            <a:avLst>
              <a:gd name="adj1" fmla="val 38508"/>
              <a:gd name="adj2" fmla="val 92651"/>
              <a:gd name="adj3" fmla="val 25519"/>
              <a:gd name="adj4" fmla="val 24481"/>
            </a:avLst>
          </a:prstGeom>
          <a:solidFill>
            <a:srgbClr val="ffcc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343240" y="5410080"/>
            <a:ext cx="1923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етска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ик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05160" y="5562720"/>
            <a:ext cx="4575600" cy="825480"/>
            <a:chOff x="4205160" y="5562720"/>
            <a:chExt cx="4575600" cy="825480"/>
          </a:xfrm>
        </p:grpSpPr>
        <p:sp>
          <p:nvSpPr>
            <p:cNvPr id="248" name=""/>
            <p:cNvSpPr/>
            <p:nvPr/>
          </p:nvSpPr>
          <p:spPr>
            <a:xfrm>
              <a:off x="5196960" y="5562720"/>
              <a:ext cx="3583800" cy="82548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дь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 бог, а такой ж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ешный челове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5160" y="5791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Ценности индустриальной цивилизации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666880" y="106668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читаемые качества 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 людей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251460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он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берт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6720" y="2362320"/>
            <a:ext cx="3360600" cy="866520"/>
            <a:chOff x="3276720" y="2362320"/>
            <a:chExt cx="3360600" cy="866520"/>
          </a:xfrm>
        </p:grpSpPr>
        <p:sp>
          <p:nvSpPr>
            <p:cNvPr id="254" name=""/>
            <p:cNvSpPr/>
            <p:nvPr/>
          </p:nvSpPr>
          <p:spPr>
            <a:xfrm>
              <a:off x="3276720" y="2743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343400" y="2362320"/>
              <a:ext cx="22939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Хозяйственнос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6" name=""/>
          <p:cNvSpPr txBox="1"/>
          <p:nvPr/>
        </p:nvSpPr>
        <p:spPr>
          <a:xfrm>
            <a:off x="6553080" y="304812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Arial"/>
              </a:rPr>
              <a:t>Бережлив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07720" y="3048120"/>
            <a:ext cx="3768840" cy="3357720"/>
            <a:chOff x="1107720" y="3048120"/>
            <a:chExt cx="3768840" cy="3357720"/>
          </a:xfrm>
        </p:grpSpPr>
        <p:sp>
          <p:nvSpPr>
            <p:cNvPr id="258" name=""/>
            <p:cNvSpPr/>
            <p:nvPr/>
          </p:nvSpPr>
          <p:spPr>
            <a:xfrm>
              <a:off x="1107720" y="4483080"/>
              <a:ext cx="3278880" cy="192276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Распоряжение душой 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телом ,времене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Труд должен достав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лять удовольстви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Богатство в мер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495320" y="3048120"/>
              <a:ext cx="38124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95360" y="3505320"/>
            <a:ext cx="3771360" cy="2974320"/>
            <a:chOff x="4995360" y="3505320"/>
            <a:chExt cx="3771360" cy="2974320"/>
          </a:xfrm>
        </p:grpSpPr>
        <p:sp>
          <p:nvSpPr>
            <p:cNvPr id="261" name=""/>
            <p:cNvSpPr/>
            <p:nvPr/>
          </p:nvSpPr>
          <p:spPr>
            <a:xfrm>
              <a:off x="4995360" y="4191120"/>
              <a:ext cx="3771360" cy="22885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Гарантия независимост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-допустимы расходы 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дорогие книги, серебр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одежду,ковры, коней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Деньги вкладывать в им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ния, не давать в долг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3505320"/>
              <a:ext cx="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Ценности индустриальной цивилизации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666880" y="1066680"/>
            <a:ext cx="47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читаемые качества 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 людей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266688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он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берти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720" y="2409840"/>
            <a:ext cx="5446080" cy="1557000"/>
            <a:chOff x="3276720" y="2409840"/>
            <a:chExt cx="5446080" cy="1557000"/>
          </a:xfrm>
        </p:grpSpPr>
        <p:sp>
          <p:nvSpPr>
            <p:cNvPr id="267" name=""/>
            <p:cNvSpPr/>
            <p:nvPr/>
          </p:nvSpPr>
          <p:spPr>
            <a:xfrm>
              <a:off x="4480560" y="2409840"/>
              <a:ext cx="4242240" cy="15570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человеке-что-то от бог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го активность безграничн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се должен обращать в свою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ьз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6720" y="28954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1219320" y="4952880"/>
            <a:ext cx="2133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новые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ценности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295800" y="4191120"/>
            <a:ext cx="3952800" cy="1283040"/>
            <a:chOff x="3295800" y="4191120"/>
            <a:chExt cx="3952800" cy="1283040"/>
          </a:xfrm>
        </p:grpSpPr>
        <p:sp>
          <p:nvSpPr>
            <p:cNvPr id="271" name=""/>
            <p:cNvSpPr/>
            <p:nvPr/>
          </p:nvSpPr>
          <p:spPr>
            <a:xfrm rot="20055600">
              <a:off x="3352680" y="4800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343400" y="4191120"/>
              <a:ext cx="2905200" cy="8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Arial"/>
                </a:rPr>
                <a:t>реформац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29000" y="4952880"/>
            <a:ext cx="3578760" cy="1781280"/>
            <a:chOff x="3429000" y="4952880"/>
            <a:chExt cx="3578760" cy="1781280"/>
          </a:xfrm>
        </p:grpSpPr>
        <p:grpSp>
          <p:nvGrpSpPr>
            <p:cNvPr id="274" name=""/>
            <p:cNvGrpSpPr/>
            <p:nvPr/>
          </p:nvGrpSpPr>
          <p:grpSpPr>
            <a:xfrm>
              <a:off x="3429000" y="4952880"/>
              <a:ext cx="3381480" cy="1067040"/>
              <a:chOff x="3429000" y="4952880"/>
              <a:chExt cx="3381480" cy="1067040"/>
            </a:xfrm>
          </p:grpSpPr>
          <p:sp>
            <p:nvSpPr>
              <p:cNvPr id="275" name=""/>
              <p:cNvSpPr txBox="1"/>
              <p:nvPr/>
            </p:nvSpPr>
            <p:spPr>
              <a:xfrm>
                <a:off x="4648320" y="5486400"/>
                <a:ext cx="216216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221304"/>
                    </a:solidFill>
                    <a:latin typeface="Arial"/>
                  </a:rPr>
                  <a:t>Пуритане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9000" y="571500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91320" y="4952880"/>
                <a:ext cx="0" cy="533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004640" y="5908680"/>
              <a:ext cx="300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анатизм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леустремлен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010280" y="4267080"/>
            <a:ext cx="1828440" cy="2362320"/>
            <a:chOff x="7010280" y="4267080"/>
            <a:chExt cx="1828440" cy="2362320"/>
          </a:xfrm>
        </p:grpSpPr>
        <p:sp>
          <p:nvSpPr>
            <p:cNvPr id="280" name=""/>
            <p:cNvSpPr txBox="1"/>
            <p:nvPr/>
          </p:nvSpPr>
          <p:spPr>
            <a:xfrm rot="5400000">
              <a:off x="7162200" y="4952880"/>
              <a:ext cx="2362320" cy="990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ду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капитализм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010280" y="5486040"/>
              <a:ext cx="762120" cy="30492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рождение парламентаризм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66680" y="1295280"/>
            <a:ext cx="3038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возрождение</a:t>
            </a:r>
            <a:endParaRPr b="1" lang="en-US" sz="2400" spc="1" strike="noStrike">
              <a:ln w="1260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419720" y="1066680"/>
            <a:ext cx="4386600" cy="825480"/>
            <a:chOff x="4419720" y="1066680"/>
            <a:chExt cx="4386600" cy="825480"/>
          </a:xfrm>
        </p:grpSpPr>
        <p:sp>
          <p:nvSpPr>
            <p:cNvPr id="285" name=""/>
            <p:cNvSpPr/>
            <p:nvPr/>
          </p:nvSpPr>
          <p:spPr>
            <a:xfrm>
              <a:off x="5114160" y="1066680"/>
              <a:ext cx="3692160" cy="82548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Изменение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50021"/>
                  </a:solidFill>
                  <a:latin typeface="Times New Roman"/>
                </a:rPr>
                <a:t>политической струк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1371600"/>
              <a:ext cx="533160" cy="304920"/>
            </a:xfrm>
            <a:prstGeom prst="rightArrow">
              <a:avLst>
                <a:gd name="adj1" fmla="val 50000"/>
                <a:gd name="adj2" fmla="val 43713"/>
              </a:avLst>
            </a:prstGeom>
            <a:solidFill>
              <a:srgbClr val="ffffcc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916560" y="2133720"/>
            <a:ext cx="1722960" cy="1587600"/>
            <a:chOff x="916560" y="2133720"/>
            <a:chExt cx="1722960" cy="158760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990720" y="2133720"/>
              <a:ext cx="4856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828800" y="2210040"/>
              <a:ext cx="7095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916560" y="2895840"/>
              <a:ext cx="17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дел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л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455200" y="2287440"/>
            <a:ext cx="2811240" cy="1799280"/>
            <a:chOff x="2455200" y="2287440"/>
            <a:chExt cx="2811240" cy="1799280"/>
          </a:xfrm>
        </p:grpSpPr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3400560" y="2287440"/>
              <a:ext cx="880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455200" y="2895480"/>
              <a:ext cx="281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од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ставитель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парламент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5040" y="2133720"/>
            <a:ext cx="1508040" cy="1918080"/>
            <a:chOff x="4955040" y="2133720"/>
            <a:chExt cx="1508040" cy="1918080"/>
          </a:xfrm>
        </p:grpSpPr>
        <p:pic>
          <p:nvPicPr>
            <p:cNvPr id="295" name="" descr=""/>
            <p:cNvPicPr/>
            <p:nvPr/>
          </p:nvPicPr>
          <p:blipFill>
            <a:blip r:embed="rId4"/>
            <a:stretch/>
          </p:blipFill>
          <p:spPr>
            <a:xfrm>
              <a:off x="5197320" y="2133720"/>
              <a:ext cx="10666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955040" y="2860560"/>
              <a:ext cx="15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ил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л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402240" y="1905120"/>
            <a:ext cx="2614680" cy="2146680"/>
            <a:chOff x="6402240" y="1905120"/>
            <a:chExt cx="2614680" cy="2146680"/>
          </a:xfrm>
        </p:grpSpPr>
        <p:pic>
          <p:nvPicPr>
            <p:cNvPr id="298" name="" descr=""/>
            <p:cNvPicPr/>
            <p:nvPr/>
          </p:nvPicPr>
          <p:blipFill>
            <a:blip r:embed="rId5"/>
            <a:stretch/>
          </p:blipFill>
          <p:spPr>
            <a:xfrm>
              <a:off x="7315200" y="1905120"/>
              <a:ext cx="880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402240" y="2860560"/>
              <a:ext cx="261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порядочи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удар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мешатель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219320" y="4114800"/>
            <a:ext cx="7467480" cy="304920"/>
          </a:xfrm>
          <a:prstGeom prst="downArrowCallout">
            <a:avLst>
              <a:gd name="adj1" fmla="val 46943"/>
              <a:gd name="adj2" fmla="val 73923"/>
              <a:gd name="adj3" fmla="val 26005"/>
              <a:gd name="adj4" fmla="val 36981"/>
            </a:avLst>
          </a:prstGeom>
          <a:solidFill>
            <a:srgbClr val="ffcc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971800" y="4572000"/>
            <a:ext cx="390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парламентаризм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33920" y="4994280"/>
            <a:ext cx="7750440" cy="15570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аличие представительного органа законод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ла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тветственность правительства перед парламентар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я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17T16:55:32Z</dcterms:modified>
  <cp:revision>53</cp:revision>
  <dc:subject/>
  <dc:title>ОСОБЕННОСТИ ДРЕВНИХ ЦИВИЛИЗАЦИЙ.</dc:title>
</cp:coreProperties>
</file>