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wmf" ContentType="image/x-wmf"/>
  <Override PartName="/ppt/media/image28.png" ContentType="image/png"/>
  <Override PartName="/ppt/media/image5.png" ContentType="image/png"/>
  <Override PartName="/ppt/media/image6.wmf" ContentType="image/x-wmf"/>
  <Override PartName="/ppt/media/image11.wmf" ContentType="image/x-wmf"/>
  <Override PartName="/ppt/media/image17.jpeg" ContentType="image/jpeg"/>
  <Override PartName="/ppt/media/image7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13.png" ContentType="image/png"/>
  <Override PartName="/ppt/media/image8.wmf" ContentType="image/x-wmf"/>
  <Override PartName="/ppt/media/image9.wmf" ContentType="image/x-wmf"/>
  <Override PartName="/ppt/media/image10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jpeg" ContentType="image/jpeg"/>
  <Override PartName="/ppt/media/image25.wmf" ContentType="image/x-wmf"/>
  <Override PartName="/ppt/media/image31.png" ContentType="image/png"/>
  <Override PartName="/ppt/media/image1.png" ContentType="image/png"/>
  <Override PartName="/ppt/media/image16.wmf" ContentType="image/x-wmf"/>
  <Override PartName="/ppt/media/image14.jpeg" ContentType="image/jpeg"/>
  <Override PartName="/ppt/media/image15.wmf" ContentType="image/x-wmf"/>
  <Override PartName="/ppt/media/image18.png" ContentType="image/png"/>
  <Override PartName="/ppt/media/image2.jpeg" ContentType="image/jpe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761E-7E59-4EF0-8572-4F86FFD2B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C676-0373-4F1F-91CF-67B71C3D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A2A0-B786-49A2-8A3D-9FA9D49EC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0DBF-0398-46A5-9A8F-ABDF5EEBE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A900-9193-46D9-9B47-3597E33F4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E9A5-458C-4057-A9A5-CA920BC1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DCA4-56A2-40AA-8C41-F9DF3DF7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D547-A692-4231-8E57-D44D1933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75BB-6AF6-4E04-B66B-F18EC19E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1573-1404-49DF-8424-83A801F1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A5ED-3D1C-40C6-A916-6EA92EAB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F613-C9B4-4DBD-8451-155BA18F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8E0D-5402-4BFF-8797-7AE033E6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C623-FCD4-4046-887A-7B7E1E88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70D5-D654-4C6C-B892-025989B7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B129-DE30-468D-90E8-F22369F98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1422-DF76-41D0-A45C-9E0EB5930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3F32-AC1D-4451-B657-26D012E6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47E2-D615-4037-BDF0-41E48B6D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DF4C-6366-4EB3-A4C1-47ABE949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8679-12BD-4796-AF2E-C07C52C8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C12E-8C71-4470-9E02-2B0EF210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D929-08A6-427E-95A1-7A5382E5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A036-17A8-4490-B81D-5EEB8724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61A0-F9E5-4B9A-AFE8-A34EA45B5BA3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39DF-D4D0-4420-A4F2-FA6DD519641D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image" Target="../media/image23.jpe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4.wmf"/><Relationship Id="rId11" Type="http://schemas.openxmlformats.org/officeDocument/2006/relationships/image" Target="../media/image17.jpe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6.wmf"/><Relationship Id="rId1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image" Target="../media/image7.wmf"/><Relationship Id="rId11" Type="http://schemas.openxmlformats.org/officeDocument/2006/relationships/image" Target="../media/image8.wmf"/><Relationship Id="rId12" Type="http://schemas.openxmlformats.org/officeDocument/2006/relationships/image" Target="../media/image9.wmf"/><Relationship Id="rId13" Type="http://schemas.openxmlformats.org/officeDocument/2006/relationships/image" Target="../media/image4.wmf"/><Relationship Id="rId14" Type="http://schemas.openxmlformats.org/officeDocument/2006/relationships/image" Target="../media/image6.wmf"/><Relationship Id="rId15" Type="http://schemas.openxmlformats.org/officeDocument/2006/relationships/image" Target="../media/image10.wmf"/><Relationship Id="rId1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6.wm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0000"/>
                </a:solidFill>
                <a:uFillTx/>
                <a:latin typeface="Times New Roman"/>
              </a:rPr>
              <a:t>ЦИВИЛИЗАЦИЯ ЭПОХИ СРЕДНЕВЕКОВЬ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ХРИСТИАНСКОЕ СРЕДНЕВЕКОВОЕ МИРОВОЗЗРЕНИЕ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143720" y="1295280"/>
            <a:ext cx="1669680" cy="1720440"/>
            <a:chOff x="1143720" y="1295280"/>
            <a:chExt cx="1669680" cy="1720440"/>
          </a:xfrm>
        </p:grpSpPr>
        <p:pic>
          <p:nvPicPr>
            <p:cNvPr id="276" name="" descr=""/>
            <p:cNvPicPr/>
            <p:nvPr/>
          </p:nvPicPr>
          <p:blipFill>
            <a:blip r:embed="rId1"/>
            <a:stretch/>
          </p:blipFill>
          <p:spPr>
            <a:xfrm>
              <a:off x="1625400" y="1295280"/>
              <a:ext cx="7081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1143720" y="255600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ЦЕРКОВ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 txBox="1"/>
          <p:nvPr/>
        </p:nvSpPr>
        <p:spPr>
          <a:xfrm>
            <a:off x="3200400" y="1371600"/>
            <a:ext cx="4684680" cy="137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Уровни христианств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в средние века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447920" y="3124080"/>
            <a:ext cx="257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.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447920" y="4419720"/>
            <a:ext cx="314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.</a:t>
            </a:r>
            <a:endParaRPr b="0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346120" y="2743200"/>
            <a:ext cx="1380240" cy="1251360"/>
            <a:chOff x="2346120" y="2743200"/>
            <a:chExt cx="1380240" cy="1251360"/>
          </a:xfrm>
        </p:grpSpPr>
        <p:pic>
          <p:nvPicPr>
            <p:cNvPr id="282" name="" descr=""/>
            <p:cNvPicPr/>
            <p:nvPr/>
          </p:nvPicPr>
          <p:blipFill>
            <a:blip r:embed="rId10"/>
            <a:stretch/>
          </p:blipFill>
          <p:spPr>
            <a:xfrm>
              <a:off x="2743200" y="2743200"/>
              <a:ext cx="5936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2346120" y="3595680"/>
              <a:ext cx="138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церковно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962520" y="2911320"/>
            <a:ext cx="4491720" cy="825480"/>
            <a:chOff x="3962520" y="2911320"/>
            <a:chExt cx="4491720" cy="825480"/>
          </a:xfrm>
        </p:grpSpPr>
        <p:sp>
          <p:nvSpPr>
            <p:cNvPr id="285" name=""/>
            <p:cNvSpPr/>
            <p:nvPr/>
          </p:nvSpPr>
          <p:spPr>
            <a:xfrm>
              <a:off x="3962520" y="3352680"/>
              <a:ext cx="914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036400" y="2911320"/>
              <a:ext cx="3417840" cy="8254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221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пределяет облик и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ценности христианств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133720" y="4175280"/>
            <a:ext cx="1828800" cy="1160640"/>
            <a:chOff x="2133720" y="4175280"/>
            <a:chExt cx="1828800" cy="1160640"/>
          </a:xfrm>
        </p:grpSpPr>
        <p:pic>
          <p:nvPicPr>
            <p:cNvPr id="288" name="" descr=""/>
            <p:cNvPicPr/>
            <p:nvPr/>
          </p:nvPicPr>
          <p:blipFill>
            <a:blip r:embed="rId11"/>
            <a:stretch/>
          </p:blipFill>
          <p:spPr>
            <a:xfrm>
              <a:off x="2133720" y="4175280"/>
              <a:ext cx="1828800" cy="893520"/>
            </a:xfrm>
            <a:prstGeom prst="rect">
              <a:avLst/>
            </a:prstGeom>
            <a:ln w="9360">
              <a:solidFill>
                <a:srgbClr val="333399"/>
              </a:solidFill>
              <a:miter/>
            </a:ln>
          </p:spPr>
        </p:pic>
        <p:sp>
          <p:nvSpPr>
            <p:cNvPr id="289" name=""/>
            <p:cNvSpPr/>
            <p:nvPr/>
          </p:nvSpPr>
          <p:spPr>
            <a:xfrm>
              <a:off x="2286000" y="4937040"/>
              <a:ext cx="143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рыцарско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038480" y="4206960"/>
            <a:ext cx="4517280" cy="825480"/>
            <a:chOff x="4038480" y="4206960"/>
            <a:chExt cx="4517280" cy="825480"/>
          </a:xfrm>
        </p:grpSpPr>
        <p:sp>
          <p:nvSpPr>
            <p:cNvPr id="291" name=""/>
            <p:cNvSpPr/>
            <p:nvPr/>
          </p:nvSpPr>
          <p:spPr>
            <a:xfrm>
              <a:off x="4038480" y="4648320"/>
              <a:ext cx="838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996440" y="4206960"/>
              <a:ext cx="3559320" cy="8254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221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«я принес вам не мир,н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еч»                И.Христо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447920" y="5486400"/>
            <a:ext cx="2477880" cy="1145160"/>
            <a:chOff x="1447920" y="5486400"/>
            <a:chExt cx="2477880" cy="1145160"/>
          </a:xfrm>
        </p:grpSpPr>
        <p:sp>
          <p:nvSpPr>
            <p:cNvPr id="294" name=""/>
            <p:cNvSpPr txBox="1"/>
            <p:nvPr/>
          </p:nvSpPr>
          <p:spPr>
            <a:xfrm>
              <a:off x="1447920" y="5715000"/>
              <a:ext cx="32364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1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3.</a:t>
              </a:r>
              <a:endParaRPr b="0" lang="en-US" sz="24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pic>
          <p:nvPicPr>
            <p:cNvPr id="295" name="" descr=""/>
            <p:cNvPicPr/>
            <p:nvPr/>
          </p:nvPicPr>
          <p:blipFill>
            <a:blip r:embed="rId14"/>
            <a:stretch/>
          </p:blipFill>
          <p:spPr>
            <a:xfrm>
              <a:off x="2133720" y="5486400"/>
              <a:ext cx="1523880" cy="7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1904040" y="6232680"/>
              <a:ext cx="202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простонародно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3962520" y="5299200"/>
            <a:ext cx="4225320" cy="1191240"/>
            <a:chOff x="3962520" y="5299200"/>
            <a:chExt cx="4225320" cy="1191240"/>
          </a:xfrm>
        </p:grpSpPr>
        <p:sp>
          <p:nvSpPr>
            <p:cNvPr id="298" name=""/>
            <p:cNvSpPr/>
            <p:nvPr/>
          </p:nvSpPr>
          <p:spPr>
            <a:xfrm>
              <a:off x="3962520" y="5943600"/>
              <a:ext cx="838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032440" y="5299200"/>
              <a:ext cx="3155400" cy="11912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221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месь христианства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язычества и предрас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удко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ХРИСТИАНСКОЕ СРЕДНЕВЕКОВОЕ МИРОВОЗЗРЕНИЕ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352680" y="1447920"/>
            <a:ext cx="30574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5000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Impact"/>
              </a:rPr>
              <a:t>Предрассудки</a:t>
            </a:r>
            <a:endParaRPr b="1" lang="en-US" sz="2400" spc="1" strike="noStrike">
              <a:ln w="936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ffbf00"/>
                  </a:gs>
                  <a:gs pos="5000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4876920" y="2057040"/>
            <a:ext cx="3886200" cy="3580200"/>
            <a:chOff x="4876920" y="2057040"/>
            <a:chExt cx="3886200" cy="3580200"/>
          </a:xfrm>
        </p:grpSpPr>
        <p:sp>
          <p:nvSpPr>
            <p:cNvPr id="303" name=""/>
            <p:cNvSpPr txBox="1"/>
            <p:nvPr/>
          </p:nvSpPr>
          <p:spPr>
            <a:xfrm>
              <a:off x="4876920" y="3886200"/>
              <a:ext cx="3886200" cy="175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844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"Охота на ведьм",</a:t>
              </a:r>
              <a:endParaRPr b="1" lang="en-US" sz="2400" spc="1" strike="noStrike">
                <a:ln w="2844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844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инквизиция</a:t>
              </a:r>
              <a:endParaRPr b="1" lang="en-US" sz="2400" spc="1" strike="noStrike">
                <a:ln w="2844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6477120" y="2056680"/>
              <a:ext cx="1600200" cy="1600200"/>
            </a:xfrm>
            <a:custGeom>
              <a:avLst/>
              <a:gdLst>
                <a:gd name="textAreaLeft" fmla="*/ 533520 w 1600200"/>
                <a:gd name="textAreaRight" fmla="*/ 1370520 w 1600200"/>
                <a:gd name="textAreaTop" fmla="*/ 921600 h 1600200"/>
                <a:gd name="textAreaBottom" fmla="*/ 137052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22130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33520" y="2057040"/>
            <a:ext cx="4114800" cy="3781800"/>
            <a:chOff x="533520" y="2057040"/>
            <a:chExt cx="4114800" cy="3781800"/>
          </a:xfrm>
        </p:grpSpPr>
        <p:sp>
          <p:nvSpPr>
            <p:cNvPr id="306" name=""/>
            <p:cNvSpPr txBox="1"/>
            <p:nvPr/>
          </p:nvSpPr>
          <p:spPr>
            <a:xfrm>
              <a:off x="533520" y="3581280"/>
              <a:ext cx="4114800" cy="2257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21304"/>
                  </a:solidFill>
                  <a:latin typeface="Arial"/>
                </a:rPr>
                <a:t>Преступления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21304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21304"/>
                  </a:solidFill>
                  <a:latin typeface="Arial"/>
                </a:rPr>
                <a:t>ради обладания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21304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21304"/>
                  </a:solidFill>
                  <a:latin typeface="Arial"/>
                </a:rPr>
                <a:t>святыми предметами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21304"/>
                </a:solidFill>
                <a:latin typeface="Arial"/>
                <a:ea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 flipV="1">
              <a:off x="1599840" y="2056680"/>
              <a:ext cx="1600200" cy="1600200"/>
            </a:xfrm>
            <a:custGeom>
              <a:avLst/>
              <a:gdLst>
                <a:gd name="textAreaLeft" fmla="*/ 533520 w 1600200"/>
                <a:gd name="textAreaRight" fmla="*/ 1370520 w 1600200"/>
                <a:gd name="textAreaTop" fmla="*/ 921600 h 1600200"/>
                <a:gd name="textAreaBottom" fmla="*/ 137052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22130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СРЕДНЕВЕКОВЫЙ ГОРОД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733920" y="2895480"/>
            <a:ext cx="2286000" cy="1905120"/>
            <a:chOff x="3733920" y="2895480"/>
            <a:chExt cx="2286000" cy="1905120"/>
          </a:xfrm>
        </p:grpSpPr>
        <p:pic>
          <p:nvPicPr>
            <p:cNvPr id="310" name="" descr=""/>
            <p:cNvPicPr/>
            <p:nvPr/>
          </p:nvPicPr>
          <p:blipFill>
            <a:blip r:embed="rId1"/>
            <a:stretch/>
          </p:blipFill>
          <p:spPr>
            <a:xfrm>
              <a:off x="4267080" y="2895480"/>
              <a:ext cx="1143000" cy="10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 txBox="1"/>
            <p:nvPr/>
          </p:nvSpPr>
          <p:spPr>
            <a:xfrm>
              <a:off x="3733920" y="3962520"/>
              <a:ext cx="22860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844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latin typeface="Impact"/>
                </a:rPr>
                <a:t>основа нового</a:t>
              </a:r>
              <a:endParaRPr b="0" lang="en-US" sz="2400" spc="1" strike="noStrike">
                <a:ln w="2844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844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latin typeface="Impact"/>
                </a:rPr>
                <a:t>общества</a:t>
              </a:r>
              <a:endParaRPr b="0" lang="en-US" sz="2400" spc="1" strike="noStrike">
                <a:ln w="2844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Impact"/>
                <a:ea typeface="Impact"/>
              </a:endParaRPr>
            </a:p>
          </p:txBody>
        </p:sp>
      </p:grpSp>
      <p:sp>
        <p:nvSpPr>
          <p:cNvPr id="312" name=""/>
          <p:cNvSpPr txBox="1"/>
          <p:nvPr/>
        </p:nvSpPr>
        <p:spPr>
          <a:xfrm>
            <a:off x="3886200" y="1143000"/>
            <a:ext cx="18288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черты и идеи: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1523880" y="1828800"/>
            <a:ext cx="2667240" cy="1676520"/>
            <a:chOff x="1523880" y="1828800"/>
            <a:chExt cx="2667240" cy="1676520"/>
          </a:xfrm>
        </p:grpSpPr>
        <p:sp>
          <p:nvSpPr>
            <p:cNvPr id="314" name=""/>
            <p:cNvSpPr txBox="1"/>
            <p:nvPr/>
          </p:nvSpPr>
          <p:spPr>
            <a:xfrm>
              <a:off x="1523880" y="1828800"/>
              <a:ext cx="2617920" cy="95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самоуправление,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мини-государство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flipV="1">
              <a:off x="3581280" y="2895480"/>
              <a:ext cx="609840" cy="609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457200" y="2895480"/>
            <a:ext cx="3200040" cy="1295640"/>
            <a:chOff x="457200" y="2895480"/>
            <a:chExt cx="3200040" cy="1295640"/>
          </a:xfrm>
        </p:grpSpPr>
        <p:sp>
          <p:nvSpPr>
            <p:cNvPr id="317" name=""/>
            <p:cNvSpPr txBox="1"/>
            <p:nvPr/>
          </p:nvSpPr>
          <p:spPr>
            <a:xfrm>
              <a:off x="457200" y="2895480"/>
              <a:ext cx="1981080" cy="129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Горожане-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единое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сословие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2514240" y="3809880"/>
              <a:ext cx="1143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914400" y="4343400"/>
            <a:ext cx="3123720" cy="1028880"/>
            <a:chOff x="914400" y="4343400"/>
            <a:chExt cx="3123720" cy="1028880"/>
          </a:xfrm>
        </p:grpSpPr>
        <p:sp>
          <p:nvSpPr>
            <p:cNvPr id="320" name=""/>
            <p:cNvSpPr txBox="1"/>
            <p:nvPr/>
          </p:nvSpPr>
          <p:spPr>
            <a:xfrm>
              <a:off x="914400" y="4572000"/>
              <a:ext cx="2590920" cy="800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Свобода и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равноправие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3504960" y="4343400"/>
              <a:ext cx="53316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1828800" y="4876920"/>
            <a:ext cx="2743200" cy="1790640"/>
            <a:chOff x="1828800" y="4876920"/>
            <a:chExt cx="2743200" cy="1790640"/>
          </a:xfrm>
        </p:grpSpPr>
        <p:sp>
          <p:nvSpPr>
            <p:cNvPr id="323" name=""/>
            <p:cNvSpPr txBox="1"/>
            <p:nvPr/>
          </p:nvSpPr>
          <p:spPr>
            <a:xfrm>
              <a:off x="1828800" y="5715000"/>
              <a:ext cx="2589120" cy="95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труд-заслуга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перед богом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3733920" y="4876920"/>
              <a:ext cx="838080" cy="761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410080" y="1752480"/>
            <a:ext cx="2908440" cy="1676160"/>
            <a:chOff x="5410080" y="1752480"/>
            <a:chExt cx="2908440" cy="1676160"/>
          </a:xfrm>
        </p:grpSpPr>
        <p:sp>
          <p:nvSpPr>
            <p:cNvPr id="326" name=""/>
            <p:cNvSpPr txBox="1"/>
            <p:nvPr/>
          </p:nvSpPr>
          <p:spPr>
            <a:xfrm>
              <a:off x="5410080" y="1752480"/>
              <a:ext cx="2908440" cy="876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Корпоративные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объединения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5562720" y="2666520"/>
              <a:ext cx="533160" cy="762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5486400" y="2895480"/>
            <a:ext cx="3505320" cy="1371600"/>
            <a:chOff x="5486400" y="2895480"/>
            <a:chExt cx="3505320" cy="1371600"/>
          </a:xfrm>
        </p:grpSpPr>
        <p:sp>
          <p:nvSpPr>
            <p:cNvPr id="329" name=""/>
            <p:cNvSpPr txBox="1"/>
            <p:nvPr/>
          </p:nvSpPr>
          <p:spPr>
            <a:xfrm>
              <a:off x="6400800" y="2895480"/>
              <a:ext cx="2590920" cy="1371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идея 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индивидуальности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человека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486400" y="3733920"/>
              <a:ext cx="838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943600" y="4495680"/>
            <a:ext cx="2590920" cy="838440"/>
            <a:chOff x="5943600" y="4495680"/>
            <a:chExt cx="2590920" cy="838440"/>
          </a:xfrm>
        </p:grpSpPr>
        <p:sp>
          <p:nvSpPr>
            <p:cNvPr id="332" name=""/>
            <p:cNvSpPr txBox="1"/>
            <p:nvPr/>
          </p:nvSpPr>
          <p:spPr>
            <a:xfrm>
              <a:off x="6629400" y="4572000"/>
              <a:ext cx="19051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идея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развития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943600" y="4495680"/>
              <a:ext cx="99072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257800" y="4876920"/>
            <a:ext cx="3276720" cy="1790640"/>
            <a:chOff x="5257800" y="4876920"/>
            <a:chExt cx="3276720" cy="1790640"/>
          </a:xfrm>
        </p:grpSpPr>
        <p:sp>
          <p:nvSpPr>
            <p:cNvPr id="335" name=""/>
            <p:cNvSpPr txBox="1"/>
            <p:nvPr/>
          </p:nvSpPr>
          <p:spPr>
            <a:xfrm>
              <a:off x="5257800" y="5638680"/>
              <a:ext cx="3276720" cy="102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противопоставление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другим сословиям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10080" y="4876920"/>
              <a:ext cx="533520" cy="609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СРЕДНЕВЕКОВОЕ ОБЩЕСТВО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819520" y="1219320"/>
            <a:ext cx="40575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</a:rPr>
              <a:t>ПЕРИОД X-XIV ВВ</a:t>
            </a:r>
            <a:endParaRPr b="1" lang="en-US" sz="2400" spc="1" strike="noStrike">
              <a:ln w="1260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371600" y="1981080"/>
            <a:ext cx="2019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Признаки: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352680" y="2286000"/>
            <a:ext cx="1981440" cy="1526400"/>
            <a:chOff x="3352680" y="2286000"/>
            <a:chExt cx="1981440" cy="152640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3352680" y="2286000"/>
              <a:ext cx="198144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3778560" y="335268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емля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867280" y="2133720"/>
            <a:ext cx="2207880" cy="1678680"/>
            <a:chOff x="5867280" y="2133720"/>
            <a:chExt cx="2207880" cy="1678680"/>
          </a:xfrm>
        </p:grpSpPr>
        <p:grpSp>
          <p:nvGrpSpPr>
            <p:cNvPr id="123" name=""/>
            <p:cNvGrpSpPr/>
            <p:nvPr/>
          </p:nvGrpSpPr>
          <p:grpSpPr>
            <a:xfrm>
              <a:off x="6553440" y="2133720"/>
              <a:ext cx="1521720" cy="1678680"/>
              <a:chOff x="6553440" y="2133720"/>
              <a:chExt cx="1521720" cy="1678680"/>
            </a:xfrm>
          </p:grpSpPr>
          <p:pic>
            <p:nvPicPr>
              <p:cNvPr id="12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934320" y="2133720"/>
                <a:ext cx="715680" cy="134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"/>
              <p:cNvSpPr/>
              <p:nvPr/>
            </p:nvSpPr>
            <p:spPr>
              <a:xfrm>
                <a:off x="6553440" y="3352680"/>
                <a:ext cx="1521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Феодалы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5867280" y="2895480"/>
              <a:ext cx="5335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 txBox="1"/>
          <p:nvPr/>
        </p:nvSpPr>
        <p:spPr>
          <a:xfrm>
            <a:off x="1371600" y="2590920"/>
            <a:ext cx="762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.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371600" y="4191120"/>
            <a:ext cx="762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.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371600" y="5791320"/>
            <a:ext cx="762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3.</a:t>
            </a:r>
            <a:endParaRPr b="1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505320" y="3886200"/>
            <a:ext cx="1600200" cy="1297800"/>
            <a:chOff x="3505320" y="3886200"/>
            <a:chExt cx="1600200" cy="1297800"/>
          </a:xfrm>
        </p:grpSpPr>
        <p:pic>
          <p:nvPicPr>
            <p:cNvPr id="131" name="" descr=""/>
            <p:cNvPicPr/>
            <p:nvPr/>
          </p:nvPicPr>
          <p:blipFill>
            <a:blip r:embed="rId9"/>
            <a:stretch/>
          </p:blipFill>
          <p:spPr>
            <a:xfrm>
              <a:off x="3505320" y="3886200"/>
              <a:ext cx="160020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3507480" y="4724280"/>
              <a:ext cx="158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рестьян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410080" y="3962520"/>
            <a:ext cx="3151440" cy="1152360"/>
            <a:chOff x="5410080" y="3962520"/>
            <a:chExt cx="3151440" cy="1152360"/>
          </a:xfrm>
        </p:grpSpPr>
        <p:grpSp>
          <p:nvGrpSpPr>
            <p:cNvPr id="134" name=""/>
            <p:cNvGrpSpPr/>
            <p:nvPr/>
          </p:nvGrpSpPr>
          <p:grpSpPr>
            <a:xfrm>
              <a:off x="6248520" y="3962520"/>
              <a:ext cx="2313000" cy="1152360"/>
              <a:chOff x="6248520" y="3962520"/>
              <a:chExt cx="2313000" cy="1152360"/>
            </a:xfrm>
          </p:grpSpPr>
          <p:pic>
            <p:nvPicPr>
              <p:cNvPr id="13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397560" y="3962520"/>
                <a:ext cx="765360" cy="86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248520" y="4572000"/>
                <a:ext cx="2313000" cy="54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7800" y="3962520"/>
                <a:ext cx="209520" cy="696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8" name=""/>
            <p:cNvSpPr/>
            <p:nvPr/>
          </p:nvSpPr>
          <p:spPr>
            <a:xfrm>
              <a:off x="5410080" y="4495680"/>
              <a:ext cx="60984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438280" y="5181480"/>
            <a:ext cx="2971800" cy="1347840"/>
            <a:chOff x="2438280" y="5181480"/>
            <a:chExt cx="2971800" cy="1347840"/>
          </a:xfrm>
        </p:grpSpPr>
        <p:pic>
          <p:nvPicPr>
            <p:cNvPr id="140" name="" descr=""/>
            <p:cNvPicPr/>
            <p:nvPr/>
          </p:nvPicPr>
          <p:blipFill>
            <a:blip r:embed="rId13"/>
            <a:stretch/>
          </p:blipFill>
          <p:spPr>
            <a:xfrm>
              <a:off x="2438280" y="5181480"/>
              <a:ext cx="716040" cy="13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14"/>
            <a:stretch/>
          </p:blipFill>
          <p:spPr>
            <a:xfrm>
              <a:off x="3809880" y="5410080"/>
              <a:ext cx="160020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3200400" y="5715000"/>
              <a:ext cx="533520" cy="30492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257800" y="5381640"/>
            <a:ext cx="3426120" cy="1173960"/>
            <a:chOff x="5257800" y="5381640"/>
            <a:chExt cx="3426120" cy="1173960"/>
          </a:xfrm>
        </p:grpSpPr>
        <p:grpSp>
          <p:nvGrpSpPr>
            <p:cNvPr id="144" name=""/>
            <p:cNvGrpSpPr/>
            <p:nvPr/>
          </p:nvGrpSpPr>
          <p:grpSpPr>
            <a:xfrm>
              <a:off x="6048000" y="5381640"/>
              <a:ext cx="2635920" cy="1173960"/>
              <a:chOff x="6048000" y="5381640"/>
              <a:chExt cx="2635920" cy="1173960"/>
            </a:xfrm>
          </p:grpSpPr>
          <p:pic>
            <p:nvPicPr>
              <p:cNvPr id="14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705720" y="5381640"/>
                <a:ext cx="1218960" cy="86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6048000" y="6095880"/>
                <a:ext cx="263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законодательство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5257800" y="5867280"/>
              <a:ext cx="68580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КРЕСТЬЯНСТВО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114800" y="2971800"/>
            <a:ext cx="1600200" cy="1297800"/>
            <a:chOff x="4114800" y="2971800"/>
            <a:chExt cx="1600200" cy="129780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4114800" y="2971800"/>
              <a:ext cx="160020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116960" y="3809880"/>
              <a:ext cx="158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рестьян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071360" y="1087560"/>
            <a:ext cx="2730240" cy="2307240"/>
            <a:chOff x="1071360" y="1087560"/>
            <a:chExt cx="2730240" cy="2307240"/>
          </a:xfrm>
        </p:grpSpPr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1218960" y="1087560"/>
              <a:ext cx="236232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1071360" y="2203560"/>
              <a:ext cx="2730240" cy="11912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сновна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изводительна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ил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715000" y="1066680"/>
            <a:ext cx="3200400" cy="2286000"/>
            <a:chOff x="5715000" y="1066680"/>
            <a:chExt cx="3200400" cy="2286000"/>
          </a:xfrm>
        </p:grpSpPr>
        <p:pic>
          <p:nvPicPr>
            <p:cNvPr id="156" name="" descr=""/>
            <p:cNvPicPr/>
            <p:nvPr/>
          </p:nvPicPr>
          <p:blipFill>
            <a:blip r:embed="rId3"/>
            <a:stretch/>
          </p:blipFill>
          <p:spPr>
            <a:xfrm>
              <a:off x="5715000" y="1143000"/>
              <a:ext cx="3200400" cy="18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6402600" y="1720800"/>
              <a:ext cx="179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ЗАКОН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6324480" y="1066680"/>
              <a:ext cx="1905120" cy="2286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24480" y="1066680"/>
              <a:ext cx="1828800" cy="2286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 txBox="1"/>
          <p:nvPr/>
        </p:nvSpPr>
        <p:spPr>
          <a:xfrm>
            <a:off x="4648320" y="1219320"/>
            <a:ext cx="6858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3399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?</a:t>
            </a:r>
            <a:endParaRPr b="1" lang="en-US" sz="2400" spc="1" strike="noStrike">
              <a:ln w="9360">
                <a:solidFill>
                  <a:srgbClr val="333399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2793240" y="4267080"/>
            <a:ext cx="414144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Труд не является ценнос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205280" y="3733920"/>
            <a:ext cx="2066040" cy="2909880"/>
            <a:chOff x="1205280" y="3733920"/>
            <a:chExt cx="2066040" cy="2909880"/>
          </a:xfrm>
        </p:grpSpPr>
        <p:pic>
          <p:nvPicPr>
            <p:cNvPr id="163" name="" descr=""/>
            <p:cNvPicPr/>
            <p:nvPr/>
          </p:nvPicPr>
          <p:blipFill>
            <a:blip r:embed="rId7"/>
            <a:stretch/>
          </p:blipFill>
          <p:spPr>
            <a:xfrm>
              <a:off x="1270080" y="4633920"/>
              <a:ext cx="1854000" cy="13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952640" y="373392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solidFill>
              <a:srgbClr val="ffcc00"/>
            </a:solidFill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05280" y="5818320"/>
              <a:ext cx="2066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туральное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хозяйств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3276720" y="5181480"/>
            <a:ext cx="4267080" cy="990720"/>
            <a:chOff x="3276720" y="5181480"/>
            <a:chExt cx="4267080" cy="990720"/>
          </a:xfrm>
        </p:grpSpPr>
        <p:sp>
          <p:nvSpPr>
            <p:cNvPr id="167" name=""/>
            <p:cNvSpPr/>
            <p:nvPr/>
          </p:nvSpPr>
          <p:spPr>
            <a:xfrm>
              <a:off x="3276720" y="57150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4191120" y="5181480"/>
              <a:ext cx="3352680" cy="99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fbf00"/>
                      </a:gs>
                    </a:gsLst>
                    <a:lin ang="5400000"/>
                  </a:gradFill>
                  <a:latin typeface="Arial"/>
                </a:rPr>
                <a:t>Консерватизм,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fbf00"/>
                      </a:gs>
                    </a:gsLst>
                    <a:lin ang="5400000"/>
                  </a:gradFill>
                  <a:latin typeface="Arial"/>
                </a:rPr>
                <a:t>идеал "в прошлом"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КРЕСТЬЯНСТВО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038480" y="2971800"/>
            <a:ext cx="1600200" cy="1297800"/>
            <a:chOff x="4038480" y="2971800"/>
            <a:chExt cx="1600200" cy="129780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4038480" y="2971800"/>
              <a:ext cx="160020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4040640" y="3809880"/>
              <a:ext cx="158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рестьян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 txBox="1"/>
          <p:nvPr/>
        </p:nvSpPr>
        <p:spPr>
          <a:xfrm>
            <a:off x="1981080" y="1066680"/>
            <a:ext cx="55152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тношение  к крестьянам</a:t>
            </a:r>
            <a:endParaRPr b="0" lang="en-US" sz="2400" spc="1" strike="noStrike">
              <a:ln w="12600">
                <a:solidFill>
                  <a:srgbClr val="333399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ругих сословий</a:t>
            </a:r>
            <a:endParaRPr b="0" lang="en-US" sz="2400" spc="1" strike="noStrike">
              <a:ln w="12600">
                <a:solidFill>
                  <a:srgbClr val="333399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76320" y="2286000"/>
            <a:ext cx="1925640" cy="1491480"/>
            <a:chOff x="976320" y="2286000"/>
            <a:chExt cx="1925640" cy="1491480"/>
          </a:xfrm>
        </p:grpSpPr>
        <p:pic>
          <p:nvPicPr>
            <p:cNvPr id="175" name="" descr=""/>
            <p:cNvPicPr/>
            <p:nvPr/>
          </p:nvPicPr>
          <p:blipFill>
            <a:blip r:embed="rId2"/>
            <a:stretch/>
          </p:blipFill>
          <p:spPr>
            <a:xfrm>
              <a:off x="1447920" y="2286000"/>
              <a:ext cx="102528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976320" y="331776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уховенств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2590920" y="2819520"/>
            <a:ext cx="1371600" cy="838080"/>
          </a:xfrm>
          <a:prstGeom prst="line">
            <a:avLst/>
          </a:prstGeom>
          <a:ln w="76320">
            <a:solidFill>
              <a:srgbClr val="2213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5486400" y="2133720"/>
            <a:ext cx="2760120" cy="1294920"/>
            <a:chOff x="5486400" y="2133720"/>
            <a:chExt cx="2760120" cy="1294920"/>
          </a:xfrm>
        </p:grpSpPr>
        <p:sp>
          <p:nvSpPr>
            <p:cNvPr id="179" name=""/>
            <p:cNvSpPr/>
            <p:nvPr/>
          </p:nvSpPr>
          <p:spPr>
            <a:xfrm flipV="1">
              <a:off x="5486400" y="2742840"/>
              <a:ext cx="838080" cy="68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402960" y="2133720"/>
              <a:ext cx="184356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руд угоде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ог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5486400" y="3429000"/>
            <a:ext cx="3314520" cy="1219320"/>
            <a:chOff x="5486400" y="3429000"/>
            <a:chExt cx="3314520" cy="1219320"/>
          </a:xfrm>
        </p:grpSpPr>
        <p:sp>
          <p:nvSpPr>
            <p:cNvPr id="182" name=""/>
            <p:cNvSpPr/>
            <p:nvPr/>
          </p:nvSpPr>
          <p:spPr>
            <a:xfrm>
              <a:off x="6419520" y="3429000"/>
              <a:ext cx="2381400" cy="119124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правдан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уществующег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ряд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86400" y="3962520"/>
              <a:ext cx="762120" cy="68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762120" y="4478400"/>
            <a:ext cx="2895480" cy="1813680"/>
            <a:chOff x="762120" y="4478400"/>
            <a:chExt cx="2895480" cy="1813680"/>
          </a:xfrm>
        </p:grpSpPr>
        <p:pic>
          <p:nvPicPr>
            <p:cNvPr id="185" name="" descr=""/>
            <p:cNvPicPr/>
            <p:nvPr/>
          </p:nvPicPr>
          <p:blipFill>
            <a:blip r:embed="rId3"/>
            <a:stretch/>
          </p:blipFill>
          <p:spPr>
            <a:xfrm>
              <a:off x="762120" y="4478400"/>
              <a:ext cx="2895480" cy="1415880"/>
            </a:xfrm>
            <a:prstGeom prst="rect">
              <a:avLst/>
            </a:prstGeom>
            <a:ln w="9360">
              <a:solidFill>
                <a:srgbClr val="333399"/>
              </a:solidFill>
              <a:miter/>
            </a:ln>
          </p:spPr>
        </p:pic>
        <p:sp>
          <p:nvSpPr>
            <p:cNvPr id="186" name=""/>
            <p:cNvSpPr/>
            <p:nvPr/>
          </p:nvSpPr>
          <p:spPr>
            <a:xfrm>
              <a:off x="1266120" y="5832360"/>
              <a:ext cx="170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ыцарств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 flipV="1">
            <a:off x="3657600" y="4191120"/>
            <a:ext cx="838080" cy="1218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257800" y="4191120"/>
            <a:ext cx="2895480" cy="1297800"/>
            <a:chOff x="5257800" y="4191120"/>
            <a:chExt cx="2895480" cy="1297800"/>
          </a:xfrm>
        </p:grpSpPr>
        <p:sp>
          <p:nvSpPr>
            <p:cNvPr id="189" name=""/>
            <p:cNvSpPr/>
            <p:nvPr/>
          </p:nvSpPr>
          <p:spPr>
            <a:xfrm>
              <a:off x="5257800" y="4191120"/>
              <a:ext cx="1066680" cy="1066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40760" y="5029200"/>
              <a:ext cx="1712520" cy="45972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езрение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079880" y="4191120"/>
            <a:ext cx="1742760" cy="2425680"/>
            <a:chOff x="4079880" y="4191120"/>
            <a:chExt cx="1742760" cy="2425680"/>
          </a:xfrm>
        </p:grpSpPr>
        <p:sp>
          <p:nvSpPr>
            <p:cNvPr id="192" name=""/>
            <p:cNvSpPr/>
            <p:nvPr/>
          </p:nvSpPr>
          <p:spPr>
            <a:xfrm>
              <a:off x="4876920" y="4191120"/>
              <a:ext cx="0" cy="144756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79880" y="5791320"/>
              <a:ext cx="174276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Times New Roman"/>
                </a:rPr>
                <a:t>Согласны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Times New Roman"/>
                </a:rPr>
                <a:t>с порядко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ЦАРСТВО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143000" y="1143000"/>
            <a:ext cx="2895480" cy="1813680"/>
            <a:chOff x="1143000" y="1143000"/>
            <a:chExt cx="2895480" cy="1813680"/>
          </a:xfrm>
        </p:grpSpPr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1143000" y="1143000"/>
              <a:ext cx="2895480" cy="1415880"/>
            </a:xfrm>
            <a:prstGeom prst="rect">
              <a:avLst/>
            </a:prstGeom>
            <a:ln w="9360">
              <a:solidFill>
                <a:srgbClr val="333399"/>
              </a:solidFill>
              <a:miter/>
            </a:ln>
          </p:spPr>
        </p:pic>
        <p:sp>
          <p:nvSpPr>
            <p:cNvPr id="197" name=""/>
            <p:cNvSpPr/>
            <p:nvPr/>
          </p:nvSpPr>
          <p:spPr>
            <a:xfrm>
              <a:off x="1647000" y="2496960"/>
              <a:ext cx="170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ыцарств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114440" y="1219320"/>
            <a:ext cx="4442040" cy="1191240"/>
            <a:chOff x="4114440" y="1219320"/>
            <a:chExt cx="4442040" cy="1191240"/>
          </a:xfrm>
        </p:grpSpPr>
        <p:sp>
          <p:nvSpPr>
            <p:cNvPr id="199" name=""/>
            <p:cNvSpPr/>
            <p:nvPr/>
          </p:nvSpPr>
          <p:spPr>
            <a:xfrm>
              <a:off x="5376600" y="1219320"/>
              <a:ext cx="3179880" cy="119124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ичины появления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вторжение конниц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 Востока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114440" y="1828800"/>
              <a:ext cx="106668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990720" y="2895480"/>
            <a:ext cx="2752560" cy="1295640"/>
            <a:chOff x="990720" y="2895480"/>
            <a:chExt cx="2752560" cy="1295640"/>
          </a:xfrm>
        </p:grpSpPr>
        <p:sp>
          <p:nvSpPr>
            <p:cNvPr id="202" name=""/>
            <p:cNvSpPr/>
            <p:nvPr/>
          </p:nvSpPr>
          <p:spPr>
            <a:xfrm>
              <a:off x="2209680" y="2895480"/>
              <a:ext cx="304920" cy="609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cc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990720" y="3666960"/>
              <a:ext cx="275256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8440">
                    <a:solidFill>
                      <a:srgbClr val="a50021"/>
                    </a:solidFill>
                    <a:miter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"/>
                </a:rPr>
                <a:t>Те кто воюет</a:t>
              </a:r>
              <a:endParaRPr b="0" lang="en-US" sz="2400" spc="1" strike="noStrike">
                <a:ln w="2844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174560" y="2722680"/>
            <a:ext cx="3826440" cy="1239840"/>
            <a:chOff x="4174560" y="2722680"/>
            <a:chExt cx="3826440" cy="1239840"/>
          </a:xfrm>
        </p:grpSpPr>
        <p:sp>
          <p:nvSpPr>
            <p:cNvPr id="205" name=""/>
            <p:cNvSpPr/>
            <p:nvPr/>
          </p:nvSpPr>
          <p:spPr>
            <a:xfrm rot="18955800">
              <a:off x="4343400" y="2742840"/>
              <a:ext cx="304920" cy="609480"/>
            </a:xfrm>
            <a:prstGeom prst="downArrow">
              <a:avLst>
                <a:gd name="adj1" fmla="val 50000"/>
                <a:gd name="adj2" fmla="val 49970"/>
              </a:avLst>
            </a:prstGeom>
            <a:solidFill>
              <a:srgbClr val="ffffcc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4800600" y="3352680"/>
              <a:ext cx="320040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Те кто работает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797040" y="4267080"/>
            <a:ext cx="8103960" cy="1679040"/>
            <a:chOff x="797040" y="4267080"/>
            <a:chExt cx="8103960" cy="1679040"/>
          </a:xfrm>
        </p:grpSpPr>
        <p:sp>
          <p:nvSpPr>
            <p:cNvPr id="208" name=""/>
            <p:cNvSpPr/>
            <p:nvPr/>
          </p:nvSpPr>
          <p:spPr>
            <a:xfrm>
              <a:off x="2971800" y="4267080"/>
              <a:ext cx="1371600" cy="1067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7040" y="5486400"/>
              <a:ext cx="8103960" cy="459720"/>
            </a:xfrm>
            <a:prstGeom prst="rect">
              <a:avLst/>
            </a:prstGeom>
            <a:solidFill>
              <a:srgbClr val="000000"/>
            </a:solidFill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Мышление рыцарства</a:t>
              </a:r>
              <a:r>
                <a:rPr b="1" lang="ru-RU" sz="2400" spc="-1" strike="noStrike">
                  <a:solidFill>
                    <a:srgbClr val="ccffff"/>
                  </a:solidFill>
                  <a:latin typeface="Times New Roman"/>
                </a:rPr>
                <a:t>-сплав варварства и христианств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ЦАРСТВО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352680" y="2913120"/>
            <a:ext cx="2895480" cy="1813680"/>
            <a:chOff x="3352680" y="2913120"/>
            <a:chExt cx="2895480" cy="1813680"/>
          </a:xfrm>
        </p:grpSpPr>
        <p:pic>
          <p:nvPicPr>
            <p:cNvPr id="212" name="" descr=""/>
            <p:cNvPicPr/>
            <p:nvPr/>
          </p:nvPicPr>
          <p:blipFill>
            <a:blip r:embed="rId1"/>
            <a:stretch/>
          </p:blipFill>
          <p:spPr>
            <a:xfrm>
              <a:off x="3352680" y="2913120"/>
              <a:ext cx="2895480" cy="1415880"/>
            </a:xfrm>
            <a:prstGeom prst="rect">
              <a:avLst/>
            </a:prstGeom>
            <a:ln w="9360">
              <a:solidFill>
                <a:srgbClr val="333399"/>
              </a:solidFill>
              <a:miter/>
            </a:ln>
          </p:spPr>
        </p:pic>
        <p:sp>
          <p:nvSpPr>
            <p:cNvPr id="213" name=""/>
            <p:cNvSpPr/>
            <p:nvPr/>
          </p:nvSpPr>
          <p:spPr>
            <a:xfrm>
              <a:off x="3856680" y="4267080"/>
              <a:ext cx="170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ыцарств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 txBox="1"/>
          <p:nvPr/>
        </p:nvSpPr>
        <p:spPr>
          <a:xfrm>
            <a:off x="2819520" y="1066680"/>
            <a:ext cx="39621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система ценностей: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792720" y="1752480"/>
            <a:ext cx="2306880" cy="1842120"/>
            <a:chOff x="792720" y="1752480"/>
            <a:chExt cx="2306880" cy="1842120"/>
          </a:xfrm>
        </p:grpSpPr>
        <p:sp>
          <p:nvSpPr>
            <p:cNvPr id="216" name=""/>
            <p:cNvSpPr txBox="1"/>
            <p:nvPr/>
          </p:nvSpPr>
          <p:spPr>
            <a:xfrm>
              <a:off x="1066680" y="1752480"/>
              <a:ext cx="175284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8440">
                    <a:solidFill>
                      <a:srgbClr val="a50021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Доблесть</a:t>
              </a:r>
              <a:endParaRPr b="0" lang="en-US" sz="2400" spc="1" strike="noStrike">
                <a:ln w="28440">
                  <a:solidFill>
                    <a:srgbClr val="a50021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92720" y="2403360"/>
              <a:ext cx="2306880" cy="11912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мелость,пере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ходящая в без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ссудство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 txBox="1"/>
          <p:nvPr/>
        </p:nvSpPr>
        <p:spPr>
          <a:xfrm>
            <a:off x="3352680" y="1943280"/>
            <a:ext cx="2837160" cy="72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a50021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Благородство</a:t>
            </a:r>
            <a:endParaRPr b="1" lang="en-US" sz="2400" spc="1" strike="noStrike">
              <a:ln w="28440">
                <a:solidFill>
                  <a:srgbClr val="a50021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705720" y="2324160"/>
            <a:ext cx="2143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a50021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Учтивость</a:t>
            </a:r>
            <a:endParaRPr b="1" lang="en-US" sz="2400" spc="1" strike="noStrike">
              <a:ln w="28440">
                <a:solidFill>
                  <a:srgbClr val="a50021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28600" y="3733920"/>
            <a:ext cx="3216240" cy="1622160"/>
            <a:chOff x="228600" y="3733920"/>
            <a:chExt cx="3216240" cy="1622160"/>
          </a:xfrm>
        </p:grpSpPr>
        <p:sp>
          <p:nvSpPr>
            <p:cNvPr id="221" name=""/>
            <p:cNvSpPr txBox="1"/>
            <p:nvPr/>
          </p:nvSpPr>
          <p:spPr>
            <a:xfrm>
              <a:off x="854280" y="3733920"/>
              <a:ext cx="2133360" cy="68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a50021"/>
                    </a:solidFill>
                    <a:miter/>
                  </a:ln>
                  <a:gradFill rotWithShape="0">
                    <a:gsLst>
                      <a:gs pos="0">
                        <a:srgbClr val="520402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latin typeface="Arial"/>
                </a:rPr>
                <a:t>Вассалитет</a:t>
              </a:r>
              <a:endParaRPr b="1" lang="en-US" sz="2400" spc="1" strike="noStrike">
                <a:ln w="1908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8600" y="4530600"/>
              <a:ext cx="3216240" cy="8254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cc98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дчинение сеньору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бота о вассал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1295280" y="5638680"/>
            <a:ext cx="1981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Щедрость и </a:t>
            </a:r>
            <a:endParaRPr b="1" lang="en-US" sz="2400" spc="1" strike="noStrike">
              <a:ln w="1260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мотовство</a:t>
            </a:r>
            <a:endParaRPr b="1" lang="en-US" sz="2400" spc="1" strike="noStrike">
              <a:ln w="1260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733920" y="5105520"/>
            <a:ext cx="2165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Поклонение </a:t>
            </a:r>
            <a:endParaRPr b="1" lang="en-US" sz="2400" spc="1" strike="noStrike">
              <a:ln w="1908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оружию</a:t>
            </a:r>
            <a:endParaRPr b="1" lang="en-US" sz="2400" spc="1" strike="noStrike">
              <a:ln w="1908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6400800" y="3086280"/>
            <a:ext cx="2362320" cy="1907280"/>
            <a:chOff x="6400800" y="3086280"/>
            <a:chExt cx="2362320" cy="1907280"/>
          </a:xfrm>
        </p:grpSpPr>
        <p:sp>
          <p:nvSpPr>
            <p:cNvPr id="226" name=""/>
            <p:cNvSpPr txBox="1"/>
            <p:nvPr/>
          </p:nvSpPr>
          <p:spPr>
            <a:xfrm>
              <a:off x="6400800" y="3086280"/>
              <a:ext cx="2362320" cy="140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8440">
                    <a:solidFill>
                      <a:srgbClr val="a50021"/>
                    </a:solidFill>
                    <a:miter/>
                  </a:ln>
                  <a:blipFill rotWithShape="0">
                    <a:blip r:embed="rId8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Культ</a:t>
              </a:r>
              <a:endParaRPr b="1" lang="en-US" sz="2400" spc="1" strike="noStrike">
                <a:ln w="28440">
                  <a:solidFill>
                    <a:srgbClr val="a50021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8440">
                    <a:solidFill>
                      <a:srgbClr val="a50021"/>
                    </a:solidFill>
                    <a:miter/>
                  </a:ln>
                  <a:blipFill rotWithShape="0">
                    <a:blip r:embed="rId10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прекрасной</a:t>
              </a:r>
              <a:endParaRPr b="1" lang="en-US" sz="2400" spc="1" strike="noStrike">
                <a:ln w="28440">
                  <a:solidFill>
                    <a:srgbClr val="a50021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8440">
                    <a:solidFill>
                      <a:srgbClr val="a50021"/>
                    </a:solidFill>
                    <a:miter/>
                  </a:ln>
                  <a:blipFill rotWithShape="0">
                    <a:blip r:embed="rId1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дамы</a:t>
              </a:r>
              <a:endParaRPr b="1" lang="en-US" sz="2400" spc="1" strike="noStrike">
                <a:ln w="28440">
                  <a:solidFill>
                    <a:srgbClr val="a50021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86000" y="4533840"/>
              <a:ext cx="1803960" cy="459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о не жен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 txBox="1"/>
          <p:nvPr/>
        </p:nvSpPr>
        <p:spPr>
          <a:xfrm>
            <a:off x="6324480" y="5181480"/>
            <a:ext cx="22860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Месть за </a:t>
            </a:r>
            <a:endParaRPr b="1" lang="en-US" sz="2400" spc="1" strike="noStrike">
              <a:ln w="1260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оскорбление</a:t>
            </a:r>
            <a:endParaRPr b="1" lang="en-US" sz="2400" spc="1" strike="noStrike">
              <a:ln w="1260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родственника</a:t>
            </a:r>
            <a:endParaRPr b="1" lang="en-US" sz="2400" spc="1" strike="noStrike">
              <a:ln w="1260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ДУХОВЕНСТВО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220760" y="1143000"/>
            <a:ext cx="1925640" cy="1491480"/>
            <a:chOff x="1220760" y="1143000"/>
            <a:chExt cx="1925640" cy="1491480"/>
          </a:xfrm>
        </p:grpSpPr>
        <p:pic>
          <p:nvPicPr>
            <p:cNvPr id="231" name="" descr=""/>
            <p:cNvPicPr/>
            <p:nvPr/>
          </p:nvPicPr>
          <p:blipFill>
            <a:blip r:embed="rId1"/>
            <a:stretch/>
          </p:blipFill>
          <p:spPr>
            <a:xfrm>
              <a:off x="1692360" y="1143000"/>
              <a:ext cx="102528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1220760" y="217476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уховенств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895480" y="1409760"/>
            <a:ext cx="4551480" cy="647640"/>
            <a:chOff x="2895480" y="1409760"/>
            <a:chExt cx="4551480" cy="647640"/>
          </a:xfrm>
        </p:grpSpPr>
        <p:sp>
          <p:nvSpPr>
            <p:cNvPr id="234" name=""/>
            <p:cNvSpPr txBox="1"/>
            <p:nvPr/>
          </p:nvSpPr>
          <p:spPr>
            <a:xfrm>
              <a:off x="3886200" y="1409760"/>
              <a:ext cx="356076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a50021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разнопланово</a:t>
              </a:r>
              <a:endParaRPr b="1" lang="en-US" sz="24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1866960"/>
              <a:ext cx="83844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1066680" y="2209680"/>
            <a:ext cx="3733920" cy="1328760"/>
            <a:chOff x="1066680" y="2209680"/>
            <a:chExt cx="3733920" cy="1328760"/>
          </a:xfrm>
        </p:grpSpPr>
        <p:sp>
          <p:nvSpPr>
            <p:cNvPr id="237" name=""/>
            <p:cNvSpPr txBox="1"/>
            <p:nvPr/>
          </p:nvSpPr>
          <p:spPr>
            <a:xfrm>
              <a:off x="1066680" y="2819520"/>
              <a:ext cx="3733920" cy="71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221304"/>
                    </a:solidFill>
                    <a:miter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latin typeface="Times New Roman"/>
                </a:rPr>
                <a:t>Папы и отшельники</a:t>
              </a:r>
              <a:endParaRPr b="0" lang="en-US" sz="2400" spc="1" strike="noStrike">
                <a:ln w="9360">
                  <a:solidFill>
                    <a:srgbClr val="221304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Times New Roman"/>
                <a:ea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2209680"/>
              <a:ext cx="380880" cy="685800"/>
            </a:xfrm>
            <a:prstGeom prst="downArrow">
              <a:avLst>
                <a:gd name="adj1" fmla="val 50000"/>
                <a:gd name="adj2" fmla="val 45014"/>
              </a:avLst>
            </a:prstGeom>
            <a:solidFill>
              <a:srgbClr val="ffcc00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124600" y="2209680"/>
            <a:ext cx="3714480" cy="1371600"/>
            <a:chOff x="5124600" y="2209680"/>
            <a:chExt cx="3714480" cy="1371600"/>
          </a:xfrm>
        </p:grpSpPr>
        <p:sp>
          <p:nvSpPr>
            <p:cNvPr id="240" name=""/>
            <p:cNvSpPr txBox="1"/>
            <p:nvPr/>
          </p:nvSpPr>
          <p:spPr>
            <a:xfrm>
              <a:off x="5124600" y="3009960"/>
              <a:ext cx="37144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Святые и интриганы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010280" y="2209680"/>
              <a:ext cx="381240" cy="685800"/>
            </a:xfrm>
            <a:prstGeom prst="downArrow">
              <a:avLst>
                <a:gd name="adj1" fmla="val 50000"/>
                <a:gd name="adj2" fmla="val 44972"/>
              </a:avLst>
            </a:prstGeom>
            <a:solidFill>
              <a:srgbClr val="ffcc00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881280" y="4191120"/>
            <a:ext cx="7881480" cy="459720"/>
          </a:xfrm>
          <a:prstGeom prst="rect">
            <a:avLst/>
          </a:prstGeom>
          <a:solidFill>
            <a:srgbClr val="000066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Отличительная черта-открытость для других сослов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914400" y="4800600"/>
            <a:ext cx="7867800" cy="1428840"/>
            <a:chOff x="914400" y="4800600"/>
            <a:chExt cx="7867800" cy="1428840"/>
          </a:xfrm>
        </p:grpSpPr>
        <p:sp>
          <p:nvSpPr>
            <p:cNvPr id="244" name=""/>
            <p:cNvSpPr txBox="1"/>
            <p:nvPr/>
          </p:nvSpPr>
          <p:spPr>
            <a:xfrm>
              <a:off x="914400" y="5181480"/>
              <a:ext cx="7867800" cy="1047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9080">
                    <a:solidFill>
                      <a:srgbClr val="a50021"/>
                    </a:solidFill>
                    <a:miter/>
                  </a:ln>
                  <a:gradFill rotWithShape="0">
                    <a:gsLst>
                      <a:gs pos="0">
                        <a:srgbClr val="fc9fcb"/>
                      </a:gs>
                      <a:gs pos="100000">
                        <a:srgbClr val="f8b049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Христианство-основа объединения</a:t>
              </a:r>
              <a:endParaRPr b="0" i="1" lang="en-US" sz="2400" spc="1" strike="noStrike">
                <a:ln w="1908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76920" y="4800600"/>
              <a:ext cx="0" cy="53352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МОНАРХИЯ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3687120" y="2362320"/>
            <a:ext cx="2026440" cy="2100960"/>
            <a:chOff x="3687120" y="2362320"/>
            <a:chExt cx="2026440" cy="2100960"/>
          </a:xfrm>
        </p:grpSpPr>
        <p:pic>
          <p:nvPicPr>
            <p:cNvPr id="248" name="" descr=""/>
            <p:cNvPicPr/>
            <p:nvPr/>
          </p:nvPicPr>
          <p:blipFill>
            <a:blip r:embed="rId1"/>
            <a:stretch/>
          </p:blipFill>
          <p:spPr>
            <a:xfrm>
              <a:off x="4341600" y="2362320"/>
              <a:ext cx="917640" cy="172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3687120" y="4003560"/>
              <a:ext cx="202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ОНАРХ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 txBox="1"/>
          <p:nvPr/>
        </p:nvSpPr>
        <p:spPr>
          <a:xfrm>
            <a:off x="2057400" y="1371600"/>
            <a:ext cx="1971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РАГИ-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ЕОДАЛ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257800" y="1295280"/>
            <a:ext cx="2333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ДДЕРЖК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РОДОВ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895480" y="5257800"/>
            <a:ext cx="4114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ИЦИАТИВА ОТМЕН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ЕПОСТНОГО ПРАВ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3581280"/>
            <a:ext cx="2971800" cy="13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ОЖЕСТВЕННОСТЬ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ЛАСТ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791320" y="2895480"/>
            <a:ext cx="292392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ТОЧНИК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АБИЛЬНОСТ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ЕСТВ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ХРИСТИАНСКОЕ СРЕДНЕВЕКОВОЕ МИРОВОЗЗРЕНИЕ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143720" y="1295280"/>
            <a:ext cx="1669680" cy="1720440"/>
            <a:chOff x="1143720" y="1295280"/>
            <a:chExt cx="1669680" cy="1720440"/>
          </a:xfrm>
        </p:grpSpPr>
        <p:pic>
          <p:nvPicPr>
            <p:cNvPr id="257" name="" descr=""/>
            <p:cNvPicPr/>
            <p:nvPr/>
          </p:nvPicPr>
          <p:blipFill>
            <a:blip r:embed="rId1"/>
            <a:stretch/>
          </p:blipFill>
          <p:spPr>
            <a:xfrm>
              <a:off x="1625400" y="1295280"/>
              <a:ext cx="7081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1143720" y="255600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ЦЕРКОВ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743200" y="1447920"/>
            <a:ext cx="5791320" cy="1218960"/>
            <a:chOff x="2743200" y="1447920"/>
            <a:chExt cx="5791320" cy="1218960"/>
          </a:xfrm>
        </p:grpSpPr>
        <p:sp>
          <p:nvSpPr>
            <p:cNvPr id="260" name=""/>
            <p:cNvSpPr txBox="1"/>
            <p:nvPr/>
          </p:nvSpPr>
          <p:spPr>
            <a:xfrm>
              <a:off x="3562200" y="1447920"/>
              <a:ext cx="4972320" cy="1218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375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ОСНОВА МИРОВОЗЗРЕНИЯ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43200" y="1905120"/>
              <a:ext cx="685800" cy="304560"/>
            </a:xfrm>
            <a:prstGeom prst="rightArrow">
              <a:avLst>
                <a:gd name="adj1" fmla="val 50000"/>
                <a:gd name="adj2" fmla="val 56294"/>
              </a:avLst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50880" y="2743200"/>
            <a:ext cx="2930040" cy="2823840"/>
            <a:chOff x="650880" y="2743200"/>
            <a:chExt cx="2930040" cy="2823840"/>
          </a:xfrm>
        </p:grpSpPr>
        <p:sp>
          <p:nvSpPr>
            <p:cNvPr id="263" name=""/>
            <p:cNvSpPr/>
            <p:nvPr/>
          </p:nvSpPr>
          <p:spPr>
            <a:xfrm>
              <a:off x="650880" y="4010040"/>
              <a:ext cx="2801880" cy="155700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ир-арена борьб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ежду «божьим» 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«дьявольским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мыслам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133360" y="2743200"/>
              <a:ext cx="1447560" cy="106668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3353400" y="2362320"/>
            <a:ext cx="2873520" cy="4042440"/>
            <a:chOff x="3353400" y="2362320"/>
            <a:chExt cx="2873520" cy="4042440"/>
          </a:xfrm>
        </p:grpSpPr>
        <p:grpSp>
          <p:nvGrpSpPr>
            <p:cNvPr id="266" name=""/>
            <p:cNvGrpSpPr/>
            <p:nvPr/>
          </p:nvGrpSpPr>
          <p:grpSpPr>
            <a:xfrm>
              <a:off x="3353400" y="3657600"/>
              <a:ext cx="2873520" cy="2747160"/>
              <a:chOff x="3353400" y="3657600"/>
              <a:chExt cx="2873520" cy="2747160"/>
            </a:xfrm>
          </p:grpSpPr>
          <p:pic>
            <p:nvPicPr>
              <p:cNvPr id="26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114800" y="3657600"/>
                <a:ext cx="1311120" cy="1638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886200" y="3792600"/>
                <a:ext cx="817560" cy="105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" name=""/>
              <p:cNvSpPr/>
              <p:nvPr/>
            </p:nvSpPr>
            <p:spPr>
              <a:xfrm>
                <a:off x="3353400" y="5213520"/>
                <a:ext cx="2873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Реальность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сверхестественного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мир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 flipH="1">
              <a:off x="5028840" y="2362320"/>
              <a:ext cx="609480" cy="152388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138360" y="2438280"/>
            <a:ext cx="2698200" cy="2823480"/>
            <a:chOff x="6138360" y="2438280"/>
            <a:chExt cx="2698200" cy="2823480"/>
          </a:xfrm>
        </p:grpSpPr>
        <p:sp>
          <p:nvSpPr>
            <p:cNvPr id="272" name=""/>
            <p:cNvSpPr/>
            <p:nvPr/>
          </p:nvSpPr>
          <p:spPr>
            <a:xfrm>
              <a:off x="6138360" y="4070520"/>
              <a:ext cx="2698200" cy="119124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вязь важнейши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бытий эпохи 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христианство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162920" y="2438280"/>
              <a:ext cx="685800" cy="152424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3T09:16:50Z</dcterms:created>
  <dc:creator>elior</dc:creator>
  <dc:description/>
  <dc:language>en-US</dc:language>
  <cp:lastModifiedBy>Чернов Алексей</cp:lastModifiedBy>
  <dcterms:modified xsi:type="dcterms:W3CDTF">2002-04-17T16:56:48Z</dcterms:modified>
  <cp:revision>33</cp:revision>
  <dc:subject/>
  <dc:title>ОСОБЕННОСТИ ДРЕВНИХ ЦИВИЛИЗАЦИЙ.</dc:title>
</cp:coreProperties>
</file>