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26.png" ContentType="image/png"/>
  <Override PartName="/ppt/media/image10.png" ContentType="image/png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6.png" ContentType="image/png"/>
  <Override PartName="/ppt/media/image5.jpeg" ContentType="image/jpeg"/>
  <Override PartName="/ppt/media/image18.wmf" ContentType="image/x-wmf"/>
  <Override PartName="/ppt/media/image20.wmf" ContentType="image/x-wmf"/>
  <Override PartName="/ppt/media/image13.jpeg" ContentType="image/jpeg"/>
  <Override PartName="/ppt/media/image23.png" ContentType="image/png"/>
  <Override PartName="/ppt/media/image28.png" ContentType="image/png"/>
  <Override PartName="/ppt/media/image27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E21D-1058-4FC1-87E7-0C3F55607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4679-4FDF-4B21-A9B7-0F2D367B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3F44-E971-4C07-B9FB-DCED75021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8592-7CFF-4A27-9F4E-66820898E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7B8E-6F6C-4895-A5D5-ED1AD8160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764CE-168B-47FE-B1A2-EB48520B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0A5F-BA04-49A5-85CB-741CCEE8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AA00-85DF-4923-9288-58307364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7ED4-AED5-4C59-992E-4F6EF3AC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9F36A-0FDB-40D8-B420-2E43AD94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B448-2C5E-4914-9A33-C6A4DD08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0110-4E4F-44C5-A831-D2CF2A02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BCBF-1306-4191-91C6-6CD60CAB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E7178-F2AB-4105-AC3D-4FEB947A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F084-6DFB-4436-A34E-C6A3CCDB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5BB6-32ED-49B2-A192-D035A73A7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596E-2396-4984-8E5E-5FEABE7E1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4FEB-820C-4A11-8E81-1EA45141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928A-6C8A-49D1-B52B-BCD4CF32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795B-D0FF-4F83-BCB0-933CADC1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D0D7-5436-48DA-9796-0A352539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EF6F-BD2A-427D-B078-1606F9AD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45AB-993E-4512-80E7-14182299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8873-203C-447A-B07D-065FCD71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8E33-D435-4B08-A559-20EB1B10BEF8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5FF8-314C-460C-ADD3-BA406AD55F84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6.png"/><Relationship Id="rId4" Type="http://schemas.openxmlformats.org/officeDocument/2006/relationships/image" Target="../media/image12.wmf"/><Relationship Id="rId5" Type="http://schemas.openxmlformats.org/officeDocument/2006/relationships/image" Target="../media/image13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jpe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a50021"/>
                </a:solidFill>
                <a:uFillTx/>
                <a:latin typeface="Times New Roman"/>
              </a:rPr>
              <a:t>Древние мыслители </a:t>
            </a:r>
            <a:br>
              <a:rPr sz="4400"/>
            </a:br>
            <a:r>
              <a:rPr b="1" lang="ru-RU" sz="4400" spc="-1" strike="noStrike" u="sng">
                <a:solidFill>
                  <a:srgbClr val="a50021"/>
                </a:solidFill>
                <a:uFillTx/>
                <a:latin typeface="Times New Roman"/>
              </a:rPr>
              <a:t>о мире и человеке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160" y="76320"/>
            <a:ext cx="8458200" cy="45720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Платон и Аристотель об обществе и государстве.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34600" y="3276720"/>
            <a:ext cx="2672640" cy="1107360"/>
            <a:chOff x="534600" y="3276720"/>
            <a:chExt cx="2672640" cy="1107360"/>
          </a:xfrm>
        </p:grpSpPr>
        <p:sp>
          <p:nvSpPr>
            <p:cNvPr id="237" name=""/>
            <p:cNvSpPr txBox="1"/>
            <p:nvPr/>
          </p:nvSpPr>
          <p:spPr>
            <a:xfrm>
              <a:off x="609480" y="3276720"/>
              <a:ext cx="24289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8440">
                    <a:solidFill>
                      <a:srgbClr val="a50021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Аристотель</a:t>
              </a:r>
              <a:endParaRPr b="1" lang="en-US" sz="2400" spc="1" strike="noStrike">
                <a:ln w="28440">
                  <a:solidFill>
                    <a:srgbClr val="a50021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34600" y="3924360"/>
              <a:ext cx="26726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(384-322 гг.до н.э.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3697200" y="762120"/>
            <a:ext cx="5313600" cy="825480"/>
          </a:xfrm>
          <a:prstGeom prst="rect">
            <a:avLst/>
          </a:prstGeom>
          <a:solidFill>
            <a:srgbClr val="ffffcc"/>
          </a:solidFill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обществе существуют: семья, селе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ние,государство,которое выше всег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697560" y="2516040"/>
            <a:ext cx="534564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Опора общества-средние слои.Бедня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ки-люди «второй категории».Бога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тые-возможно нечест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701520" y="4635360"/>
            <a:ext cx="5292360" cy="1922760"/>
          </a:xfrm>
          <a:prstGeom prst="rect">
            <a:avLst/>
          </a:prstGeom>
          <a:solidFill>
            <a:srgbClr val="ffffcc"/>
          </a:solidFill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Задачи государств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-недопущения чрезмерной личн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ласти,излишнего накоплени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-удержание в повиновении рабов.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97164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cc00"/>
                </a:solidFill>
                <a:uFillTx/>
                <a:latin typeface="Times New Roman"/>
              </a:rPr>
              <a:t>Мифы древности</a:t>
            </a: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114800" y="2895480"/>
            <a:ext cx="1055520" cy="25624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1295280" y="1600200"/>
            <a:ext cx="27082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Как возникл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общество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486400" y="1447920"/>
            <a:ext cx="29242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Как обществ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развивается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95480" y="4876920"/>
            <a:ext cx="3095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Каковы ег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перспективы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979880" y="3544920"/>
            <a:ext cx="3980160" cy="2274840"/>
            <a:chOff x="4979880" y="3544920"/>
            <a:chExt cx="3980160" cy="2274840"/>
          </a:xfrm>
        </p:grpSpPr>
        <p:grpSp>
          <p:nvGrpSpPr>
            <p:cNvPr id="122" name=""/>
            <p:cNvGrpSpPr/>
            <p:nvPr/>
          </p:nvGrpSpPr>
          <p:grpSpPr>
            <a:xfrm>
              <a:off x="5181480" y="3544920"/>
              <a:ext cx="3429000" cy="1255680"/>
              <a:chOff x="5181480" y="3544920"/>
              <a:chExt cx="3429000" cy="1255680"/>
            </a:xfrm>
          </p:grpSpPr>
          <p:sp>
            <p:nvSpPr>
              <p:cNvPr id="123" name=""/>
              <p:cNvSpPr/>
              <p:nvPr/>
            </p:nvSpPr>
            <p:spPr>
              <a:xfrm>
                <a:off x="5181480" y="3886200"/>
                <a:ext cx="976320" cy="485640"/>
              </a:xfrm>
              <a:prstGeom prst="rightArrow">
                <a:avLst>
                  <a:gd name="adj1" fmla="val 50000"/>
                  <a:gd name="adj2" fmla="val 50259"/>
                </a:avLst>
              </a:prstGeom>
              <a:solidFill>
                <a:srgbClr val="006600"/>
              </a:solidFill>
              <a:ln w="572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 txBox="1"/>
              <p:nvPr/>
            </p:nvSpPr>
            <p:spPr>
              <a:xfrm>
                <a:off x="6400800" y="3544920"/>
                <a:ext cx="2209680" cy="1255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scadeUp">
                  <a:avLst>
                    <a:gd name="adj" fmla="val 44444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e701"/>
                        </a:gs>
                        <a:gs pos="100000">
                          <a:srgbClr val="fe3e02"/>
                        </a:gs>
                      </a:gsLst>
                      <a:lin ang="5400000"/>
                    </a:gradFill>
                    <a:latin typeface="Impact"/>
                  </a:rPr>
                  <a:t>Миф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  <a:ea typeface="Impact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979880" y="4994280"/>
              <a:ext cx="3980160" cy="825480"/>
            </a:xfrm>
            <a:prstGeom prst="rect">
              <a:avLst/>
            </a:prstGeom>
            <a:solidFill>
              <a:srgbClr val="ccec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ифология-миф(предание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огос(учение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97164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cc00"/>
                </a:solidFill>
                <a:uFillTx/>
                <a:latin typeface="Times New Roman"/>
              </a:rPr>
              <a:t>Мифы древности</a:t>
            </a: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95280" y="1523880"/>
            <a:ext cx="3276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Миф-древнейшее </a:t>
            </a:r>
            <a:endParaRPr b="0" lang="en-US" sz="24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мировоззрение</a:t>
            </a:r>
            <a:endParaRPr b="0" lang="en-US" sz="24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715000" y="2066760"/>
            <a:ext cx="2533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Идеи мифов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371600" y="2286000"/>
            <a:ext cx="4191120" cy="3371760"/>
            <a:chOff x="1371600" y="2286000"/>
            <a:chExt cx="4191120" cy="3371760"/>
          </a:xfrm>
        </p:grpSpPr>
        <p:grpSp>
          <p:nvGrpSpPr>
            <p:cNvPr id="130" name=""/>
            <p:cNvGrpSpPr/>
            <p:nvPr/>
          </p:nvGrpSpPr>
          <p:grpSpPr>
            <a:xfrm>
              <a:off x="1371600" y="2286000"/>
              <a:ext cx="4191120" cy="1486080"/>
              <a:chOff x="1371600" y="2286000"/>
              <a:chExt cx="4191120" cy="1486080"/>
            </a:xfrm>
          </p:grpSpPr>
          <p:sp>
            <p:nvSpPr>
              <p:cNvPr id="131" name=""/>
              <p:cNvSpPr txBox="1"/>
              <p:nvPr/>
            </p:nvSpPr>
            <p:spPr>
              <a:xfrm>
                <a:off x="1371600" y="3200400"/>
                <a:ext cx="2990880" cy="571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Impact"/>
                  </a:rPr>
                  <a:t>идея творения</a:t>
                </a:r>
                <a:endPara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4495680" y="2286000"/>
                <a:ext cx="1067040" cy="838080"/>
              </a:xfrm>
              <a:prstGeom prst="line">
                <a:avLst/>
              </a:prstGeom>
              <a:ln w="7632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33" name="" descr=""/>
            <p:cNvPicPr/>
            <p:nvPr/>
          </p:nvPicPr>
          <p:blipFill>
            <a:blip r:embed="rId7">
              <a:lum bright="12000"/>
            </a:blip>
            <a:stretch/>
          </p:blipFill>
          <p:spPr>
            <a:xfrm>
              <a:off x="2209680" y="4038480"/>
              <a:ext cx="1428840" cy="1619280"/>
            </a:xfrm>
            <a:prstGeom prst="rect">
              <a:avLst/>
            </a:prstGeom>
            <a:ln w="57240">
              <a:solidFill>
                <a:srgbClr val="a50021"/>
              </a:solidFill>
              <a:miter/>
            </a:ln>
          </p:spPr>
        </p:pic>
      </p:grpSp>
      <p:grpSp>
        <p:nvGrpSpPr>
          <p:cNvPr id="134" name=""/>
          <p:cNvGrpSpPr/>
          <p:nvPr/>
        </p:nvGrpSpPr>
        <p:grpSpPr>
          <a:xfrm>
            <a:off x="5257800" y="2514600"/>
            <a:ext cx="3362400" cy="3543480"/>
            <a:chOff x="5257800" y="2514600"/>
            <a:chExt cx="3362400" cy="3543480"/>
          </a:xfrm>
        </p:grpSpPr>
        <p:grpSp>
          <p:nvGrpSpPr>
            <p:cNvPr id="135" name=""/>
            <p:cNvGrpSpPr/>
            <p:nvPr/>
          </p:nvGrpSpPr>
          <p:grpSpPr>
            <a:xfrm>
              <a:off x="5638680" y="2514600"/>
              <a:ext cx="2981520" cy="1252440"/>
              <a:chOff x="5638680" y="2514600"/>
              <a:chExt cx="2981520" cy="1252440"/>
            </a:xfrm>
          </p:grpSpPr>
          <p:sp>
            <p:nvSpPr>
              <p:cNvPr id="136" name=""/>
              <p:cNvSpPr txBox="1"/>
              <p:nvPr/>
            </p:nvSpPr>
            <p:spPr>
              <a:xfrm>
                <a:off x="5638680" y="3200400"/>
                <a:ext cx="2981520" cy="566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SlantUp">
                  <a:avLst>
                    <a:gd name="adj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cc99ff"/>
                      </a:solidFill>
                      <a:miter/>
                    </a:ln>
                    <a:gradFill rotWithShape="0">
                      <a:gsLst>
                        <a:gs pos="0">
                          <a:srgbClr val="6600cc"/>
                        </a:gs>
                        <a:gs pos="100000">
                          <a:srgbClr val="cc00cc"/>
                        </a:gs>
                      </a:gsLst>
                      <a:lin ang="5400000"/>
                    </a:gradFill>
                    <a:effectLst>
                      <a:outerShdw dist="53966" dir="2700000" blurRad="0" rotWithShape="0">
                        <a:srgbClr val="9999ff"/>
                      </a:outerShdw>
                    </a:effectLst>
                    <a:latin typeface="Impact"/>
                  </a:rPr>
                  <a:t>идея развития</a:t>
                </a:r>
                <a:endParaRPr b="0" lang="en-US" sz="2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162920" y="2514600"/>
                <a:ext cx="0" cy="609480"/>
              </a:xfrm>
              <a:prstGeom prst="line">
                <a:avLst/>
              </a:prstGeom>
              <a:ln w="7632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5257800" y="4191120"/>
              <a:ext cx="3295800" cy="1866960"/>
              <a:chOff x="5257800" y="4191120"/>
              <a:chExt cx="3295800" cy="1866960"/>
            </a:xfrm>
          </p:grpSpPr>
          <p:pic>
            <p:nvPicPr>
              <p:cNvPr id="1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257800" y="4419720"/>
                <a:ext cx="955800" cy="954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315200" y="4191120"/>
                <a:ext cx="1238400" cy="126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>
                <a:off x="6324480" y="4876920"/>
                <a:ext cx="914400" cy="0"/>
              </a:xfrm>
              <a:prstGeom prst="line">
                <a:avLst/>
              </a:prstGeom>
              <a:ln w="7632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 txBox="1"/>
              <p:nvPr/>
            </p:nvSpPr>
            <p:spPr>
              <a:xfrm>
                <a:off x="5334120" y="5181480"/>
                <a:ext cx="1819080" cy="876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urveUp">
                  <a:avLst>
                    <a:gd name="adj" fmla="val 40356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1260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0"/>
                      <a:srcRect/>
                      <a:tile tx="0" ty="0" sx="100000" sy="100000" algn="ctr"/>
                    </a:blipFill>
                    <a:effectLst>
                      <a:outerShdw dist="40186" dir="1096358" blurRad="0" rotWithShape="0">
                        <a:srgbClr val="808080"/>
                      </a:outerShdw>
                    </a:effectLst>
                    <a:latin typeface="Arial"/>
                  </a:rPr>
                  <a:t>из хаоса</a:t>
                </a:r>
                <a:endPara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blipFill rotWithShape="0">
                    <a:blip r:embed="rId11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"/>
                  <a:ea typeface="Arial"/>
                </a:endParaRPr>
              </a:p>
            </p:txBody>
          </p:sp>
        </p:grpSp>
      </p:grpSp>
      <p:sp>
        <p:nvSpPr>
          <p:cNvPr id="143" name=""/>
          <p:cNvSpPr txBox="1"/>
          <p:nvPr/>
        </p:nvSpPr>
        <p:spPr>
          <a:xfrm>
            <a:off x="1219320" y="5867280"/>
            <a:ext cx="342900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Происхождение </a:t>
            </a:r>
            <a:endParaRPr b="1" i="1" lang="en-US" sz="2400" spc="1" strike="noStrike">
              <a:ln w="936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мира</a:t>
            </a:r>
            <a:endParaRPr b="1" i="1" lang="en-US" sz="2400" spc="1" strike="noStrike">
              <a:ln w="936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43812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cc00"/>
                </a:solidFill>
                <a:uFillTx/>
                <a:latin typeface="Times New Roman"/>
              </a:rPr>
              <a:t>Древнеиндийские веды.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511240" y="5715000"/>
            <a:ext cx="3286800" cy="825480"/>
          </a:xfrm>
          <a:prstGeom prst="rect">
            <a:avLst/>
          </a:prstGeom>
          <a:solidFill>
            <a:srgbClr val="ccecff"/>
          </a:solidFill>
          <a:ln w="76320">
            <a:solidFill>
              <a:srgbClr val="221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еды-сборник текс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(1500-600 гг. до н.э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447920" y="638280"/>
            <a:ext cx="1866960" cy="1876320"/>
            <a:chOff x="1447920" y="638280"/>
            <a:chExt cx="1866960" cy="1876320"/>
          </a:xfrm>
        </p:grpSpPr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1447920" y="638280"/>
              <a:ext cx="1866960" cy="18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 txBox="1"/>
            <p:nvPr/>
          </p:nvSpPr>
          <p:spPr>
            <a:xfrm>
              <a:off x="1676520" y="1247760"/>
              <a:ext cx="14475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221304"/>
                    </a:solidFill>
                    <a:miter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"/>
                </a:rPr>
                <a:t>нечто</a:t>
              </a:r>
              <a:endParaRPr b="0" lang="en-US" sz="2400" spc="1" strike="noStrike">
                <a:ln w="9360">
                  <a:solidFill>
                    <a:srgbClr val="221304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429000" y="1019160"/>
            <a:ext cx="4915080" cy="1047600"/>
            <a:chOff x="3429000" y="1019160"/>
            <a:chExt cx="4915080" cy="1047600"/>
          </a:xfrm>
        </p:grpSpPr>
        <p:sp>
          <p:nvSpPr>
            <p:cNvPr id="150" name=""/>
            <p:cNvSpPr txBox="1"/>
            <p:nvPr/>
          </p:nvSpPr>
          <p:spPr>
            <a:xfrm>
              <a:off x="3657600" y="1019160"/>
              <a:ext cx="4686480" cy="1047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0000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начало-</a:t>
              </a:r>
              <a:endPara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0000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жертвоприношение</a:t>
              </a:r>
              <a:endPara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29000" y="1095480"/>
              <a:ext cx="160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994320" y="2666880"/>
            <a:ext cx="3479400" cy="4194360"/>
            <a:chOff x="994320" y="2666880"/>
            <a:chExt cx="3479400" cy="4194360"/>
          </a:xfrm>
        </p:grpSpPr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>
              <a:off x="1219320" y="2666880"/>
              <a:ext cx="32544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994320" y="6035760"/>
              <a:ext cx="3267000" cy="825480"/>
            </a:xfrm>
            <a:prstGeom prst="rect">
              <a:avLst/>
            </a:prstGeom>
            <a:solidFill>
              <a:srgbClr val="cce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осмический велика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уруш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1447920" y="4343400"/>
            <a:ext cx="2133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449568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3124080" y="4495320"/>
            <a:ext cx="45720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57400" y="54864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590920" y="5486400"/>
            <a:ext cx="228600" cy="7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1280" y="4648320"/>
            <a:ext cx="152640" cy="380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429000" y="2057400"/>
            <a:ext cx="1828800" cy="1371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861720" y="2666880"/>
            <a:ext cx="2367720" cy="2863440"/>
            <a:chOff x="3861720" y="2666880"/>
            <a:chExt cx="2367720" cy="2863440"/>
          </a:xfrm>
        </p:grpSpPr>
        <p:sp>
          <p:nvSpPr>
            <p:cNvPr id="163" name=""/>
            <p:cNvSpPr/>
            <p:nvPr/>
          </p:nvSpPr>
          <p:spPr>
            <a:xfrm rot="8088000">
              <a:off x="4038120" y="4190760"/>
              <a:ext cx="852480" cy="852480"/>
            </a:xfrm>
            <a:custGeom>
              <a:avLst/>
              <a:gdLst>
                <a:gd name="textAreaLeft" fmla="*/ 244440 w 852480"/>
                <a:gd name="textAreaRight" fmla="*/ 730440 w 852480"/>
                <a:gd name="textAreaTop" fmla="*/ 491040 h 852480"/>
                <a:gd name="textAreaBottom" fmla="*/ 730440 h 8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3">
              <a:lum bright="12000"/>
            </a:blip>
            <a:stretch/>
          </p:blipFill>
          <p:spPr>
            <a:xfrm>
              <a:off x="4800600" y="2666880"/>
              <a:ext cx="1428840" cy="1619280"/>
            </a:xfrm>
            <a:prstGeom prst="rect">
              <a:avLst/>
            </a:prstGeom>
            <a:ln w="57240">
              <a:solidFill>
                <a:srgbClr val="a50021"/>
              </a:solidFill>
              <a:miter/>
            </a:ln>
          </p:spPr>
        </p:pic>
        <p:pic>
          <p:nvPicPr>
            <p:cNvPr id="165" name="" descr=""/>
            <p:cNvPicPr/>
            <p:nvPr/>
          </p:nvPicPr>
          <p:blipFill>
            <a:blip r:embed="rId4"/>
            <a:stretch/>
          </p:blipFill>
          <p:spPr>
            <a:xfrm>
              <a:off x="5048280" y="4495680"/>
              <a:ext cx="819000" cy="6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5317200" y="3809880"/>
              <a:ext cx="7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бог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62880" y="5070600"/>
              <a:ext cx="10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живо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6490440" y="4206960"/>
            <a:ext cx="242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е и всё в ми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ертвуют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36080" y="2860560"/>
            <a:ext cx="757656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 мире действует универсальный космический зак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98760" y="3546360"/>
            <a:ext cx="8035560" cy="11912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селенная заселена людьми и духами(душами), поэтом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можно просить у деревьев,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рек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,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 приказывать чему-то 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если знаешь как это сдела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Легенда о происхождении кас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066680" y="1771560"/>
            <a:ext cx="3276720" cy="41148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800600" y="1771560"/>
            <a:ext cx="403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1bd69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1bd6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3048120"/>
            <a:ext cx="609840" cy="380880"/>
          </a:xfrm>
          <a:custGeom>
            <a:avLst/>
            <a:gdLst>
              <a:gd name="textAreaLeft" fmla="*/ 138960 w 609840"/>
              <a:gd name="textAreaRight" fmla="*/ 470880 w 609840"/>
              <a:gd name="textAreaTop" fmla="*/ 86760 h 380880"/>
              <a:gd name="textAreaBottom" fmla="*/ 294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Cyr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3581280"/>
            <a:ext cx="685800" cy="533520"/>
          </a:xfrm>
          <a:custGeom>
            <a:avLst/>
            <a:gdLst>
              <a:gd name="textAreaLeft" fmla="*/ 156600 w 685800"/>
              <a:gd name="textAreaRight" fmla="*/ 529200 w 68580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Cyr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4876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 Cyr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5257800"/>
            <a:ext cx="609840" cy="457200"/>
          </a:xfrm>
          <a:custGeom>
            <a:avLst/>
            <a:gdLst>
              <a:gd name="textAreaLeft" fmla="*/ 138960 w 609840"/>
              <a:gd name="textAreaRight" fmla="*/ 470880 w 60984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Cyr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67080" y="19810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1.Уста-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рахма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67080" y="31240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2.Руки-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и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91120" y="419112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3.Бедра-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емледельц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67080" y="52578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4.Ступни-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луг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76320"/>
            <a:ext cx="7772400" cy="43812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cc00"/>
                </a:solidFill>
                <a:uFillTx/>
                <a:latin typeface="Times New Roman"/>
              </a:rPr>
              <a:t>Древнеиндийские вед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066680" y="1771560"/>
            <a:ext cx="3810240" cy="41148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223560" y="4419720"/>
            <a:ext cx="8691480" cy="22096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a5002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Индийцы верили в то,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что человек живет 7 раз . После смерти его душа перемещается в новое тело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«…быть может тот облезлый кот был раньше попугаем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а этот милый человек был раньше добрым псом.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191e1"/>
                </a:solidFill>
                <a:latin typeface="Times New Roman"/>
              </a:rPr>
              <a:t>(В.Высоцки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6172200" y="2895480"/>
            <a:ext cx="838080" cy="10670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3886200" y="1676520"/>
            <a:ext cx="106668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7924680" y="2590920"/>
            <a:ext cx="914400" cy="1458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6"/>
          <a:stretch/>
        </p:blipFill>
        <p:spPr>
          <a:xfrm>
            <a:off x="2133720" y="2743200"/>
            <a:ext cx="666720" cy="13716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7"/>
          <a:stretch/>
        </p:blipFill>
        <p:spPr>
          <a:xfrm>
            <a:off x="3886200" y="3124080"/>
            <a:ext cx="1235160" cy="865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8"/>
          <a:stretch/>
        </p:blipFill>
        <p:spPr>
          <a:xfrm>
            <a:off x="914400" y="1600200"/>
            <a:ext cx="1676520" cy="12430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9"/>
          <a:stretch/>
        </p:blipFill>
        <p:spPr>
          <a:xfrm>
            <a:off x="6324480" y="1600200"/>
            <a:ext cx="2222640" cy="13129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819520" y="190512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29200" y="190512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14400" y="327672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327672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327672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934320" y="327672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43812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cc00"/>
                </a:solidFill>
                <a:uFillTx/>
                <a:latin typeface="Times New Roman"/>
              </a:rPr>
              <a:t>Древнеиндийские веды.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428920" y="685800"/>
            <a:ext cx="4734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сто человека в мире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500"/>
                            </p:stCondLst>
                            <p:childTnLst>
                              <p:par>
                                <p:cTn id="21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2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500"/>
                            </p:stCondLst>
                            <p:childTnLst>
                              <p:par>
                                <p:cTn id="2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500"/>
                            </p:stCondLst>
                            <p:childTnLst>
                              <p:par>
                                <p:cTn id="24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60948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Даосская школа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000080" y="1752480"/>
            <a:ext cx="3000240" cy="2136960"/>
            <a:chOff x="1000080" y="1752480"/>
            <a:chExt cx="3000240" cy="2136960"/>
          </a:xfrm>
        </p:grpSpPr>
        <p:graphicFrame>
          <p:nvGraphicFramePr>
            <p:cNvPr id="202" name=""/>
            <p:cNvGraphicFramePr/>
            <p:nvPr/>
          </p:nvGraphicFramePr>
          <p:xfrm>
            <a:off x="3095640" y="1828800"/>
            <a:ext cx="571320" cy="1028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95640" y="1828800"/>
                      <a:ext cx="571320" cy="102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4" name=""/>
            <p:cNvSpPr txBox="1"/>
            <p:nvPr/>
          </p:nvSpPr>
          <p:spPr>
            <a:xfrm>
              <a:off x="1419120" y="1752480"/>
              <a:ext cx="1446120" cy="117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инь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00080" y="3063960"/>
              <a:ext cx="3000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емное начало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ассивное ожидани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932800" y="1765440"/>
            <a:ext cx="2664720" cy="2124000"/>
            <a:chOff x="5932800" y="1765440"/>
            <a:chExt cx="2664720" cy="2124000"/>
          </a:xfrm>
        </p:grpSpPr>
        <p:graphicFrame>
          <p:nvGraphicFramePr>
            <p:cNvPr id="207" name=""/>
            <p:cNvGraphicFramePr/>
            <p:nvPr/>
          </p:nvGraphicFramePr>
          <p:xfrm>
            <a:off x="6188040" y="1889280"/>
            <a:ext cx="552600" cy="1056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88040" y="1889280"/>
                      <a:ext cx="552600" cy="105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9" name=""/>
            <p:cNvSpPr txBox="1"/>
            <p:nvPr/>
          </p:nvSpPr>
          <p:spPr>
            <a:xfrm>
              <a:off x="7102440" y="1765440"/>
              <a:ext cx="1112760" cy="1180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21304"/>
                  </a:solidFill>
                  <a:latin typeface="Arial"/>
                </a:rPr>
                <a:t>ян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21304"/>
                </a:solidFill>
                <a:latin typeface="Arial"/>
                <a:ea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32800" y="3063960"/>
              <a:ext cx="266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ветлое,активно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ачал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 txBox="1"/>
          <p:nvPr/>
        </p:nvSpPr>
        <p:spPr>
          <a:xfrm>
            <a:off x="3352680" y="914400"/>
            <a:ext cx="2886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ир расколот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014560" y="1962000"/>
            <a:ext cx="6313320" cy="2653920"/>
            <a:chOff x="2014560" y="1962000"/>
            <a:chExt cx="6313320" cy="2653920"/>
          </a:xfrm>
        </p:grpSpPr>
        <p:pic>
          <p:nvPicPr>
            <p:cNvPr id="213" name="" descr=""/>
            <p:cNvPicPr/>
            <p:nvPr/>
          </p:nvPicPr>
          <p:blipFill>
            <a:blip r:embed="rId5"/>
            <a:stretch/>
          </p:blipFill>
          <p:spPr>
            <a:xfrm>
              <a:off x="4495680" y="1962000"/>
              <a:ext cx="971640" cy="177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2014560" y="4156200"/>
              <a:ext cx="6313320" cy="459720"/>
            </a:xfrm>
            <a:prstGeom prst="rect">
              <a:avLst/>
            </a:prstGeom>
            <a:solidFill>
              <a:srgbClr val="ccecff"/>
            </a:solidFill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«Человек»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средник между землей и небо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1332360" y="4924440"/>
            <a:ext cx="740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должен следовать естественному ходу вещей(ДАО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связан с природой и сообществом люде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бессмертен душой и телом-надо выполнять особ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пражн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60948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Конфуцианство.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149480" y="990720"/>
            <a:ext cx="2468160" cy="1034280"/>
            <a:chOff x="1149480" y="990720"/>
            <a:chExt cx="2468160" cy="1034280"/>
          </a:xfrm>
        </p:grpSpPr>
        <p:sp>
          <p:nvSpPr>
            <p:cNvPr id="218" name=""/>
            <p:cNvSpPr txBox="1"/>
            <p:nvPr/>
          </p:nvSpPr>
          <p:spPr>
            <a:xfrm>
              <a:off x="1295280" y="990720"/>
              <a:ext cx="20671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0000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Конфуций</a:t>
              </a:r>
              <a:endParaRPr b="0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49480" y="1565280"/>
              <a:ext cx="246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551-479 гг.до.н.э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4215240" y="990720"/>
            <a:ext cx="444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ДЕ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чность не «для себя»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 для обще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697040" y="2133720"/>
            <a:ext cx="1727280" cy="2476440"/>
            <a:chOff x="1697040" y="2133720"/>
            <a:chExt cx="1727280" cy="2476440"/>
          </a:xfrm>
        </p:grpSpPr>
        <p:pic>
          <p:nvPicPr>
            <p:cNvPr id="222" name="" descr=""/>
            <p:cNvPicPr/>
            <p:nvPr/>
          </p:nvPicPr>
          <p:blipFill>
            <a:blip r:embed="rId3"/>
            <a:stretch/>
          </p:blipFill>
          <p:spPr>
            <a:xfrm>
              <a:off x="2205000" y="2133720"/>
              <a:ext cx="798480" cy="15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 txBox="1"/>
            <p:nvPr/>
          </p:nvSpPr>
          <p:spPr>
            <a:xfrm>
              <a:off x="1697040" y="3886200"/>
              <a:ext cx="1727280" cy="723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0000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идеал-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0000"/>
                    </a:solidFill>
                    <a:miter/>
                  </a:ln>
                  <a:blipFill rotWithShape="0">
                    <a:blip r:embed="rId6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"благородный муж"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1357200" y="4648320"/>
            <a:ext cx="2538360" cy="192276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-гуманность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-милосерди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-уваж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к старшим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-помощь други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029200" y="1981080"/>
            <a:ext cx="28954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ccec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идеальное </a:t>
            </a:r>
            <a:endParaRPr b="1" lang="en-US" sz="2400" spc="1" strike="noStrike">
              <a:ln w="9360">
                <a:solidFill>
                  <a:srgbClr val="333399"/>
                </a:solidFill>
                <a:miter/>
              </a:ln>
              <a:solidFill>
                <a:srgbClr val="ccec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ccec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государственное</a:t>
            </a:r>
            <a:endParaRPr b="1" lang="en-US" sz="2400" spc="1" strike="noStrike">
              <a:ln w="9360">
                <a:solidFill>
                  <a:srgbClr val="333399"/>
                </a:solidFill>
                <a:miter/>
              </a:ln>
              <a:solidFill>
                <a:srgbClr val="ccec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ccec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устройство</a:t>
            </a:r>
            <a:endParaRPr b="1" lang="en-US" sz="2400" spc="1" strike="noStrike">
              <a:ln w="9360">
                <a:solidFill>
                  <a:srgbClr val="333399"/>
                </a:solidFill>
                <a:miter/>
              </a:ln>
              <a:solidFill>
                <a:srgbClr val="ccec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52000" y="3581280"/>
            <a:ext cx="3574800" cy="3020040"/>
          </a:xfrm>
          <a:prstGeom prst="rect">
            <a:avLst/>
          </a:prstGeom>
          <a:solidFill>
            <a:srgbClr val="cce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Общество=государств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государство-семь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император-сын неб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ец народ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рядом с ним- «жу»-уче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ые и философ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государство регулиру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тся мораль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160" y="76320"/>
            <a:ext cx="8458200" cy="45720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Платон и Аристотель об обществе и государстве.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700080" y="641520"/>
            <a:ext cx="50803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Государство обеспечивает защит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населения от врагов и поддержива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ет порядок внутри стра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00440" y="2022480"/>
            <a:ext cx="5103360" cy="1557000"/>
          </a:xfrm>
          <a:prstGeom prst="rect">
            <a:avLst/>
          </a:prstGeom>
          <a:solidFill>
            <a:srgbClr val="ffffcc"/>
          </a:solidFill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о главе государства должны сто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ять справедливые муж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Справедливость - основа идеально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го государ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99360" y="3770280"/>
            <a:ext cx="507888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Идеальное должно быть подчине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сеобщему.Человек живет ради го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судар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699720" y="5153040"/>
            <a:ext cx="5052960" cy="1557000"/>
          </a:xfrm>
          <a:prstGeom prst="rect">
            <a:avLst/>
          </a:prstGeom>
          <a:solidFill>
            <a:srgbClr val="ffffcc"/>
          </a:solidFill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Три группы людей-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мудрецы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-пра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ители,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оины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-защита государств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народ-производит материаль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бла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137240" y="3124080"/>
            <a:ext cx="2190960" cy="1145520"/>
            <a:chOff x="1137240" y="3124080"/>
            <a:chExt cx="2190960" cy="1145520"/>
          </a:xfrm>
        </p:grpSpPr>
        <p:sp>
          <p:nvSpPr>
            <p:cNvPr id="233" name=""/>
            <p:cNvSpPr txBox="1"/>
            <p:nvPr/>
          </p:nvSpPr>
          <p:spPr>
            <a:xfrm>
              <a:off x="1371600" y="3124080"/>
              <a:ext cx="165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a50021"/>
                    </a:solidFill>
                    <a:miter/>
                  </a:ln>
                  <a:gradFill rotWithShape="0">
                    <a:gsLst>
                      <a:gs pos="0">
                        <a:srgbClr val="755e00"/>
                      </a:gs>
                      <a:gs pos="50000">
                        <a:srgbClr val="ffcc00"/>
                      </a:gs>
                      <a:gs pos="100000">
                        <a:srgbClr val="755e00"/>
                      </a:gs>
                    </a:gsLst>
                    <a:lin ang="5400000"/>
                  </a:gradFill>
                  <a:latin typeface="Arial"/>
                </a:rPr>
                <a:t>Платон</a:t>
              </a:r>
              <a:endParaRPr b="1" lang="en-US" sz="2400" spc="1" strike="noStrike">
                <a:ln w="936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755e00"/>
                    </a:gs>
                    <a:gs pos="50000">
                      <a:srgbClr val="ffcc00"/>
                    </a:gs>
                    <a:gs pos="100000">
                      <a:srgbClr val="755e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137240" y="3809880"/>
              <a:ext cx="21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(5-4 вв. до н.э.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20:23:50Z</dcterms:created>
  <dc:creator>elior</dc:creator>
  <dc:description/>
  <dc:language>en-US</dc:language>
  <cp:lastModifiedBy>Чернов Алексей</cp:lastModifiedBy>
  <dcterms:modified xsi:type="dcterms:W3CDTF">2002-04-14T13:59:17Z</dcterms:modified>
  <cp:revision>12</cp:revision>
  <dc:subject/>
  <dc:title>Древние мыслители  о мире и человеке.</dc:title>
</cp:coreProperties>
</file>